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6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AA5-8039-4CBF-8ECF-29393227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775-1ECD-4D9B-9802-331C908D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AC3-8B40-490E-A0C4-2FD0A9FD8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3EF-85B7-4439-BA74-AA79AD30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18C-87E4-4302-8C78-BD3E4802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9D0-4881-4175-AC00-10E527C5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AC3-4BAA-4877-AA7E-3A0E7D4B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67-08A3-4107-9495-337FF563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520-EE7F-40BF-89D6-2465CA3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3EF-25E2-4F84-BEBB-5353572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F86-4EA6-4859-AFE1-82BE142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F1C-C826-4AA4-9BF0-5694725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1B-3CEC-4B60-AD18-E3731A8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038-605D-45D7-B7D4-B0102E3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4C9-3E6B-46EF-86A0-EB49E09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BC15-41AC-4287-83F3-6C8D8FA4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1"/>
          <p:cNvSpPr/>
          <p:nvPr/>
        </p:nvSpPr>
        <p:spPr>
          <a:xfrm>
            <a:off x="380880" y="5334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混肥料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32"/>
          <p:cNvSpPr txBox="1"/>
          <p:nvPr/>
        </p:nvSpPr>
        <p:spPr>
          <a:xfrm>
            <a:off x="457200" y="1447920"/>
            <a:ext cx="8077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六章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复混肥料分析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371600" y="1371600"/>
            <a:ext cx="655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含尿素和石灰氮的肥料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氧化铝后，将三角瓶放入通风橱内，小心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浓硫酸，于瓶口插上一小漏斗，将其在电炉上加热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至浓硫酸产生大量白烟计时，保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冷却至室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5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066680" y="1371600"/>
            <a:ext cx="716292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含硝态氮但含有其他有机态氮的肥料，向已有肥料试样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2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消化触媒混合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氮混合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铝，放入通风橱内，小心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浓硫酸，于烧瓶口插上小漏斗，将三角瓶置于电炉上消煮，直至溶液透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约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min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取下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914400"/>
            <a:ext cx="830592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既含硝态氮又含有机氮的肥料，向有肥料样品的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圆底烧瓶中，加水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5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放置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min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其间缓缓转动几次，使硝态盐全部溶解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2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铬粉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.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盐酸，在室温下放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~10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将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圆底烧瓶于通风橱内预先已调节至通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~7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沸腾试验的加热装置上。加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冷却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向烧瓶中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2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消化触媒混合物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定氮混合催化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.5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氧化铝，放入通风橱内，小心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浓硫酸，于烧瓶口插上小漏斗，将圆底烧瓶置于电炉上消煮，直至溶液透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约需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60min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取下冷却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7484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1066680"/>
            <a:ext cx="7696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磷酸铵类肥料，向有肥料样品的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容量瓶中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盐酸溶液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与样品充分混匀后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9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水，将容量瓶加塞后放入振荡机内振荡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用水定容，摇匀，干过滤，弃取最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硝酸磷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同仅含硝态氮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27120" y="3808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5648400" y="3962520"/>
          <a:ext cx="34956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8400" y="3962520"/>
                    <a:ext cx="349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533520" y="1295280"/>
            <a:ext cx="82296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上述未经还原的试液用水全部转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圆底烧瓶中；经还原的直接将圆底烧瓶接入蒸馏装置上进行蒸馏，加水至总体积约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3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7-8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粒玻璃珠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在接收瓶中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0~5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硫酸标准液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~5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滴定氮混合催化剂，加水至将与二链球通道封住。安装好蒸馏装置，经过消煮或水解的样品，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2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溶液；若样品仅经过还原，则只需加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ml 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。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按蒸馏要求将样品蒸馏完全后，用标准碱滴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48080" y="6094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85800" y="1447920"/>
            <a:ext cx="78487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酸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吸取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滤液，于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圆底烧瓶中，加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5ml40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氢氧化钠进行蒸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测定样品的同时，按各种肥料的测定步骤，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876920" y="22860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76080" y="60948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5715000" y="3962520"/>
            <a:ext cx="2895120" cy="2895480"/>
            <a:chOff x="5715000" y="3962520"/>
            <a:chExt cx="2895120" cy="2895480"/>
          </a:xfrm>
        </p:grpSpPr>
        <p:graphicFrame>
          <p:nvGraphicFramePr>
            <p:cNvPr id="123" name="Object 1025"/>
            <p:cNvGraphicFramePr/>
            <p:nvPr/>
          </p:nvGraphicFramePr>
          <p:xfrm>
            <a:off x="5715000" y="3962520"/>
            <a:ext cx="248436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10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962520"/>
                      <a:ext cx="248436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1026"/>
            <p:cNvGraphicFramePr/>
            <p:nvPr/>
          </p:nvGraphicFramePr>
          <p:xfrm>
            <a:off x="7197120" y="4325400"/>
            <a:ext cx="1413000" cy="117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10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97120" y="4325400"/>
                      <a:ext cx="141300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7" name="Object 1024" descr=""/>
          <p:cNvPicPr/>
          <p:nvPr/>
        </p:nvPicPr>
        <p:blipFill>
          <a:blip r:embed="rId5"/>
          <a:stretch/>
        </p:blipFill>
        <p:spPr>
          <a:xfrm>
            <a:off x="0" y="4408560"/>
            <a:ext cx="38862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38080" y="1295280"/>
            <a:ext cx="73915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氮肥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1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876920" y="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838080" y="3814920"/>
          <a:ext cx="3648240" cy="30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14920"/>
                    <a:ext cx="364824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Oval 5"/>
          <p:cNvSpPr/>
          <p:nvPr/>
        </p:nvSpPr>
        <p:spPr>
          <a:xfrm>
            <a:off x="4562640" y="5634000"/>
            <a:ext cx="228600" cy="228600"/>
          </a:xfrm>
          <a:prstGeom prst="ellipse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6705720" y="4572000"/>
            <a:ext cx="685800" cy="6858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943600" y="5562720"/>
            <a:ext cx="380880" cy="3762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1024"/>
          <p:cNvGraphicFramePr/>
          <p:nvPr/>
        </p:nvGraphicFramePr>
        <p:xfrm>
          <a:off x="2133720" y="5181480"/>
          <a:ext cx="685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8148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025"/>
          <p:cNvGraphicFramePr/>
          <p:nvPr/>
        </p:nvGraphicFramePr>
        <p:xfrm>
          <a:off x="6553080" y="5029200"/>
          <a:ext cx="838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5029200"/>
                    <a:ext cx="838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6"/>
          <p:cNvGraphicFramePr/>
          <p:nvPr/>
        </p:nvGraphicFramePr>
        <p:xfrm>
          <a:off x="5029200" y="5638680"/>
          <a:ext cx="609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563868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1941840" y="68580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第二节 复混肥料中有效磷含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1523880"/>
            <a:ext cx="830592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钼喹啉质量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用水、中性柠檬酸铵、碱性柠檬酸铵、柠檬酸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二钠盐溶液提取复混肥料中的水溶性磷和枸溶性磷，水解提取液中的偏磷酸和多聚磷酸为正磷酸，溶液中的磷用磷钼喹啉质量法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027"/>
          <p:cNvGraphicFramePr/>
          <p:nvPr/>
        </p:nvGraphicFramePr>
        <p:xfrm>
          <a:off x="6916680" y="4191120"/>
          <a:ext cx="22273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16680" y="4191120"/>
                    <a:ext cx="2227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666880" y="1219320"/>
            <a:ext cx="556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样品先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较潮湿的复混肥料可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对于复混肥料，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浓缩法磷酸一铵、浓缩法磷酸二铵、料浆法磷酸一铵、料浆法磷酸二铵、磷酸二氢钾称取样品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磷肥称取样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均准确至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26520" y="457200"/>
            <a:ext cx="7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称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914400" y="137160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含过磷酸钙或氨化过磷酸钙的复混肥料：碾磨淋滤法提取水溶性磷，将试样置于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瓷蒸发皿中，加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碾磨，澄清后，清液倾注过滤于预先加入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硝酸溶液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容量瓶中，继续用水碾磨三次，每次用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，然后将水不溶物转移至滤纸上，并用水洗涤水不溶物，待容量瓶中溶液达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0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左右时，用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350360" y="561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、提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380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第六章   复混肥料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914400" y="190512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复混肥料中总氮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复混肥料中有效磷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三节  复混肥料中含钾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第四节  复混肥料中氯离子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Object 1024" descr=""/>
          <p:cNvPicPr/>
          <p:nvPr/>
        </p:nvPicPr>
        <p:blipFill>
          <a:blip r:embed="rId2"/>
          <a:stretch/>
        </p:blipFill>
        <p:spPr>
          <a:xfrm>
            <a:off x="0" y="106200"/>
            <a:ext cx="4038480" cy="2484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066680" y="1981080"/>
            <a:ext cx="72932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将含有水不溶物的滤纸，转移到干燥的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碱性柠檬酸铵溶液，加塞，振荡到滤纸破碎成纸浆状为止，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±1℃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水浴保温浸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h(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开始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，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后，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取出冷却至室温，水定容、摇匀、干过滤，弃取最初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滤液。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263840" y="385920"/>
            <a:ext cx="301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碱性柠檬酸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提取枸溶性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62120" y="1447920"/>
            <a:ext cx="77724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试样置于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瓷蒸发皿中，加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水碾磨，将上清液倾注过滤于预先加有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容量瓶中，继续用水碾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将水不溶物转移到滤纸上，用水洗涤水不溶物，待容量瓶中水的体积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时，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2819520" y="0"/>
            <a:ext cx="20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提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1381320" y="585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含磷酸铵的复混肥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Object 1024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2120" y="1219320"/>
            <a:ext cx="758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将含有水不溶物的滤纸转移到干燥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0.2mol/L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盖紧瓶塞，振荡到滤纸破碎呈纤维状为止；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将容量瓶置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的水浴中振荡保温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5min(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5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取出容量瓶冷却至室温，水定容、摇匀，干过滤，弃取最初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滤液。滤液为枸溶性磷供试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38680" y="533520"/>
            <a:ext cx="47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EDTA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提取枸溶性磷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533520" y="838080"/>
            <a:ext cx="81532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含重过磷酸钙、硝酸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，制备水溶性磷待测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250m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中性柠檬酸铵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下保温提取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h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水定容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只含钙镁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直接将试样于干燥的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容量瓶中，准确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浓度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的柠檬酸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。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加塞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冷却至室温，水定容、干过滤。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6848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457200" y="762120"/>
            <a:ext cx="82296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含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或重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以及少量钙镁磷肥或少量骨粉、鱼粉的复混肥料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用碾磨淋滤法置备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水溶性磷待测液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用波棒捅破含有水不溶物的滤纸，用预先加入到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中性柠檬酸铵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将水不溶物仔细冲洗到干燥的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塞上瓶塞，于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±1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水浴中保温振荡浸提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0min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人工振荡，开始时每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，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后，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取出容量瓶，将提取液过滤于另一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用水洗涤水不溶物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残渣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数次，洗涤液一并收集到该容量瓶中，冷却到室温，水定容、摇匀，为中性柠檬酸铵溶性磷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枸溶性磷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16200" y="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13400" y="-380880"/>
            <a:ext cx="8420400" cy="2103120"/>
            <a:chOff x="113400" y="-380880"/>
            <a:chExt cx="8420400" cy="2103120"/>
          </a:xfrm>
        </p:grpSpPr>
        <p:sp>
          <p:nvSpPr>
            <p:cNvPr id="181" name="Freeform 3"/>
            <p:cNvSpPr/>
            <p:nvPr/>
          </p:nvSpPr>
          <p:spPr>
            <a:xfrm>
              <a:off x="5805360" y="71280"/>
              <a:ext cx="1984680" cy="81144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6998760" y="444600"/>
              <a:ext cx="276840" cy="3967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6227280" y="525600"/>
              <a:ext cx="568800" cy="1936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6075720" y="88920"/>
              <a:ext cx="344160" cy="388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6910560" y="201600"/>
              <a:ext cx="464760" cy="2174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6984360" y="395280"/>
              <a:ext cx="672120" cy="2034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7332480" y="639720"/>
              <a:ext cx="457920" cy="2365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7038000" y="460440"/>
              <a:ext cx="302400" cy="4046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6979680" y="444600"/>
              <a:ext cx="271800" cy="39528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6644520" y="407880"/>
              <a:ext cx="369720" cy="5724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6136560" y="479520"/>
              <a:ext cx="659160" cy="21744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5863680" y="453960"/>
              <a:ext cx="317880" cy="1382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6093360" y="88920"/>
              <a:ext cx="408240" cy="3841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6075720" y="162000"/>
              <a:ext cx="285840" cy="208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7018560" y="71280"/>
              <a:ext cx="434160" cy="28584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7206840" y="420840"/>
              <a:ext cx="298080" cy="1778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7483320" y="374760"/>
              <a:ext cx="252720" cy="261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7496640" y="709560"/>
              <a:ext cx="170640" cy="1256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6398280" y="357120"/>
              <a:ext cx="289080" cy="2062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6084360" y="374760"/>
              <a:ext cx="168480" cy="10800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7526520" y="728640"/>
              <a:ext cx="127800" cy="88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6413040" y="379440"/>
              <a:ext cx="250920" cy="17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6101640" y="382680"/>
              <a:ext cx="129600" cy="85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7541640" y="730440"/>
              <a:ext cx="73440" cy="489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7593840" y="7812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8"/>
            <p:cNvSpPr/>
            <p:nvPr/>
          </p:nvSpPr>
          <p:spPr>
            <a:xfrm>
              <a:off x="6493320" y="379440"/>
              <a:ext cx="84240" cy="46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9"/>
            <p:cNvSpPr/>
            <p:nvPr/>
          </p:nvSpPr>
          <p:spPr>
            <a:xfrm>
              <a:off x="6575400" y="465120"/>
              <a:ext cx="42840" cy="446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0"/>
            <p:cNvSpPr/>
            <p:nvPr/>
          </p:nvSpPr>
          <p:spPr>
            <a:xfrm>
              <a:off x="6458400" y="50328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1"/>
            <p:cNvSpPr/>
            <p:nvPr/>
          </p:nvSpPr>
          <p:spPr>
            <a:xfrm>
              <a:off x="6437160" y="460440"/>
              <a:ext cx="58320" cy="42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2"/>
            <p:cNvSpPr/>
            <p:nvPr/>
          </p:nvSpPr>
          <p:spPr>
            <a:xfrm>
              <a:off x="6512400" y="431640"/>
              <a:ext cx="49680" cy="176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3"/>
            <p:cNvSpPr/>
            <p:nvPr/>
          </p:nvSpPr>
          <p:spPr>
            <a:xfrm>
              <a:off x="6140880" y="39672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"/>
            <p:cNvSpPr/>
            <p:nvPr/>
          </p:nvSpPr>
          <p:spPr>
            <a:xfrm>
              <a:off x="6130080" y="390600"/>
              <a:ext cx="25920" cy="23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5"/>
            <p:cNvSpPr/>
            <p:nvPr/>
          </p:nvSpPr>
          <p:spPr>
            <a:xfrm>
              <a:off x="7317000" y="577800"/>
              <a:ext cx="1216800" cy="9939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6"/>
            <p:cNvSpPr/>
            <p:nvPr/>
          </p:nvSpPr>
          <p:spPr>
            <a:xfrm>
              <a:off x="8058600" y="1227240"/>
              <a:ext cx="341640" cy="2919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7"/>
            <p:cNvSpPr/>
            <p:nvPr/>
          </p:nvSpPr>
          <p:spPr>
            <a:xfrm>
              <a:off x="8082720" y="1211400"/>
              <a:ext cx="384840" cy="2872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8"/>
            <p:cNvSpPr/>
            <p:nvPr/>
          </p:nvSpPr>
          <p:spPr>
            <a:xfrm>
              <a:off x="7678080" y="1033560"/>
              <a:ext cx="369720" cy="4204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>
              <a:off x="7958880" y="878040"/>
              <a:ext cx="540720" cy="28080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0"/>
            <p:cNvSpPr/>
            <p:nvPr/>
          </p:nvSpPr>
          <p:spPr>
            <a:xfrm>
              <a:off x="7468200" y="608040"/>
              <a:ext cx="436680" cy="2635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1"/>
            <p:cNvSpPr/>
            <p:nvPr/>
          </p:nvSpPr>
          <p:spPr>
            <a:xfrm>
              <a:off x="7991280" y="1143000"/>
              <a:ext cx="475920" cy="3556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2"/>
            <p:cNvSpPr/>
            <p:nvPr/>
          </p:nvSpPr>
          <p:spPr>
            <a:xfrm>
              <a:off x="7678080" y="1073160"/>
              <a:ext cx="304920" cy="3445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43"/>
            <p:cNvSpPr/>
            <p:nvPr/>
          </p:nvSpPr>
          <p:spPr>
            <a:xfrm>
              <a:off x="7943760" y="922320"/>
              <a:ext cx="482400" cy="1843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44"/>
            <p:cNvSpPr/>
            <p:nvPr/>
          </p:nvSpPr>
          <p:spPr>
            <a:xfrm>
              <a:off x="7820640" y="777960"/>
              <a:ext cx="194400" cy="14436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5"/>
            <p:cNvSpPr/>
            <p:nvPr/>
          </p:nvSpPr>
          <p:spPr>
            <a:xfrm>
              <a:off x="7630560" y="784080"/>
              <a:ext cx="181080" cy="136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6"/>
            <p:cNvSpPr/>
            <p:nvPr/>
          </p:nvSpPr>
          <p:spPr>
            <a:xfrm>
              <a:off x="7842240" y="1033560"/>
              <a:ext cx="174960" cy="1206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7862040" y="808200"/>
              <a:ext cx="127440" cy="90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7665480" y="814320"/>
              <a:ext cx="122760" cy="874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7862040" y="1047600"/>
              <a:ext cx="125280" cy="88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7937280" y="853920"/>
              <a:ext cx="32040" cy="255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7842240" y="792000"/>
              <a:ext cx="146880" cy="1144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7654680" y="784080"/>
              <a:ext cx="153360" cy="111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7863840" y="107784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54"/>
            <p:cNvSpPr/>
            <p:nvPr/>
          </p:nvSpPr>
          <p:spPr>
            <a:xfrm>
              <a:off x="7913880" y="106524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4393800" y="47520"/>
              <a:ext cx="1788120" cy="774720"/>
            </a:xfrm>
            <a:custGeom>
              <a:avLst/>
              <a:gdLst>
                <a:gd name="textAreaLeft" fmla="*/ 0 w 1788120"/>
                <a:gd name="textAreaRight" fmla="*/ 1788480 w 17881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56"/>
            <p:cNvSpPr/>
            <p:nvPr/>
          </p:nvSpPr>
          <p:spPr>
            <a:xfrm>
              <a:off x="5589360" y="201600"/>
              <a:ext cx="519120" cy="1872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>
              <a:off x="5608800" y="290520"/>
              <a:ext cx="573120" cy="15228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58"/>
            <p:cNvSpPr/>
            <p:nvPr/>
          </p:nvSpPr>
          <p:spPr>
            <a:xfrm>
              <a:off x="5293080" y="49320"/>
              <a:ext cx="315720" cy="4604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59"/>
            <p:cNvSpPr/>
            <p:nvPr/>
          </p:nvSpPr>
          <p:spPr>
            <a:xfrm>
              <a:off x="5299560" y="528480"/>
              <a:ext cx="633240" cy="25272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60"/>
            <p:cNvSpPr/>
            <p:nvPr/>
          </p:nvSpPr>
          <p:spPr>
            <a:xfrm>
              <a:off x="4560120" y="662040"/>
              <a:ext cx="609840" cy="1126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61"/>
            <p:cNvSpPr/>
            <p:nvPr/>
          </p:nvSpPr>
          <p:spPr>
            <a:xfrm>
              <a:off x="5461560" y="281160"/>
              <a:ext cx="720000" cy="1602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62"/>
            <p:cNvSpPr/>
            <p:nvPr/>
          </p:nvSpPr>
          <p:spPr>
            <a:xfrm>
              <a:off x="5293080" y="112680"/>
              <a:ext cx="259200" cy="3542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63"/>
            <p:cNvSpPr/>
            <p:nvPr/>
          </p:nvSpPr>
          <p:spPr>
            <a:xfrm>
              <a:off x="5267160" y="595440"/>
              <a:ext cx="579240" cy="15228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64"/>
            <p:cNvSpPr/>
            <p:nvPr/>
          </p:nvSpPr>
          <p:spPr>
            <a:xfrm>
              <a:off x="5098320" y="630360"/>
              <a:ext cx="211680" cy="1537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65"/>
            <p:cNvSpPr/>
            <p:nvPr/>
          </p:nvSpPr>
          <p:spPr>
            <a:xfrm>
              <a:off x="4815360" y="777960"/>
              <a:ext cx="211680" cy="1476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66"/>
            <p:cNvSpPr/>
            <p:nvPr/>
          </p:nvSpPr>
          <p:spPr>
            <a:xfrm>
              <a:off x="4875840" y="549360"/>
              <a:ext cx="211680" cy="149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>
              <a:off x="5118120" y="657360"/>
              <a:ext cx="153360" cy="1062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>
              <a:off x="4841280" y="792000"/>
              <a:ext cx="144360" cy="109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>
              <a:off x="4901760" y="565200"/>
              <a:ext cx="142560" cy="111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70"/>
            <p:cNvSpPr/>
            <p:nvPr/>
          </p:nvSpPr>
          <p:spPr>
            <a:xfrm>
              <a:off x="5137560" y="690480"/>
              <a:ext cx="36720" cy="28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71"/>
            <p:cNvSpPr/>
            <p:nvPr/>
          </p:nvSpPr>
          <p:spPr>
            <a:xfrm>
              <a:off x="5118120" y="646200"/>
              <a:ext cx="170640" cy="1238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72"/>
            <p:cNvSpPr/>
            <p:nvPr/>
          </p:nvSpPr>
          <p:spPr>
            <a:xfrm>
              <a:off x="4841280" y="789120"/>
              <a:ext cx="159840" cy="11268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73"/>
            <p:cNvSpPr/>
            <p:nvPr/>
          </p:nvSpPr>
          <p:spPr>
            <a:xfrm>
              <a:off x="4899600" y="560520"/>
              <a:ext cx="161640" cy="115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74"/>
            <p:cNvSpPr/>
            <p:nvPr/>
          </p:nvSpPr>
          <p:spPr>
            <a:xfrm>
              <a:off x="2938320" y="0"/>
              <a:ext cx="1770840" cy="1019160"/>
            </a:xfrm>
            <a:custGeom>
              <a:avLst/>
              <a:gdLst>
                <a:gd name="textAreaLeft" fmla="*/ 0 w 1770840"/>
                <a:gd name="textAreaRight" fmla="*/ 1771200 w 177084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818520" y="0"/>
              <a:ext cx="248400" cy="4143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4056480" y="566640"/>
              <a:ext cx="265680" cy="452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77"/>
            <p:cNvSpPr/>
            <p:nvPr/>
          </p:nvSpPr>
          <p:spPr>
            <a:xfrm>
              <a:off x="4112280" y="539640"/>
              <a:ext cx="542520" cy="26208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78"/>
            <p:cNvSpPr/>
            <p:nvPr/>
          </p:nvSpPr>
          <p:spPr>
            <a:xfrm>
              <a:off x="3669120" y="487440"/>
              <a:ext cx="56160" cy="3603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9"/>
            <p:cNvSpPr/>
            <p:nvPr/>
          </p:nvSpPr>
          <p:spPr>
            <a:xfrm>
              <a:off x="3701880" y="533520"/>
              <a:ext cx="101160" cy="264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80"/>
            <p:cNvSpPr/>
            <p:nvPr/>
          </p:nvSpPr>
          <p:spPr>
            <a:xfrm>
              <a:off x="4036680" y="285840"/>
              <a:ext cx="248400" cy="17280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81"/>
            <p:cNvSpPr/>
            <p:nvPr/>
          </p:nvSpPr>
          <p:spPr>
            <a:xfrm>
              <a:off x="4079880" y="623880"/>
              <a:ext cx="142560" cy="247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82"/>
            <p:cNvSpPr/>
            <p:nvPr/>
          </p:nvSpPr>
          <p:spPr>
            <a:xfrm>
              <a:off x="4056480" y="566640"/>
              <a:ext cx="304920" cy="387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83"/>
            <p:cNvSpPr/>
            <p:nvPr/>
          </p:nvSpPr>
          <p:spPr>
            <a:xfrm>
              <a:off x="4179600" y="565200"/>
              <a:ext cx="445680" cy="2030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84"/>
            <p:cNvSpPr/>
            <p:nvPr/>
          </p:nvSpPr>
          <p:spPr>
            <a:xfrm>
              <a:off x="4188240" y="484200"/>
              <a:ext cx="520920" cy="284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85"/>
            <p:cNvSpPr/>
            <p:nvPr/>
          </p:nvSpPr>
          <p:spPr>
            <a:xfrm>
              <a:off x="3571920" y="534960"/>
              <a:ext cx="116640" cy="227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86"/>
            <p:cNvSpPr/>
            <p:nvPr/>
          </p:nvSpPr>
          <p:spPr>
            <a:xfrm>
              <a:off x="3771000" y="0"/>
              <a:ext cx="341280" cy="442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87"/>
            <p:cNvSpPr/>
            <p:nvPr/>
          </p:nvSpPr>
          <p:spPr>
            <a:xfrm>
              <a:off x="3122280" y="452520"/>
              <a:ext cx="386640" cy="6660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88"/>
            <p:cNvSpPr/>
            <p:nvPr/>
          </p:nvSpPr>
          <p:spPr>
            <a:xfrm>
              <a:off x="3792600" y="482760"/>
              <a:ext cx="187560" cy="239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89"/>
            <p:cNvSpPr/>
            <p:nvPr/>
          </p:nvSpPr>
          <p:spPr>
            <a:xfrm>
              <a:off x="3493800" y="324000"/>
              <a:ext cx="241920" cy="2300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90"/>
            <p:cNvSpPr/>
            <p:nvPr/>
          </p:nvSpPr>
          <p:spPr>
            <a:xfrm>
              <a:off x="3822840" y="603360"/>
              <a:ext cx="133560" cy="106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91"/>
            <p:cNvSpPr/>
            <p:nvPr/>
          </p:nvSpPr>
          <p:spPr>
            <a:xfrm>
              <a:off x="3818520" y="498600"/>
              <a:ext cx="140040" cy="950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92"/>
            <p:cNvSpPr/>
            <p:nvPr/>
          </p:nvSpPr>
          <p:spPr>
            <a:xfrm>
              <a:off x="3513600" y="436680"/>
              <a:ext cx="140400" cy="102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93"/>
            <p:cNvSpPr/>
            <p:nvPr/>
          </p:nvSpPr>
          <p:spPr>
            <a:xfrm>
              <a:off x="3576240" y="345960"/>
              <a:ext cx="140040" cy="907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94"/>
            <p:cNvSpPr/>
            <p:nvPr/>
          </p:nvSpPr>
          <p:spPr>
            <a:xfrm>
              <a:off x="3820680" y="628560"/>
              <a:ext cx="77760" cy="55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95"/>
            <p:cNvSpPr/>
            <p:nvPr/>
          </p:nvSpPr>
          <p:spPr>
            <a:xfrm>
              <a:off x="3816000" y="52848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96"/>
            <p:cNvSpPr/>
            <p:nvPr/>
          </p:nvSpPr>
          <p:spPr>
            <a:xfrm>
              <a:off x="3915720" y="633600"/>
              <a:ext cx="19440" cy="316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97"/>
            <p:cNvSpPr/>
            <p:nvPr/>
          </p:nvSpPr>
          <p:spPr>
            <a:xfrm>
              <a:off x="3900600" y="50976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8"/>
            <p:cNvSpPr/>
            <p:nvPr/>
          </p:nvSpPr>
          <p:spPr>
            <a:xfrm>
              <a:off x="3515400" y="45396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99"/>
            <p:cNvSpPr/>
            <p:nvPr/>
          </p:nvSpPr>
          <p:spPr>
            <a:xfrm>
              <a:off x="3576240" y="36036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00"/>
            <p:cNvSpPr/>
            <p:nvPr/>
          </p:nvSpPr>
          <p:spPr>
            <a:xfrm>
              <a:off x="3608640" y="477720"/>
              <a:ext cx="21240" cy="28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01"/>
            <p:cNvSpPr/>
            <p:nvPr/>
          </p:nvSpPr>
          <p:spPr>
            <a:xfrm>
              <a:off x="3666960" y="360360"/>
              <a:ext cx="27720" cy="475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02"/>
            <p:cNvSpPr/>
            <p:nvPr/>
          </p:nvSpPr>
          <p:spPr>
            <a:xfrm>
              <a:off x="1749240" y="219240"/>
              <a:ext cx="1701360" cy="70632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03"/>
            <p:cNvSpPr/>
            <p:nvPr/>
          </p:nvSpPr>
          <p:spPr>
            <a:xfrm>
              <a:off x="2905920" y="447840"/>
              <a:ext cx="488160" cy="11880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04"/>
            <p:cNvSpPr/>
            <p:nvPr/>
          </p:nvSpPr>
          <p:spPr>
            <a:xfrm>
              <a:off x="2914200" y="550800"/>
              <a:ext cx="536400" cy="986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05"/>
            <p:cNvSpPr/>
            <p:nvPr/>
          </p:nvSpPr>
          <p:spPr>
            <a:xfrm>
              <a:off x="2601000" y="219240"/>
              <a:ext cx="384840" cy="39024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06"/>
            <p:cNvSpPr/>
            <p:nvPr/>
          </p:nvSpPr>
          <p:spPr>
            <a:xfrm>
              <a:off x="2568600" y="649440"/>
              <a:ext cx="520920" cy="230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07"/>
            <p:cNvSpPr/>
            <p:nvPr/>
          </p:nvSpPr>
          <p:spPr>
            <a:xfrm>
              <a:off x="1878840" y="619200"/>
              <a:ext cx="555840" cy="1000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08"/>
            <p:cNvSpPr/>
            <p:nvPr/>
          </p:nvSpPr>
          <p:spPr>
            <a:xfrm>
              <a:off x="2774160" y="523800"/>
              <a:ext cx="676440" cy="87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09"/>
            <p:cNvSpPr/>
            <p:nvPr/>
          </p:nvSpPr>
          <p:spPr>
            <a:xfrm>
              <a:off x="2637720" y="276120"/>
              <a:ext cx="311040" cy="279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10"/>
            <p:cNvSpPr/>
            <p:nvPr/>
          </p:nvSpPr>
          <p:spPr>
            <a:xfrm>
              <a:off x="2536200" y="658800"/>
              <a:ext cx="484200" cy="2062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11"/>
            <p:cNvSpPr/>
            <p:nvPr/>
          </p:nvSpPr>
          <p:spPr>
            <a:xfrm>
              <a:off x="2324520" y="641520"/>
              <a:ext cx="194040" cy="137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12"/>
            <p:cNvSpPr/>
            <p:nvPr/>
          </p:nvSpPr>
          <p:spPr>
            <a:xfrm>
              <a:off x="2203200" y="531720"/>
              <a:ext cx="191880" cy="135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13"/>
            <p:cNvSpPr/>
            <p:nvPr/>
          </p:nvSpPr>
          <p:spPr>
            <a:xfrm>
              <a:off x="2592360" y="498600"/>
              <a:ext cx="175320" cy="1238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14"/>
            <p:cNvSpPr/>
            <p:nvPr/>
          </p:nvSpPr>
          <p:spPr>
            <a:xfrm>
              <a:off x="2372040" y="666720"/>
              <a:ext cx="129240" cy="88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15"/>
            <p:cNvSpPr/>
            <p:nvPr/>
          </p:nvSpPr>
          <p:spPr>
            <a:xfrm>
              <a:off x="2252880" y="552600"/>
              <a:ext cx="118800" cy="87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16"/>
            <p:cNvSpPr/>
            <p:nvPr/>
          </p:nvSpPr>
          <p:spPr>
            <a:xfrm>
              <a:off x="2616120" y="515880"/>
              <a:ext cx="122760" cy="84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17"/>
            <p:cNvSpPr/>
            <p:nvPr/>
          </p:nvSpPr>
          <p:spPr>
            <a:xfrm>
              <a:off x="2449440" y="7063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18"/>
            <p:cNvSpPr/>
            <p:nvPr/>
          </p:nvSpPr>
          <p:spPr>
            <a:xfrm>
              <a:off x="2346120" y="654120"/>
              <a:ext cx="155160" cy="1112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19"/>
            <p:cNvSpPr/>
            <p:nvPr/>
          </p:nvSpPr>
          <p:spPr>
            <a:xfrm>
              <a:off x="2216160" y="552600"/>
              <a:ext cx="157680" cy="114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20"/>
            <p:cNvSpPr/>
            <p:nvPr/>
          </p:nvSpPr>
          <p:spPr>
            <a:xfrm>
              <a:off x="2637720" y="514440"/>
              <a:ext cx="69120" cy="442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21"/>
            <p:cNvSpPr/>
            <p:nvPr/>
          </p:nvSpPr>
          <p:spPr>
            <a:xfrm>
              <a:off x="2646720" y="565200"/>
              <a:ext cx="66600" cy="20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22"/>
            <p:cNvSpPr/>
            <p:nvPr/>
          </p:nvSpPr>
          <p:spPr>
            <a:xfrm rot="2370000">
              <a:off x="304560" y="47520"/>
              <a:ext cx="1794600" cy="1246320"/>
            </a:xfrm>
            <a:custGeom>
              <a:avLst/>
              <a:gdLst>
                <a:gd name="textAreaLeft" fmla="*/ 0 w 1794600"/>
                <a:gd name="textAreaRight" fmla="*/ 1794960 w 1794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23"/>
            <p:cNvSpPr/>
            <p:nvPr/>
          </p:nvSpPr>
          <p:spPr>
            <a:xfrm>
              <a:off x="1494000" y="363600"/>
              <a:ext cx="581400" cy="35712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24"/>
            <p:cNvSpPr/>
            <p:nvPr/>
          </p:nvSpPr>
          <p:spPr>
            <a:xfrm>
              <a:off x="1467720" y="590400"/>
              <a:ext cx="272520" cy="2779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25"/>
            <p:cNvSpPr/>
            <p:nvPr/>
          </p:nvSpPr>
          <p:spPr>
            <a:xfrm>
              <a:off x="1431000" y="412920"/>
              <a:ext cx="605520" cy="23472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6"/>
            <p:cNvGrpSpPr/>
            <p:nvPr/>
          </p:nvGrpSpPr>
          <p:grpSpPr>
            <a:xfrm>
              <a:off x="288360" y="237960"/>
              <a:ext cx="1364040" cy="1053000"/>
              <a:chOff x="288360" y="237960"/>
              <a:chExt cx="1364040" cy="1053000"/>
            </a:xfrm>
          </p:grpSpPr>
          <p:sp>
            <p:nvSpPr>
              <p:cNvPr id="305" name="Freeform 127"/>
              <p:cNvSpPr/>
              <p:nvPr/>
            </p:nvSpPr>
            <p:spPr>
              <a:xfrm rot="2533800">
                <a:off x="567000" y="770400"/>
                <a:ext cx="64440" cy="4143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28"/>
              <p:cNvSpPr/>
              <p:nvPr/>
            </p:nvSpPr>
            <p:spPr>
              <a:xfrm rot="2533800">
                <a:off x="1369440" y="813600"/>
                <a:ext cx="81720" cy="921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29"/>
              <p:cNvSpPr/>
              <p:nvPr/>
            </p:nvSpPr>
            <p:spPr>
              <a:xfrm rot="2533800">
                <a:off x="1314360" y="1091520"/>
                <a:ext cx="190080" cy="1555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30"/>
              <p:cNvSpPr/>
              <p:nvPr/>
            </p:nvSpPr>
            <p:spPr>
              <a:xfrm rot="2533800">
                <a:off x="1365120" y="937800"/>
                <a:ext cx="60480" cy="874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31"/>
              <p:cNvSpPr/>
              <p:nvPr/>
            </p:nvSpPr>
            <p:spPr>
              <a:xfrm rot="2533800">
                <a:off x="1113120" y="700920"/>
                <a:ext cx="473400" cy="1173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32"/>
              <p:cNvSpPr/>
              <p:nvPr/>
            </p:nvSpPr>
            <p:spPr>
              <a:xfrm rot="2533800">
                <a:off x="1009080" y="714240"/>
                <a:ext cx="466560" cy="247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33"/>
              <p:cNvSpPr/>
              <p:nvPr/>
            </p:nvSpPr>
            <p:spPr>
              <a:xfrm rot="2533800">
                <a:off x="523800" y="709920"/>
                <a:ext cx="191880" cy="14616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34"/>
              <p:cNvSpPr/>
              <p:nvPr/>
            </p:nvSpPr>
            <p:spPr>
              <a:xfrm rot="2533800">
                <a:off x="306360" y="539640"/>
                <a:ext cx="257040" cy="15372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35"/>
              <p:cNvSpPr/>
              <p:nvPr/>
            </p:nvSpPr>
            <p:spPr>
              <a:xfrm rot="2533800">
                <a:off x="361440" y="527400"/>
                <a:ext cx="430200" cy="12384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23840"/>
                  <a:gd name="textAreaBottom" fmla="*/ 123840 h 123840"/>
                </a:gdLst>
                <a:ahLst/>
                <a:rect l="textAreaLeft" t="textAreaTop" r="textAreaRight" b="textAreaBottom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36"/>
              <p:cNvSpPr/>
              <p:nvPr/>
            </p:nvSpPr>
            <p:spPr>
              <a:xfrm rot="2533800">
                <a:off x="1184400" y="284400"/>
                <a:ext cx="155160" cy="2030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7"/>
              <p:cNvSpPr/>
              <p:nvPr/>
            </p:nvSpPr>
            <p:spPr>
              <a:xfrm rot="2533800">
                <a:off x="1072080" y="435240"/>
                <a:ext cx="105840" cy="1098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38"/>
              <p:cNvSpPr/>
              <p:nvPr/>
            </p:nvSpPr>
            <p:spPr>
              <a:xfrm rot="2533800">
                <a:off x="1209240" y="363600"/>
                <a:ext cx="146880" cy="3524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39"/>
              <p:cNvSpPr/>
              <p:nvPr/>
            </p:nvSpPr>
            <p:spPr>
              <a:xfrm rot="2533800">
                <a:off x="1297440" y="905760"/>
                <a:ext cx="278640" cy="33480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40"/>
              <p:cNvSpPr/>
              <p:nvPr/>
            </p:nvSpPr>
            <p:spPr>
              <a:xfrm rot="2533800">
                <a:off x="1005840" y="785520"/>
                <a:ext cx="425880" cy="166680"/>
              </a:xfrm>
              <a:custGeom>
                <a:avLst/>
                <a:gdLst>
                  <a:gd name="textAreaLeft" fmla="*/ 0 w 425880"/>
                  <a:gd name="textAreaRight" fmla="*/ 426240 w 425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41"/>
              <p:cNvSpPr/>
              <p:nvPr/>
            </p:nvSpPr>
            <p:spPr>
              <a:xfrm rot="2533800">
                <a:off x="287640" y="594000"/>
                <a:ext cx="430200" cy="15408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42"/>
              <p:cNvSpPr/>
              <p:nvPr/>
            </p:nvSpPr>
            <p:spPr>
              <a:xfrm rot="2533800">
                <a:off x="1096560" y="289440"/>
                <a:ext cx="320040" cy="4302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43"/>
              <p:cNvSpPr/>
              <p:nvPr/>
            </p:nvSpPr>
            <p:spPr>
              <a:xfrm rot="2533800">
                <a:off x="696960" y="614880"/>
                <a:ext cx="315360" cy="24624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44"/>
              <p:cNvSpPr/>
              <p:nvPr/>
            </p:nvSpPr>
            <p:spPr>
              <a:xfrm rot="2533800">
                <a:off x="577440" y="573480"/>
                <a:ext cx="174960" cy="1270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45"/>
              <p:cNvSpPr/>
              <p:nvPr/>
            </p:nvSpPr>
            <p:spPr>
              <a:xfrm rot="2533800">
                <a:off x="629640" y="617760"/>
                <a:ext cx="82080" cy="666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46"/>
              <p:cNvSpPr/>
              <p:nvPr/>
            </p:nvSpPr>
            <p:spPr>
              <a:xfrm rot="2533800">
                <a:off x="746640" y="599760"/>
                <a:ext cx="144360" cy="114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47"/>
              <p:cNvSpPr/>
              <p:nvPr/>
            </p:nvSpPr>
            <p:spPr>
              <a:xfrm rot="2533800">
                <a:off x="882720" y="690840"/>
                <a:ext cx="131760" cy="96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48"/>
              <p:cNvSpPr/>
              <p:nvPr/>
            </p:nvSpPr>
            <p:spPr>
              <a:xfrm rot="2533800">
                <a:off x="777240" y="756000"/>
                <a:ext cx="133560" cy="10296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49"/>
              <p:cNvSpPr/>
              <p:nvPr/>
            </p:nvSpPr>
            <p:spPr>
              <a:xfrm rot="2533800">
                <a:off x="604800" y="578880"/>
                <a:ext cx="120960" cy="93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50"/>
              <p:cNvSpPr/>
              <p:nvPr/>
            </p:nvSpPr>
            <p:spPr>
              <a:xfrm rot="2533800">
                <a:off x="786960" y="748080"/>
                <a:ext cx="103320" cy="856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51"/>
              <p:cNvSpPr/>
              <p:nvPr/>
            </p:nvSpPr>
            <p:spPr>
              <a:xfrm rot="2533800">
                <a:off x="910800" y="701280"/>
                <a:ext cx="82080" cy="65160"/>
              </a:xfrm>
              <a:custGeom>
                <a:avLst/>
                <a:gdLst>
                  <a:gd name="textAreaLeft" fmla="*/ 0 w 82080"/>
                  <a:gd name="textAreaRight" fmla="*/ 82080 w 820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2"/>
              <p:cNvSpPr/>
              <p:nvPr/>
            </p:nvSpPr>
            <p:spPr>
              <a:xfrm rot="2533800">
                <a:off x="774720" y="629280"/>
                <a:ext cx="90360" cy="68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Rectangle 153"/>
          <p:cNvSpPr/>
          <p:nvPr/>
        </p:nvSpPr>
        <p:spPr>
          <a:xfrm>
            <a:off x="838080" y="1600200"/>
            <a:ext cx="746784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滤纸和水不溶物转移到原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的柠檬酸溶液，塞紧瓶塞，将滤纸振荡到破碎为纸浆状，在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取出，水定容、摇匀，干过滤，滤液为柠檬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)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该类复混肥料的有效磷为水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与两个枸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之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54"/>
          <p:cNvSpPr/>
          <p:nvPr/>
        </p:nvSpPr>
        <p:spPr>
          <a:xfrm>
            <a:off x="1221120" y="10666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27"/>
          <p:cNvSpPr/>
          <p:nvPr/>
        </p:nvSpPr>
        <p:spPr>
          <a:xfrm>
            <a:off x="990720" y="1905120"/>
            <a:ext cx="71625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浓缩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用预先加热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的中性柠檬酸铵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取出冷却，水定容至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28"/>
          <p:cNvSpPr/>
          <p:nvPr/>
        </p:nvSpPr>
        <p:spPr>
          <a:xfrm>
            <a:off x="1194480" y="9144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29"/>
          <p:cNvGrpSpPr/>
          <p:nvPr/>
        </p:nvGrpSpPr>
        <p:grpSpPr>
          <a:xfrm>
            <a:off x="6553080" y="0"/>
            <a:ext cx="1844280" cy="1904400"/>
            <a:chOff x="6553080" y="0"/>
            <a:chExt cx="1844280" cy="1904400"/>
          </a:xfrm>
        </p:grpSpPr>
        <p:sp>
          <p:nvSpPr>
            <p:cNvPr id="336" name="Freeform 130"/>
            <p:cNvSpPr/>
            <p:nvPr/>
          </p:nvSpPr>
          <p:spPr>
            <a:xfrm>
              <a:off x="7217640" y="1010520"/>
              <a:ext cx="791280" cy="428760"/>
            </a:xfrm>
            <a:custGeom>
              <a:avLst/>
              <a:gdLst>
                <a:gd name="textAreaLeft" fmla="*/ 0 w 791280"/>
                <a:gd name="textAreaRight" fmla="*/ 791640 w 791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749" h="400">
                  <a:moveTo>
                    <a:pt x="749" y="374"/>
                  </a:moveTo>
                  <a:lnTo>
                    <a:pt x="728" y="367"/>
                  </a:lnTo>
                  <a:lnTo>
                    <a:pt x="706" y="356"/>
                  </a:lnTo>
                  <a:lnTo>
                    <a:pt x="685" y="342"/>
                  </a:lnTo>
                  <a:lnTo>
                    <a:pt x="665" y="324"/>
                  </a:lnTo>
                  <a:lnTo>
                    <a:pt x="646" y="304"/>
                  </a:lnTo>
                  <a:lnTo>
                    <a:pt x="628" y="282"/>
                  </a:lnTo>
                  <a:lnTo>
                    <a:pt x="612" y="261"/>
                  </a:lnTo>
                  <a:lnTo>
                    <a:pt x="599" y="238"/>
                  </a:lnTo>
                  <a:lnTo>
                    <a:pt x="591" y="224"/>
                  </a:lnTo>
                  <a:lnTo>
                    <a:pt x="578" y="210"/>
                  </a:lnTo>
                  <a:lnTo>
                    <a:pt x="565" y="194"/>
                  </a:lnTo>
                  <a:lnTo>
                    <a:pt x="547" y="179"/>
                  </a:lnTo>
                  <a:lnTo>
                    <a:pt x="529" y="164"/>
                  </a:lnTo>
                  <a:lnTo>
                    <a:pt x="508" y="148"/>
                  </a:lnTo>
                  <a:lnTo>
                    <a:pt x="486" y="133"/>
                  </a:lnTo>
                  <a:lnTo>
                    <a:pt x="463" y="117"/>
                  </a:lnTo>
                  <a:lnTo>
                    <a:pt x="439" y="103"/>
                  </a:lnTo>
                  <a:lnTo>
                    <a:pt x="416" y="92"/>
                  </a:lnTo>
                  <a:lnTo>
                    <a:pt x="392" y="81"/>
                  </a:lnTo>
                  <a:lnTo>
                    <a:pt x="367" y="71"/>
                  </a:lnTo>
                  <a:lnTo>
                    <a:pt x="343" y="62"/>
                  </a:lnTo>
                  <a:lnTo>
                    <a:pt x="320" y="57"/>
                  </a:lnTo>
                  <a:lnTo>
                    <a:pt x="299" y="54"/>
                  </a:lnTo>
                  <a:lnTo>
                    <a:pt x="280" y="54"/>
                  </a:lnTo>
                  <a:lnTo>
                    <a:pt x="275" y="41"/>
                  </a:lnTo>
                  <a:lnTo>
                    <a:pt x="270" y="30"/>
                  </a:lnTo>
                  <a:lnTo>
                    <a:pt x="262" y="22"/>
                  </a:lnTo>
                  <a:lnTo>
                    <a:pt x="252" y="13"/>
                  </a:lnTo>
                  <a:lnTo>
                    <a:pt x="239" y="7"/>
                  </a:lnTo>
                  <a:lnTo>
                    <a:pt x="226" y="3"/>
                  </a:lnTo>
                  <a:lnTo>
                    <a:pt x="212" y="2"/>
                  </a:lnTo>
                  <a:lnTo>
                    <a:pt x="194" y="0"/>
                  </a:lnTo>
                  <a:lnTo>
                    <a:pt x="176" y="3"/>
                  </a:lnTo>
                  <a:lnTo>
                    <a:pt x="155" y="6"/>
                  </a:lnTo>
                  <a:lnTo>
                    <a:pt x="134" y="12"/>
                  </a:lnTo>
                  <a:lnTo>
                    <a:pt x="110" y="19"/>
                  </a:lnTo>
                  <a:lnTo>
                    <a:pt x="86" y="29"/>
                  </a:lnTo>
                  <a:lnTo>
                    <a:pt x="58" y="40"/>
                  </a:lnTo>
                  <a:lnTo>
                    <a:pt x="29" y="54"/>
                  </a:lnTo>
                  <a:lnTo>
                    <a:pt x="0" y="71"/>
                  </a:lnTo>
                  <a:lnTo>
                    <a:pt x="13" y="89"/>
                  </a:lnTo>
                  <a:lnTo>
                    <a:pt x="31" y="113"/>
                  </a:lnTo>
                  <a:lnTo>
                    <a:pt x="53" y="141"/>
                  </a:lnTo>
                  <a:lnTo>
                    <a:pt x="81" y="171"/>
                  </a:lnTo>
                  <a:lnTo>
                    <a:pt x="113" y="203"/>
                  </a:lnTo>
                  <a:lnTo>
                    <a:pt x="150" y="237"/>
                  </a:lnTo>
                  <a:lnTo>
                    <a:pt x="191" y="269"/>
                  </a:lnTo>
                  <a:lnTo>
                    <a:pt x="236" y="300"/>
                  </a:lnTo>
                  <a:lnTo>
                    <a:pt x="286" y="328"/>
                  </a:lnTo>
                  <a:lnTo>
                    <a:pt x="340" y="353"/>
                  </a:lnTo>
                  <a:lnTo>
                    <a:pt x="398" y="374"/>
                  </a:lnTo>
                  <a:lnTo>
                    <a:pt x="461" y="390"/>
                  </a:lnTo>
                  <a:lnTo>
                    <a:pt x="528" y="398"/>
                  </a:lnTo>
                  <a:lnTo>
                    <a:pt x="597" y="400"/>
                  </a:lnTo>
                  <a:lnTo>
                    <a:pt x="672" y="391"/>
                  </a:lnTo>
                  <a:lnTo>
                    <a:pt x="749" y="374"/>
                  </a:lnTo>
                  <a:close/>
                </a:path>
              </a:pathLst>
            </a:cu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1"/>
            <p:cNvSpPr/>
            <p:nvPr/>
          </p:nvSpPr>
          <p:spPr>
            <a:xfrm>
              <a:off x="6958440" y="753840"/>
              <a:ext cx="618120" cy="33156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588" h="308">
                  <a:moveTo>
                    <a:pt x="468" y="0"/>
                  </a:moveTo>
                  <a:lnTo>
                    <a:pt x="455" y="7"/>
                  </a:lnTo>
                  <a:lnTo>
                    <a:pt x="439" y="12"/>
                  </a:lnTo>
                  <a:lnTo>
                    <a:pt x="419" y="18"/>
                  </a:lnTo>
                  <a:lnTo>
                    <a:pt x="397" y="24"/>
                  </a:lnTo>
                  <a:lnTo>
                    <a:pt x="372" y="29"/>
                  </a:lnTo>
                  <a:lnTo>
                    <a:pt x="345" y="32"/>
                  </a:lnTo>
                  <a:lnTo>
                    <a:pt x="316" y="36"/>
                  </a:lnTo>
                  <a:lnTo>
                    <a:pt x="285" y="38"/>
                  </a:lnTo>
                  <a:lnTo>
                    <a:pt x="253" y="39"/>
                  </a:lnTo>
                  <a:lnTo>
                    <a:pt x="219" y="39"/>
                  </a:lnTo>
                  <a:lnTo>
                    <a:pt x="185" y="38"/>
                  </a:lnTo>
                  <a:lnTo>
                    <a:pt x="147" y="34"/>
                  </a:lnTo>
                  <a:lnTo>
                    <a:pt x="112" y="29"/>
                  </a:lnTo>
                  <a:lnTo>
                    <a:pt x="74" y="22"/>
                  </a:lnTo>
                  <a:lnTo>
                    <a:pt x="37" y="14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9" y="38"/>
                  </a:lnTo>
                  <a:lnTo>
                    <a:pt x="40" y="56"/>
                  </a:lnTo>
                  <a:lnTo>
                    <a:pt x="66" y="76"/>
                  </a:lnTo>
                  <a:lnTo>
                    <a:pt x="92" y="95"/>
                  </a:lnTo>
                  <a:lnTo>
                    <a:pt x="120" y="114"/>
                  </a:lnTo>
                  <a:lnTo>
                    <a:pt x="141" y="132"/>
                  </a:lnTo>
                  <a:lnTo>
                    <a:pt x="157" y="149"/>
                  </a:lnTo>
                  <a:lnTo>
                    <a:pt x="168" y="167"/>
                  </a:lnTo>
                  <a:lnTo>
                    <a:pt x="181" y="187"/>
                  </a:lnTo>
                  <a:lnTo>
                    <a:pt x="194" y="208"/>
                  </a:lnTo>
                  <a:lnTo>
                    <a:pt x="206" y="229"/>
                  </a:lnTo>
                  <a:lnTo>
                    <a:pt x="219" y="251"/>
                  </a:lnTo>
                  <a:lnTo>
                    <a:pt x="228" y="271"/>
                  </a:lnTo>
                  <a:lnTo>
                    <a:pt x="240" y="291"/>
                  </a:lnTo>
                  <a:lnTo>
                    <a:pt x="248" y="308"/>
                  </a:lnTo>
                  <a:lnTo>
                    <a:pt x="256" y="295"/>
                  </a:lnTo>
                  <a:lnTo>
                    <a:pt x="266" y="282"/>
                  </a:lnTo>
                  <a:lnTo>
                    <a:pt x="277" y="270"/>
                  </a:lnTo>
                  <a:lnTo>
                    <a:pt x="291" y="257"/>
                  </a:lnTo>
                  <a:lnTo>
                    <a:pt x="308" y="244"/>
                  </a:lnTo>
                  <a:lnTo>
                    <a:pt x="325" y="230"/>
                  </a:lnTo>
                  <a:lnTo>
                    <a:pt x="347" y="218"/>
                  </a:lnTo>
                  <a:lnTo>
                    <a:pt x="368" y="205"/>
                  </a:lnTo>
                  <a:lnTo>
                    <a:pt x="390" y="192"/>
                  </a:lnTo>
                  <a:lnTo>
                    <a:pt x="415" y="180"/>
                  </a:lnTo>
                  <a:lnTo>
                    <a:pt x="440" y="169"/>
                  </a:lnTo>
                  <a:lnTo>
                    <a:pt x="468" y="159"/>
                  </a:lnTo>
                  <a:lnTo>
                    <a:pt x="497" y="149"/>
                  </a:lnTo>
                  <a:lnTo>
                    <a:pt x="526" y="139"/>
                  </a:lnTo>
                  <a:lnTo>
                    <a:pt x="557" y="132"/>
                  </a:lnTo>
                  <a:lnTo>
                    <a:pt x="588" y="125"/>
                  </a:lnTo>
                  <a:lnTo>
                    <a:pt x="573" y="109"/>
                  </a:lnTo>
                  <a:lnTo>
                    <a:pt x="559" y="93"/>
                  </a:lnTo>
                  <a:lnTo>
                    <a:pt x="542" y="74"/>
                  </a:lnTo>
                  <a:lnTo>
                    <a:pt x="526" y="56"/>
                  </a:lnTo>
                  <a:lnTo>
                    <a:pt x="510" y="39"/>
                  </a:lnTo>
                  <a:lnTo>
                    <a:pt x="495" y="24"/>
                  </a:lnTo>
                  <a:lnTo>
                    <a:pt x="481" y="1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2"/>
            <p:cNvSpPr/>
            <p:nvPr/>
          </p:nvSpPr>
          <p:spPr>
            <a:xfrm>
              <a:off x="7384680" y="230400"/>
              <a:ext cx="303840" cy="65700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88" h="610">
                  <a:moveTo>
                    <a:pt x="286" y="398"/>
                  </a:moveTo>
                  <a:lnTo>
                    <a:pt x="278" y="417"/>
                  </a:lnTo>
                  <a:lnTo>
                    <a:pt x="272" y="444"/>
                  </a:lnTo>
                  <a:lnTo>
                    <a:pt x="264" y="476"/>
                  </a:lnTo>
                  <a:lnTo>
                    <a:pt x="256" y="510"/>
                  </a:lnTo>
                  <a:lnTo>
                    <a:pt x="244" y="544"/>
                  </a:lnTo>
                  <a:lnTo>
                    <a:pt x="228" y="573"/>
                  </a:lnTo>
                  <a:lnTo>
                    <a:pt x="209" y="596"/>
                  </a:lnTo>
                  <a:lnTo>
                    <a:pt x="183" y="610"/>
                  </a:lnTo>
                  <a:lnTo>
                    <a:pt x="168" y="594"/>
                  </a:lnTo>
                  <a:lnTo>
                    <a:pt x="154" y="579"/>
                  </a:lnTo>
                  <a:lnTo>
                    <a:pt x="137" y="561"/>
                  </a:lnTo>
                  <a:lnTo>
                    <a:pt x="123" y="544"/>
                  </a:lnTo>
                  <a:lnTo>
                    <a:pt x="107" y="527"/>
                  </a:lnTo>
                  <a:lnTo>
                    <a:pt x="92" y="512"/>
                  </a:lnTo>
                  <a:lnTo>
                    <a:pt x="78" y="496"/>
                  </a:lnTo>
                  <a:lnTo>
                    <a:pt x="63" y="485"/>
                  </a:lnTo>
                  <a:lnTo>
                    <a:pt x="58" y="479"/>
                  </a:lnTo>
                  <a:lnTo>
                    <a:pt x="52" y="474"/>
                  </a:lnTo>
                  <a:lnTo>
                    <a:pt x="45" y="469"/>
                  </a:lnTo>
                  <a:lnTo>
                    <a:pt x="39" y="464"/>
                  </a:lnTo>
                  <a:lnTo>
                    <a:pt x="32" y="458"/>
                  </a:lnTo>
                  <a:lnTo>
                    <a:pt x="26" y="452"/>
                  </a:lnTo>
                  <a:lnTo>
                    <a:pt x="18" y="448"/>
                  </a:lnTo>
                  <a:lnTo>
                    <a:pt x="11" y="443"/>
                  </a:lnTo>
                  <a:lnTo>
                    <a:pt x="14" y="344"/>
                  </a:lnTo>
                  <a:lnTo>
                    <a:pt x="13" y="218"/>
                  </a:lnTo>
                  <a:lnTo>
                    <a:pt x="6" y="98"/>
                  </a:lnTo>
                  <a:lnTo>
                    <a:pt x="0" y="18"/>
                  </a:lnTo>
                  <a:lnTo>
                    <a:pt x="3" y="4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44" y="14"/>
                  </a:lnTo>
                  <a:lnTo>
                    <a:pt x="58" y="29"/>
                  </a:lnTo>
                  <a:lnTo>
                    <a:pt x="73" y="49"/>
                  </a:lnTo>
                  <a:lnTo>
                    <a:pt x="82" y="73"/>
                  </a:lnTo>
                  <a:lnTo>
                    <a:pt x="86" y="97"/>
                  </a:lnTo>
                  <a:lnTo>
                    <a:pt x="100" y="94"/>
                  </a:lnTo>
                  <a:lnTo>
                    <a:pt x="115" y="97"/>
                  </a:lnTo>
                  <a:lnTo>
                    <a:pt x="128" y="104"/>
                  </a:lnTo>
                  <a:lnTo>
                    <a:pt x="139" y="116"/>
                  </a:lnTo>
                  <a:lnTo>
                    <a:pt x="147" y="132"/>
                  </a:lnTo>
                  <a:lnTo>
                    <a:pt x="152" y="149"/>
                  </a:lnTo>
                  <a:lnTo>
                    <a:pt x="150" y="168"/>
                  </a:lnTo>
                  <a:lnTo>
                    <a:pt x="142" y="188"/>
                  </a:lnTo>
                  <a:lnTo>
                    <a:pt x="167" y="191"/>
                  </a:lnTo>
                  <a:lnTo>
                    <a:pt x="186" y="201"/>
                  </a:lnTo>
                  <a:lnTo>
                    <a:pt x="202" y="215"/>
                  </a:lnTo>
                  <a:lnTo>
                    <a:pt x="215" y="233"/>
                  </a:lnTo>
                  <a:lnTo>
                    <a:pt x="223" y="253"/>
                  </a:lnTo>
                  <a:lnTo>
                    <a:pt x="225" y="274"/>
                  </a:lnTo>
                  <a:lnTo>
                    <a:pt x="223" y="294"/>
                  </a:lnTo>
                  <a:lnTo>
                    <a:pt x="217" y="313"/>
                  </a:lnTo>
                  <a:lnTo>
                    <a:pt x="235" y="315"/>
                  </a:lnTo>
                  <a:lnTo>
                    <a:pt x="251" y="320"/>
                  </a:lnTo>
                  <a:lnTo>
                    <a:pt x="264" y="329"/>
                  </a:lnTo>
                  <a:lnTo>
                    <a:pt x="275" y="339"/>
                  </a:lnTo>
                  <a:lnTo>
                    <a:pt x="283" y="351"/>
                  </a:lnTo>
                  <a:lnTo>
                    <a:pt x="288" y="367"/>
                  </a:lnTo>
                  <a:lnTo>
                    <a:pt x="288" y="382"/>
                  </a:lnTo>
                  <a:lnTo>
                    <a:pt x="286" y="398"/>
                  </a:lnTo>
                  <a:close/>
                </a:path>
              </a:pathLst>
            </a:cu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33"/>
            <p:cNvSpPr/>
            <p:nvPr/>
          </p:nvSpPr>
          <p:spPr>
            <a:xfrm>
              <a:off x="6941520" y="614160"/>
              <a:ext cx="507960" cy="18252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83" h="170">
                  <a:moveTo>
                    <a:pt x="15" y="134"/>
                  </a:moveTo>
                  <a:lnTo>
                    <a:pt x="52" y="145"/>
                  </a:lnTo>
                  <a:lnTo>
                    <a:pt x="89" y="153"/>
                  </a:lnTo>
                  <a:lnTo>
                    <a:pt x="127" y="160"/>
                  </a:lnTo>
                  <a:lnTo>
                    <a:pt x="162" y="165"/>
                  </a:lnTo>
                  <a:lnTo>
                    <a:pt x="200" y="169"/>
                  </a:lnTo>
                  <a:lnTo>
                    <a:pt x="234" y="170"/>
                  </a:lnTo>
                  <a:lnTo>
                    <a:pt x="268" y="170"/>
                  </a:lnTo>
                  <a:lnTo>
                    <a:pt x="300" y="169"/>
                  </a:lnTo>
                  <a:lnTo>
                    <a:pt x="331" y="167"/>
                  </a:lnTo>
                  <a:lnTo>
                    <a:pt x="360" y="163"/>
                  </a:lnTo>
                  <a:lnTo>
                    <a:pt x="387" y="160"/>
                  </a:lnTo>
                  <a:lnTo>
                    <a:pt x="412" y="155"/>
                  </a:lnTo>
                  <a:lnTo>
                    <a:pt x="434" y="149"/>
                  </a:lnTo>
                  <a:lnTo>
                    <a:pt x="454" y="143"/>
                  </a:lnTo>
                  <a:lnTo>
                    <a:pt x="470" y="138"/>
                  </a:lnTo>
                  <a:lnTo>
                    <a:pt x="483" y="131"/>
                  </a:lnTo>
                  <a:lnTo>
                    <a:pt x="470" y="118"/>
                  </a:lnTo>
                  <a:lnTo>
                    <a:pt x="454" y="107"/>
                  </a:lnTo>
                  <a:lnTo>
                    <a:pt x="438" y="94"/>
                  </a:lnTo>
                  <a:lnTo>
                    <a:pt x="421" y="83"/>
                  </a:lnTo>
                  <a:lnTo>
                    <a:pt x="402" y="72"/>
                  </a:lnTo>
                  <a:lnTo>
                    <a:pt x="384" y="61"/>
                  </a:lnTo>
                  <a:lnTo>
                    <a:pt x="365" y="51"/>
                  </a:lnTo>
                  <a:lnTo>
                    <a:pt x="345" y="41"/>
                  </a:lnTo>
                  <a:lnTo>
                    <a:pt x="324" y="32"/>
                  </a:lnTo>
                  <a:lnTo>
                    <a:pt x="305" y="24"/>
                  </a:lnTo>
                  <a:lnTo>
                    <a:pt x="284" y="17"/>
                  </a:lnTo>
                  <a:lnTo>
                    <a:pt x="264" y="11"/>
                  </a:lnTo>
                  <a:lnTo>
                    <a:pt x="245" y="7"/>
                  </a:lnTo>
                  <a:lnTo>
                    <a:pt x="226" y="3"/>
                  </a:lnTo>
                  <a:lnTo>
                    <a:pt x="206" y="1"/>
                  </a:lnTo>
                  <a:lnTo>
                    <a:pt x="188" y="0"/>
                  </a:lnTo>
                  <a:lnTo>
                    <a:pt x="154" y="3"/>
                  </a:lnTo>
                  <a:lnTo>
                    <a:pt x="123" y="10"/>
                  </a:lnTo>
                  <a:lnTo>
                    <a:pt x="96" y="21"/>
                  </a:lnTo>
                  <a:lnTo>
                    <a:pt x="70" y="34"/>
                  </a:lnTo>
                  <a:lnTo>
                    <a:pt x="49" y="49"/>
                  </a:lnTo>
                  <a:lnTo>
                    <a:pt x="30" y="63"/>
                  </a:lnTo>
                  <a:lnTo>
                    <a:pt x="13" y="77"/>
                  </a:lnTo>
                  <a:lnTo>
                    <a:pt x="0" y="90"/>
                  </a:lnTo>
                  <a:lnTo>
                    <a:pt x="10" y="98"/>
                  </a:lnTo>
                  <a:lnTo>
                    <a:pt x="15" y="108"/>
                  </a:lnTo>
                  <a:lnTo>
                    <a:pt x="17" y="121"/>
                  </a:lnTo>
                  <a:lnTo>
                    <a:pt x="15" y="134"/>
                  </a:lnTo>
                  <a:close/>
                </a:path>
              </a:pathLst>
            </a:cu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34"/>
            <p:cNvSpPr/>
            <p:nvPr/>
          </p:nvSpPr>
          <p:spPr>
            <a:xfrm>
              <a:off x="7217640" y="0"/>
              <a:ext cx="1179720" cy="108576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117" h="1008">
                  <a:moveTo>
                    <a:pt x="0" y="1008"/>
                  </a:moveTo>
                  <a:lnTo>
                    <a:pt x="8" y="995"/>
                  </a:lnTo>
                  <a:lnTo>
                    <a:pt x="18" y="982"/>
                  </a:lnTo>
                  <a:lnTo>
                    <a:pt x="31" y="970"/>
                  </a:lnTo>
                  <a:lnTo>
                    <a:pt x="45" y="957"/>
                  </a:lnTo>
                  <a:lnTo>
                    <a:pt x="61" y="943"/>
                  </a:lnTo>
                  <a:lnTo>
                    <a:pt x="79" y="930"/>
                  </a:lnTo>
                  <a:lnTo>
                    <a:pt x="100" y="918"/>
                  </a:lnTo>
                  <a:lnTo>
                    <a:pt x="121" y="904"/>
                  </a:lnTo>
                  <a:lnTo>
                    <a:pt x="145" y="891"/>
                  </a:lnTo>
                  <a:lnTo>
                    <a:pt x="170" y="880"/>
                  </a:lnTo>
                  <a:lnTo>
                    <a:pt x="196" y="869"/>
                  </a:lnTo>
                  <a:lnTo>
                    <a:pt x="223" y="857"/>
                  </a:lnTo>
                  <a:lnTo>
                    <a:pt x="251" y="847"/>
                  </a:lnTo>
                  <a:lnTo>
                    <a:pt x="280" y="839"/>
                  </a:lnTo>
                  <a:lnTo>
                    <a:pt x="309" y="832"/>
                  </a:lnTo>
                  <a:lnTo>
                    <a:pt x="340" y="825"/>
                  </a:lnTo>
                  <a:lnTo>
                    <a:pt x="364" y="814"/>
                  </a:lnTo>
                  <a:lnTo>
                    <a:pt x="383" y="791"/>
                  </a:lnTo>
                  <a:lnTo>
                    <a:pt x="400" y="763"/>
                  </a:lnTo>
                  <a:lnTo>
                    <a:pt x="411" y="729"/>
                  </a:lnTo>
                  <a:lnTo>
                    <a:pt x="422" y="694"/>
                  </a:lnTo>
                  <a:lnTo>
                    <a:pt x="430" y="662"/>
                  </a:lnTo>
                  <a:lnTo>
                    <a:pt x="437" y="634"/>
                  </a:lnTo>
                  <a:lnTo>
                    <a:pt x="443" y="613"/>
                  </a:lnTo>
                  <a:lnTo>
                    <a:pt x="456" y="596"/>
                  </a:lnTo>
                  <a:lnTo>
                    <a:pt x="471" y="576"/>
                  </a:lnTo>
                  <a:lnTo>
                    <a:pt x="489" y="555"/>
                  </a:lnTo>
                  <a:lnTo>
                    <a:pt x="510" y="532"/>
                  </a:lnTo>
                  <a:lnTo>
                    <a:pt x="536" y="510"/>
                  </a:lnTo>
                  <a:lnTo>
                    <a:pt x="566" y="487"/>
                  </a:lnTo>
                  <a:lnTo>
                    <a:pt x="602" y="464"/>
                  </a:lnTo>
                  <a:lnTo>
                    <a:pt x="643" y="441"/>
                  </a:lnTo>
                  <a:lnTo>
                    <a:pt x="667" y="427"/>
                  </a:lnTo>
                  <a:lnTo>
                    <a:pt x="693" y="410"/>
                  </a:lnTo>
                  <a:lnTo>
                    <a:pt x="720" y="389"/>
                  </a:lnTo>
                  <a:lnTo>
                    <a:pt x="751" y="364"/>
                  </a:lnTo>
                  <a:lnTo>
                    <a:pt x="782" y="337"/>
                  </a:lnTo>
                  <a:lnTo>
                    <a:pt x="813" y="308"/>
                  </a:lnTo>
                  <a:lnTo>
                    <a:pt x="845" y="275"/>
                  </a:lnTo>
                  <a:lnTo>
                    <a:pt x="877" y="243"/>
                  </a:lnTo>
                  <a:lnTo>
                    <a:pt x="908" y="209"/>
                  </a:lnTo>
                  <a:lnTo>
                    <a:pt x="939" y="177"/>
                  </a:lnTo>
                  <a:lnTo>
                    <a:pt x="966" y="143"/>
                  </a:lnTo>
                  <a:lnTo>
                    <a:pt x="994" y="111"/>
                  </a:lnTo>
                  <a:lnTo>
                    <a:pt x="1020" y="80"/>
                  </a:lnTo>
                  <a:lnTo>
                    <a:pt x="1041" y="50"/>
                  </a:lnTo>
                  <a:lnTo>
                    <a:pt x="1060" y="24"/>
                  </a:lnTo>
                  <a:lnTo>
                    <a:pt x="1077" y="0"/>
                  </a:lnTo>
                  <a:lnTo>
                    <a:pt x="1096" y="9"/>
                  </a:lnTo>
                  <a:lnTo>
                    <a:pt x="1109" y="40"/>
                  </a:lnTo>
                  <a:lnTo>
                    <a:pt x="1117" y="85"/>
                  </a:lnTo>
                  <a:lnTo>
                    <a:pt x="1115" y="140"/>
                  </a:lnTo>
                  <a:lnTo>
                    <a:pt x="1104" y="198"/>
                  </a:lnTo>
                  <a:lnTo>
                    <a:pt x="1081" y="253"/>
                  </a:lnTo>
                  <a:lnTo>
                    <a:pt x="1044" y="299"/>
                  </a:lnTo>
                  <a:lnTo>
                    <a:pt x="994" y="333"/>
                  </a:lnTo>
                  <a:lnTo>
                    <a:pt x="1010" y="344"/>
                  </a:lnTo>
                  <a:lnTo>
                    <a:pt x="1018" y="361"/>
                  </a:lnTo>
                  <a:lnTo>
                    <a:pt x="1021" y="382"/>
                  </a:lnTo>
                  <a:lnTo>
                    <a:pt x="1018" y="405"/>
                  </a:lnTo>
                  <a:lnTo>
                    <a:pt x="1010" y="428"/>
                  </a:lnTo>
                  <a:lnTo>
                    <a:pt x="996" y="451"/>
                  </a:lnTo>
                  <a:lnTo>
                    <a:pt x="976" y="469"/>
                  </a:lnTo>
                  <a:lnTo>
                    <a:pt x="950" y="485"/>
                  </a:lnTo>
                  <a:lnTo>
                    <a:pt x="968" y="496"/>
                  </a:lnTo>
                  <a:lnTo>
                    <a:pt x="975" y="506"/>
                  </a:lnTo>
                  <a:lnTo>
                    <a:pt x="973" y="517"/>
                  </a:lnTo>
                  <a:lnTo>
                    <a:pt x="963" y="528"/>
                  </a:lnTo>
                  <a:lnTo>
                    <a:pt x="949" y="538"/>
                  </a:lnTo>
                  <a:lnTo>
                    <a:pt x="929" y="548"/>
                  </a:lnTo>
                  <a:lnTo>
                    <a:pt x="908" y="558"/>
                  </a:lnTo>
                  <a:lnTo>
                    <a:pt x="887" y="566"/>
                  </a:lnTo>
                  <a:lnTo>
                    <a:pt x="898" y="572"/>
                  </a:lnTo>
                  <a:lnTo>
                    <a:pt x="903" y="586"/>
                  </a:lnTo>
                  <a:lnTo>
                    <a:pt x="898" y="603"/>
                  </a:lnTo>
                  <a:lnTo>
                    <a:pt x="889" y="624"/>
                  </a:lnTo>
                  <a:lnTo>
                    <a:pt x="869" y="646"/>
                  </a:lnTo>
                  <a:lnTo>
                    <a:pt x="847" y="669"/>
                  </a:lnTo>
                  <a:lnTo>
                    <a:pt x="816" y="687"/>
                  </a:lnTo>
                  <a:lnTo>
                    <a:pt x="782" y="703"/>
                  </a:lnTo>
                  <a:lnTo>
                    <a:pt x="804" y="712"/>
                  </a:lnTo>
                  <a:lnTo>
                    <a:pt x="816" y="728"/>
                  </a:lnTo>
                  <a:lnTo>
                    <a:pt x="817" y="748"/>
                  </a:lnTo>
                  <a:lnTo>
                    <a:pt x="811" y="769"/>
                  </a:lnTo>
                  <a:lnTo>
                    <a:pt x="796" y="790"/>
                  </a:lnTo>
                  <a:lnTo>
                    <a:pt x="775" y="811"/>
                  </a:lnTo>
                  <a:lnTo>
                    <a:pt x="749" y="828"/>
                  </a:lnTo>
                  <a:lnTo>
                    <a:pt x="719" y="839"/>
                  </a:lnTo>
                  <a:lnTo>
                    <a:pt x="740" y="846"/>
                  </a:lnTo>
                  <a:lnTo>
                    <a:pt x="745" y="863"/>
                  </a:lnTo>
                  <a:lnTo>
                    <a:pt x="735" y="885"/>
                  </a:lnTo>
                  <a:lnTo>
                    <a:pt x="715" y="911"/>
                  </a:lnTo>
                  <a:lnTo>
                    <a:pt x="688" y="939"/>
                  </a:lnTo>
                  <a:lnTo>
                    <a:pt x="654" y="966"/>
                  </a:lnTo>
                  <a:lnTo>
                    <a:pt x="617" y="989"/>
                  </a:lnTo>
                  <a:lnTo>
                    <a:pt x="581" y="1008"/>
                  </a:lnTo>
                  <a:lnTo>
                    <a:pt x="566" y="999"/>
                  </a:lnTo>
                  <a:lnTo>
                    <a:pt x="552" y="991"/>
                  </a:lnTo>
                  <a:lnTo>
                    <a:pt x="534" y="984"/>
                  </a:lnTo>
                  <a:lnTo>
                    <a:pt x="515" y="978"/>
                  </a:lnTo>
                  <a:lnTo>
                    <a:pt x="495" y="973"/>
                  </a:lnTo>
                  <a:lnTo>
                    <a:pt x="476" y="970"/>
                  </a:lnTo>
                  <a:lnTo>
                    <a:pt x="455" y="967"/>
                  </a:lnTo>
                  <a:lnTo>
                    <a:pt x="434" y="964"/>
                  </a:lnTo>
                  <a:lnTo>
                    <a:pt x="411" y="964"/>
                  </a:lnTo>
                  <a:lnTo>
                    <a:pt x="390" y="964"/>
                  </a:lnTo>
                  <a:lnTo>
                    <a:pt x="369" y="966"/>
                  </a:lnTo>
                  <a:lnTo>
                    <a:pt x="349" y="968"/>
                  </a:lnTo>
                  <a:lnTo>
                    <a:pt x="330" y="973"/>
                  </a:lnTo>
                  <a:lnTo>
                    <a:pt x="312" y="977"/>
                  </a:lnTo>
                  <a:lnTo>
                    <a:pt x="294" y="984"/>
                  </a:lnTo>
                  <a:lnTo>
                    <a:pt x="280" y="991"/>
                  </a:lnTo>
                  <a:lnTo>
                    <a:pt x="275" y="978"/>
                  </a:lnTo>
                  <a:lnTo>
                    <a:pt x="270" y="967"/>
                  </a:lnTo>
                  <a:lnTo>
                    <a:pt x="262" y="959"/>
                  </a:lnTo>
                  <a:lnTo>
                    <a:pt x="252" y="950"/>
                  </a:lnTo>
                  <a:lnTo>
                    <a:pt x="239" y="944"/>
                  </a:lnTo>
                  <a:lnTo>
                    <a:pt x="226" y="940"/>
                  </a:lnTo>
                  <a:lnTo>
                    <a:pt x="212" y="939"/>
                  </a:lnTo>
                  <a:lnTo>
                    <a:pt x="194" y="937"/>
                  </a:lnTo>
                  <a:lnTo>
                    <a:pt x="176" y="940"/>
                  </a:lnTo>
                  <a:lnTo>
                    <a:pt x="155" y="943"/>
                  </a:lnTo>
                  <a:lnTo>
                    <a:pt x="134" y="949"/>
                  </a:lnTo>
                  <a:lnTo>
                    <a:pt x="110" y="956"/>
                  </a:lnTo>
                  <a:lnTo>
                    <a:pt x="86" y="966"/>
                  </a:lnTo>
                  <a:lnTo>
                    <a:pt x="58" y="977"/>
                  </a:lnTo>
                  <a:lnTo>
                    <a:pt x="29" y="991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35"/>
            <p:cNvSpPr/>
            <p:nvPr/>
          </p:nvSpPr>
          <p:spPr>
            <a:xfrm>
              <a:off x="7513560" y="1038240"/>
              <a:ext cx="497520" cy="37512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471" h="347">
                  <a:moveTo>
                    <a:pt x="0" y="27"/>
                  </a:moveTo>
                  <a:lnTo>
                    <a:pt x="14" y="20"/>
                  </a:lnTo>
                  <a:lnTo>
                    <a:pt x="32" y="13"/>
                  </a:lnTo>
                  <a:lnTo>
                    <a:pt x="50" y="9"/>
                  </a:lnTo>
                  <a:lnTo>
                    <a:pt x="69" y="4"/>
                  </a:lnTo>
                  <a:lnTo>
                    <a:pt x="89" y="2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4" y="0"/>
                  </a:lnTo>
                  <a:lnTo>
                    <a:pt x="175" y="3"/>
                  </a:lnTo>
                  <a:lnTo>
                    <a:pt x="196" y="6"/>
                  </a:lnTo>
                  <a:lnTo>
                    <a:pt x="215" y="9"/>
                  </a:lnTo>
                  <a:lnTo>
                    <a:pt x="235" y="14"/>
                  </a:lnTo>
                  <a:lnTo>
                    <a:pt x="254" y="20"/>
                  </a:lnTo>
                  <a:lnTo>
                    <a:pt x="272" y="27"/>
                  </a:lnTo>
                  <a:lnTo>
                    <a:pt x="286" y="35"/>
                  </a:lnTo>
                  <a:lnTo>
                    <a:pt x="301" y="44"/>
                  </a:lnTo>
                  <a:lnTo>
                    <a:pt x="330" y="49"/>
                  </a:lnTo>
                  <a:lnTo>
                    <a:pt x="361" y="66"/>
                  </a:lnTo>
                  <a:lnTo>
                    <a:pt x="392" y="94"/>
                  </a:lnTo>
                  <a:lnTo>
                    <a:pt x="421" y="129"/>
                  </a:lnTo>
                  <a:lnTo>
                    <a:pt x="444" y="174"/>
                  </a:lnTo>
                  <a:lnTo>
                    <a:pt x="461" y="226"/>
                  </a:lnTo>
                  <a:lnTo>
                    <a:pt x="471" y="284"/>
                  </a:lnTo>
                  <a:lnTo>
                    <a:pt x="469" y="347"/>
                  </a:lnTo>
                  <a:lnTo>
                    <a:pt x="448" y="340"/>
                  </a:lnTo>
                  <a:lnTo>
                    <a:pt x="426" y="329"/>
                  </a:lnTo>
                  <a:lnTo>
                    <a:pt x="405" y="315"/>
                  </a:lnTo>
                  <a:lnTo>
                    <a:pt x="385" y="297"/>
                  </a:lnTo>
                  <a:lnTo>
                    <a:pt x="366" y="277"/>
                  </a:lnTo>
                  <a:lnTo>
                    <a:pt x="348" y="255"/>
                  </a:lnTo>
                  <a:lnTo>
                    <a:pt x="332" y="234"/>
                  </a:lnTo>
                  <a:lnTo>
                    <a:pt x="319" y="211"/>
                  </a:lnTo>
                  <a:lnTo>
                    <a:pt x="311" y="197"/>
                  </a:lnTo>
                  <a:lnTo>
                    <a:pt x="298" y="183"/>
                  </a:lnTo>
                  <a:lnTo>
                    <a:pt x="285" y="167"/>
                  </a:lnTo>
                  <a:lnTo>
                    <a:pt x="267" y="152"/>
                  </a:lnTo>
                  <a:lnTo>
                    <a:pt x="249" y="137"/>
                  </a:lnTo>
                  <a:lnTo>
                    <a:pt x="228" y="121"/>
                  </a:lnTo>
                  <a:lnTo>
                    <a:pt x="206" y="106"/>
                  </a:lnTo>
                  <a:lnTo>
                    <a:pt x="183" y="90"/>
                  </a:lnTo>
                  <a:lnTo>
                    <a:pt x="159" y="76"/>
                  </a:lnTo>
                  <a:lnTo>
                    <a:pt x="136" y="65"/>
                  </a:lnTo>
                  <a:lnTo>
                    <a:pt x="112" y="54"/>
                  </a:lnTo>
                  <a:lnTo>
                    <a:pt x="87" y="44"/>
                  </a:lnTo>
                  <a:lnTo>
                    <a:pt x="63" y="35"/>
                  </a:lnTo>
                  <a:lnTo>
                    <a:pt x="40" y="30"/>
                  </a:lnTo>
                  <a:lnTo>
                    <a:pt x="1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36"/>
            <p:cNvSpPr/>
            <p:nvPr/>
          </p:nvSpPr>
          <p:spPr>
            <a:xfrm>
              <a:off x="7785720" y="1314360"/>
              <a:ext cx="607680" cy="590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577" h="548">
                  <a:moveTo>
                    <a:pt x="0" y="117"/>
                  </a:moveTo>
                  <a:lnTo>
                    <a:pt x="25" y="117"/>
                  </a:lnTo>
                  <a:lnTo>
                    <a:pt x="51" y="117"/>
                  </a:lnTo>
                  <a:lnTo>
                    <a:pt x="76" y="115"/>
                  </a:lnTo>
                  <a:lnTo>
                    <a:pt x="102" y="112"/>
                  </a:lnTo>
                  <a:lnTo>
                    <a:pt x="130" y="110"/>
                  </a:lnTo>
                  <a:lnTo>
                    <a:pt x="156" y="104"/>
                  </a:lnTo>
                  <a:lnTo>
                    <a:pt x="185" y="98"/>
                  </a:lnTo>
                  <a:lnTo>
                    <a:pt x="212" y="91"/>
                  </a:lnTo>
                  <a:lnTo>
                    <a:pt x="214" y="67"/>
                  </a:lnTo>
                  <a:lnTo>
                    <a:pt x="214" y="44"/>
                  </a:lnTo>
                  <a:lnTo>
                    <a:pt x="214" y="21"/>
                  </a:lnTo>
                  <a:lnTo>
                    <a:pt x="211" y="0"/>
                  </a:lnTo>
                  <a:lnTo>
                    <a:pt x="235" y="8"/>
                  </a:lnTo>
                  <a:lnTo>
                    <a:pt x="261" y="18"/>
                  </a:lnTo>
                  <a:lnTo>
                    <a:pt x="287" y="30"/>
                  </a:lnTo>
                  <a:lnTo>
                    <a:pt x="313" y="41"/>
                  </a:lnTo>
                  <a:lnTo>
                    <a:pt x="340" y="52"/>
                  </a:lnTo>
                  <a:lnTo>
                    <a:pt x="368" y="65"/>
                  </a:lnTo>
                  <a:lnTo>
                    <a:pt x="394" y="77"/>
                  </a:lnTo>
                  <a:lnTo>
                    <a:pt x="420" y="89"/>
                  </a:lnTo>
                  <a:lnTo>
                    <a:pt x="444" y="101"/>
                  </a:lnTo>
                  <a:lnTo>
                    <a:pt x="467" y="112"/>
                  </a:lnTo>
                  <a:lnTo>
                    <a:pt x="488" y="124"/>
                  </a:lnTo>
                  <a:lnTo>
                    <a:pt x="507" y="134"/>
                  </a:lnTo>
                  <a:lnTo>
                    <a:pt x="525" y="142"/>
                  </a:lnTo>
                  <a:lnTo>
                    <a:pt x="540" y="150"/>
                  </a:lnTo>
                  <a:lnTo>
                    <a:pt x="549" y="157"/>
                  </a:lnTo>
                  <a:lnTo>
                    <a:pt x="557" y="162"/>
                  </a:lnTo>
                  <a:lnTo>
                    <a:pt x="567" y="173"/>
                  </a:lnTo>
                  <a:lnTo>
                    <a:pt x="574" y="187"/>
                  </a:lnTo>
                  <a:lnTo>
                    <a:pt x="577" y="204"/>
                  </a:lnTo>
                  <a:lnTo>
                    <a:pt x="577" y="221"/>
                  </a:lnTo>
                  <a:lnTo>
                    <a:pt x="572" y="236"/>
                  </a:lnTo>
                  <a:lnTo>
                    <a:pt x="562" y="247"/>
                  </a:lnTo>
                  <a:lnTo>
                    <a:pt x="548" y="254"/>
                  </a:lnTo>
                  <a:lnTo>
                    <a:pt x="527" y="254"/>
                  </a:lnTo>
                  <a:lnTo>
                    <a:pt x="549" y="273"/>
                  </a:lnTo>
                  <a:lnTo>
                    <a:pt x="565" y="295"/>
                  </a:lnTo>
                  <a:lnTo>
                    <a:pt x="574" y="322"/>
                  </a:lnTo>
                  <a:lnTo>
                    <a:pt x="577" y="347"/>
                  </a:lnTo>
                  <a:lnTo>
                    <a:pt x="574" y="371"/>
                  </a:lnTo>
                  <a:lnTo>
                    <a:pt x="562" y="388"/>
                  </a:lnTo>
                  <a:lnTo>
                    <a:pt x="544" y="398"/>
                  </a:lnTo>
                  <a:lnTo>
                    <a:pt x="520" y="396"/>
                  </a:lnTo>
                  <a:lnTo>
                    <a:pt x="535" y="419"/>
                  </a:lnTo>
                  <a:lnTo>
                    <a:pt x="536" y="441"/>
                  </a:lnTo>
                  <a:lnTo>
                    <a:pt x="528" y="463"/>
                  </a:lnTo>
                  <a:lnTo>
                    <a:pt x="515" y="479"/>
                  </a:lnTo>
                  <a:lnTo>
                    <a:pt x="497" y="494"/>
                  </a:lnTo>
                  <a:lnTo>
                    <a:pt x="478" y="501"/>
                  </a:lnTo>
                  <a:lnTo>
                    <a:pt x="459" y="502"/>
                  </a:lnTo>
                  <a:lnTo>
                    <a:pt x="444" y="494"/>
                  </a:lnTo>
                  <a:lnTo>
                    <a:pt x="442" y="509"/>
                  </a:lnTo>
                  <a:lnTo>
                    <a:pt x="433" y="523"/>
                  </a:lnTo>
                  <a:lnTo>
                    <a:pt x="418" y="534"/>
                  </a:lnTo>
                  <a:lnTo>
                    <a:pt x="400" y="541"/>
                  </a:lnTo>
                  <a:lnTo>
                    <a:pt x="381" y="546"/>
                  </a:lnTo>
                  <a:lnTo>
                    <a:pt x="363" y="544"/>
                  </a:lnTo>
                  <a:lnTo>
                    <a:pt x="348" y="536"/>
                  </a:lnTo>
                  <a:lnTo>
                    <a:pt x="339" y="522"/>
                  </a:lnTo>
                  <a:lnTo>
                    <a:pt x="323" y="533"/>
                  </a:lnTo>
                  <a:lnTo>
                    <a:pt x="306" y="541"/>
                  </a:lnTo>
                  <a:lnTo>
                    <a:pt x="287" y="547"/>
                  </a:lnTo>
                  <a:lnTo>
                    <a:pt x="271" y="548"/>
                  </a:lnTo>
                  <a:lnTo>
                    <a:pt x="255" y="547"/>
                  </a:lnTo>
                  <a:lnTo>
                    <a:pt x="240" y="540"/>
                  </a:lnTo>
                  <a:lnTo>
                    <a:pt x="230" y="527"/>
                  </a:lnTo>
                  <a:lnTo>
                    <a:pt x="225" y="510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0" y="529"/>
                  </a:lnTo>
                  <a:lnTo>
                    <a:pt x="148" y="530"/>
                  </a:lnTo>
                  <a:lnTo>
                    <a:pt x="125" y="527"/>
                  </a:lnTo>
                  <a:lnTo>
                    <a:pt x="104" y="517"/>
                  </a:lnTo>
                  <a:lnTo>
                    <a:pt x="86" y="499"/>
                  </a:lnTo>
                  <a:lnTo>
                    <a:pt x="75" y="472"/>
                  </a:lnTo>
                  <a:lnTo>
                    <a:pt x="67" y="440"/>
                  </a:lnTo>
                  <a:lnTo>
                    <a:pt x="57" y="399"/>
                  </a:lnTo>
                  <a:lnTo>
                    <a:pt x="47" y="350"/>
                  </a:lnTo>
                  <a:lnTo>
                    <a:pt x="36" y="298"/>
                  </a:lnTo>
                  <a:lnTo>
                    <a:pt x="25" y="246"/>
                  </a:lnTo>
                  <a:lnTo>
                    <a:pt x="15" y="197"/>
                  </a:lnTo>
                  <a:lnTo>
                    <a:pt x="7" y="15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37"/>
            <p:cNvSpPr/>
            <p:nvPr/>
          </p:nvSpPr>
          <p:spPr>
            <a:xfrm>
              <a:off x="7572240" y="475920"/>
              <a:ext cx="324720" cy="5432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308" h="505">
                  <a:moveTo>
                    <a:pt x="5" y="384"/>
                  </a:moveTo>
                  <a:lnTo>
                    <a:pt x="0" y="399"/>
                  </a:lnTo>
                  <a:lnTo>
                    <a:pt x="0" y="422"/>
                  </a:lnTo>
                  <a:lnTo>
                    <a:pt x="5" y="446"/>
                  </a:lnTo>
                  <a:lnTo>
                    <a:pt x="16" y="468"/>
                  </a:lnTo>
                  <a:lnTo>
                    <a:pt x="31" y="489"/>
                  </a:lnTo>
                  <a:lnTo>
                    <a:pt x="52" y="502"/>
                  </a:lnTo>
                  <a:lnTo>
                    <a:pt x="78" y="505"/>
                  </a:lnTo>
                  <a:lnTo>
                    <a:pt x="108" y="495"/>
                  </a:lnTo>
                  <a:lnTo>
                    <a:pt x="154" y="470"/>
                  </a:lnTo>
                  <a:lnTo>
                    <a:pt x="189" y="443"/>
                  </a:lnTo>
                  <a:lnTo>
                    <a:pt x="215" y="415"/>
                  </a:lnTo>
                  <a:lnTo>
                    <a:pt x="235" y="387"/>
                  </a:lnTo>
                  <a:lnTo>
                    <a:pt x="248" y="357"/>
                  </a:lnTo>
                  <a:lnTo>
                    <a:pt x="256" y="328"/>
                  </a:lnTo>
                  <a:lnTo>
                    <a:pt x="259" y="298"/>
                  </a:lnTo>
                  <a:lnTo>
                    <a:pt x="259" y="266"/>
                  </a:lnTo>
                  <a:lnTo>
                    <a:pt x="259" y="235"/>
                  </a:lnTo>
                  <a:lnTo>
                    <a:pt x="257" y="203"/>
                  </a:lnTo>
                  <a:lnTo>
                    <a:pt x="257" y="170"/>
                  </a:lnTo>
                  <a:lnTo>
                    <a:pt x="259" y="136"/>
                  </a:lnTo>
                  <a:lnTo>
                    <a:pt x="264" y="103"/>
                  </a:lnTo>
                  <a:lnTo>
                    <a:pt x="272" y="69"/>
                  </a:lnTo>
                  <a:lnTo>
                    <a:pt x="287" y="35"/>
                  </a:lnTo>
                  <a:lnTo>
                    <a:pt x="308" y="0"/>
                  </a:lnTo>
                  <a:lnTo>
                    <a:pt x="267" y="23"/>
                  </a:lnTo>
                  <a:lnTo>
                    <a:pt x="231" y="46"/>
                  </a:lnTo>
                  <a:lnTo>
                    <a:pt x="201" y="69"/>
                  </a:lnTo>
                  <a:lnTo>
                    <a:pt x="175" y="91"/>
                  </a:lnTo>
                  <a:lnTo>
                    <a:pt x="154" y="114"/>
                  </a:lnTo>
                  <a:lnTo>
                    <a:pt x="136" y="135"/>
                  </a:lnTo>
                  <a:lnTo>
                    <a:pt x="121" y="155"/>
                  </a:lnTo>
                  <a:lnTo>
                    <a:pt x="108" y="172"/>
                  </a:lnTo>
                  <a:lnTo>
                    <a:pt x="102" y="193"/>
                  </a:lnTo>
                  <a:lnTo>
                    <a:pt x="95" y="221"/>
                  </a:lnTo>
                  <a:lnTo>
                    <a:pt x="87" y="253"/>
                  </a:lnTo>
                  <a:lnTo>
                    <a:pt x="76" y="288"/>
                  </a:lnTo>
                  <a:lnTo>
                    <a:pt x="65" y="322"/>
                  </a:lnTo>
                  <a:lnTo>
                    <a:pt x="48" y="350"/>
                  </a:lnTo>
                  <a:lnTo>
                    <a:pt x="29" y="373"/>
                  </a:lnTo>
                  <a:lnTo>
                    <a:pt x="5" y="384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38"/>
            <p:cNvSpPr/>
            <p:nvPr/>
          </p:nvSpPr>
          <p:spPr>
            <a:xfrm>
              <a:off x="6956280" y="674280"/>
              <a:ext cx="218880" cy="68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09" h="63">
                  <a:moveTo>
                    <a:pt x="4" y="63"/>
                  </a:moveTo>
                  <a:lnTo>
                    <a:pt x="4" y="57"/>
                  </a:lnTo>
                  <a:lnTo>
                    <a:pt x="4" y="53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10" y="39"/>
                  </a:lnTo>
                  <a:lnTo>
                    <a:pt x="25" y="32"/>
                  </a:lnTo>
                  <a:lnTo>
                    <a:pt x="42" y="25"/>
                  </a:lnTo>
                  <a:lnTo>
                    <a:pt x="62" y="18"/>
                  </a:lnTo>
                  <a:lnTo>
                    <a:pt x="83" y="11"/>
                  </a:lnTo>
                  <a:lnTo>
                    <a:pt x="106" y="5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4" y="1"/>
                  </a:lnTo>
                  <a:lnTo>
                    <a:pt x="177" y="5"/>
                  </a:lnTo>
                  <a:lnTo>
                    <a:pt x="188" y="10"/>
                  </a:lnTo>
                  <a:lnTo>
                    <a:pt x="196" y="17"/>
                  </a:lnTo>
                  <a:lnTo>
                    <a:pt x="203" y="24"/>
                  </a:lnTo>
                  <a:lnTo>
                    <a:pt x="206" y="31"/>
                  </a:lnTo>
                  <a:lnTo>
                    <a:pt x="209" y="38"/>
                  </a:lnTo>
                  <a:lnTo>
                    <a:pt x="209" y="43"/>
                  </a:lnTo>
                  <a:lnTo>
                    <a:pt x="188" y="43"/>
                  </a:lnTo>
                  <a:lnTo>
                    <a:pt x="162" y="46"/>
                  </a:lnTo>
                  <a:lnTo>
                    <a:pt x="132" y="49"/>
                  </a:lnTo>
                  <a:lnTo>
                    <a:pt x="99" y="52"/>
                  </a:lnTo>
                  <a:lnTo>
                    <a:pt x="68" y="55"/>
                  </a:lnTo>
                  <a:lnTo>
                    <a:pt x="41" y="59"/>
                  </a:lnTo>
                  <a:lnTo>
                    <a:pt x="18" y="62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39"/>
            <p:cNvSpPr/>
            <p:nvPr/>
          </p:nvSpPr>
          <p:spPr>
            <a:xfrm>
              <a:off x="6553080" y="708840"/>
              <a:ext cx="405360" cy="5148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86" h="49">
                  <a:moveTo>
                    <a:pt x="0" y="45"/>
                  </a:moveTo>
                  <a:lnTo>
                    <a:pt x="15" y="39"/>
                  </a:lnTo>
                  <a:lnTo>
                    <a:pt x="33" y="33"/>
                  </a:lnTo>
                  <a:lnTo>
                    <a:pt x="52" y="28"/>
                  </a:lnTo>
                  <a:lnTo>
                    <a:pt x="75" y="24"/>
                  </a:lnTo>
                  <a:lnTo>
                    <a:pt x="99" y="19"/>
                  </a:lnTo>
                  <a:lnTo>
                    <a:pt x="125" y="15"/>
                  </a:lnTo>
                  <a:lnTo>
                    <a:pt x="152" y="12"/>
                  </a:lnTo>
                  <a:lnTo>
                    <a:pt x="180" y="8"/>
                  </a:lnTo>
                  <a:lnTo>
                    <a:pt x="208" y="7"/>
                  </a:lnTo>
                  <a:lnTo>
                    <a:pt x="235" y="4"/>
                  </a:lnTo>
                  <a:lnTo>
                    <a:pt x="261" y="2"/>
                  </a:lnTo>
                  <a:lnTo>
                    <a:pt x="287" y="1"/>
                  </a:lnTo>
                  <a:lnTo>
                    <a:pt x="311" y="0"/>
                  </a:lnTo>
                  <a:lnTo>
                    <a:pt x="332" y="0"/>
                  </a:lnTo>
                  <a:lnTo>
                    <a:pt x="352" y="0"/>
                  </a:lnTo>
                  <a:lnTo>
                    <a:pt x="369" y="1"/>
                  </a:lnTo>
                  <a:lnTo>
                    <a:pt x="379" y="9"/>
                  </a:lnTo>
                  <a:lnTo>
                    <a:pt x="384" y="19"/>
                  </a:lnTo>
                  <a:lnTo>
                    <a:pt x="386" y="32"/>
                  </a:lnTo>
                  <a:lnTo>
                    <a:pt x="384" y="45"/>
                  </a:lnTo>
                  <a:lnTo>
                    <a:pt x="381" y="47"/>
                  </a:lnTo>
                  <a:lnTo>
                    <a:pt x="371" y="49"/>
                  </a:lnTo>
                  <a:lnTo>
                    <a:pt x="356" y="49"/>
                  </a:lnTo>
                  <a:lnTo>
                    <a:pt x="337" y="49"/>
                  </a:lnTo>
                  <a:lnTo>
                    <a:pt x="314" y="49"/>
                  </a:lnTo>
                  <a:lnTo>
                    <a:pt x="288" y="47"/>
                  </a:lnTo>
                  <a:lnTo>
                    <a:pt x="261" y="46"/>
                  </a:lnTo>
                  <a:lnTo>
                    <a:pt x="230" y="45"/>
                  </a:lnTo>
                  <a:lnTo>
                    <a:pt x="199" y="43"/>
                  </a:lnTo>
                  <a:lnTo>
                    <a:pt x="167" y="42"/>
                  </a:lnTo>
                  <a:lnTo>
                    <a:pt x="135" y="40"/>
                  </a:lnTo>
                  <a:lnTo>
                    <a:pt x="104" y="40"/>
                  </a:lnTo>
                  <a:lnTo>
                    <a:pt x="75" y="40"/>
                  </a:lnTo>
                  <a:lnTo>
                    <a:pt x="47" y="40"/>
                  </a:lnTo>
                  <a:lnTo>
                    <a:pt x="21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40"/>
            <p:cNvSpPr/>
            <p:nvPr/>
          </p:nvSpPr>
          <p:spPr>
            <a:xfrm>
              <a:off x="7004520" y="700200"/>
              <a:ext cx="54720" cy="345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2" h="34">
                  <a:moveTo>
                    <a:pt x="51" y="28"/>
                  </a:moveTo>
                  <a:lnTo>
                    <a:pt x="52" y="27"/>
                  </a:lnTo>
                  <a:lnTo>
                    <a:pt x="52" y="25"/>
                  </a:lnTo>
                  <a:lnTo>
                    <a:pt x="52" y="24"/>
                  </a:lnTo>
                  <a:lnTo>
                    <a:pt x="52" y="23"/>
                  </a:lnTo>
                  <a:lnTo>
                    <a:pt x="51" y="14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15" y="34"/>
                  </a:lnTo>
                  <a:lnTo>
                    <a:pt x="28" y="33"/>
                  </a:lnTo>
                  <a:lnTo>
                    <a:pt x="41" y="3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41"/>
            <p:cNvSpPr/>
            <p:nvPr/>
          </p:nvSpPr>
          <p:spPr>
            <a:xfrm>
              <a:off x="7648560" y="1267200"/>
              <a:ext cx="77760" cy="66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3" y="18"/>
                  </a:lnTo>
                  <a:lnTo>
                    <a:pt x="19" y="27"/>
                  </a:lnTo>
                  <a:lnTo>
                    <a:pt x="29" y="32"/>
                  </a:lnTo>
                  <a:lnTo>
                    <a:pt x="40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1" y="53"/>
                  </a:lnTo>
                  <a:lnTo>
                    <a:pt x="47" y="60"/>
                  </a:lnTo>
                  <a:lnTo>
                    <a:pt x="32" y="63"/>
                  </a:lnTo>
                  <a:lnTo>
                    <a:pt x="18" y="63"/>
                  </a:lnTo>
                  <a:lnTo>
                    <a:pt x="6" y="58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2"/>
            <p:cNvSpPr/>
            <p:nvPr/>
          </p:nvSpPr>
          <p:spPr>
            <a:xfrm>
              <a:off x="7589160" y="1337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5" y="18"/>
                  </a:lnTo>
                  <a:lnTo>
                    <a:pt x="21" y="25"/>
                  </a:lnTo>
                  <a:lnTo>
                    <a:pt x="31" y="32"/>
                  </a:lnTo>
                  <a:lnTo>
                    <a:pt x="41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2" y="54"/>
                  </a:lnTo>
                  <a:lnTo>
                    <a:pt x="47" y="59"/>
                  </a:lnTo>
                  <a:lnTo>
                    <a:pt x="32" y="63"/>
                  </a:lnTo>
                  <a:lnTo>
                    <a:pt x="18" y="62"/>
                  </a:lnTo>
                  <a:lnTo>
                    <a:pt x="7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3"/>
            <p:cNvSpPr/>
            <p:nvPr/>
          </p:nvSpPr>
          <p:spPr>
            <a:xfrm>
              <a:off x="6599160" y="734760"/>
              <a:ext cx="352440" cy="126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33" h="12">
                  <a:moveTo>
                    <a:pt x="0" y="12"/>
                  </a:moveTo>
                  <a:lnTo>
                    <a:pt x="6" y="11"/>
                  </a:lnTo>
                  <a:lnTo>
                    <a:pt x="21" y="9"/>
                  </a:lnTo>
                  <a:lnTo>
                    <a:pt x="38" y="8"/>
                  </a:lnTo>
                  <a:lnTo>
                    <a:pt x="61" y="8"/>
                  </a:lnTo>
                  <a:lnTo>
                    <a:pt x="85" y="7"/>
                  </a:lnTo>
                  <a:lnTo>
                    <a:pt x="115" y="5"/>
                  </a:lnTo>
                  <a:lnTo>
                    <a:pt x="144" y="4"/>
                  </a:lnTo>
                  <a:lnTo>
                    <a:pt x="174" y="2"/>
                  </a:lnTo>
                  <a:lnTo>
                    <a:pt x="204" y="1"/>
                  </a:lnTo>
                  <a:lnTo>
                    <a:pt x="233" y="1"/>
                  </a:lnTo>
                  <a:lnTo>
                    <a:pt x="259" y="1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19" y="1"/>
                  </a:lnTo>
                  <a:lnTo>
                    <a:pt x="330" y="1"/>
                  </a:lnTo>
                  <a:lnTo>
                    <a:pt x="333" y="2"/>
                  </a:lnTo>
                  <a:lnTo>
                    <a:pt x="330" y="4"/>
                  </a:lnTo>
                  <a:lnTo>
                    <a:pt x="320" y="4"/>
                  </a:lnTo>
                  <a:lnTo>
                    <a:pt x="306" y="5"/>
                  </a:lnTo>
                  <a:lnTo>
                    <a:pt x="286" y="5"/>
                  </a:lnTo>
                  <a:lnTo>
                    <a:pt x="264" y="7"/>
                  </a:lnTo>
                  <a:lnTo>
                    <a:pt x="238" y="7"/>
                  </a:lnTo>
                  <a:lnTo>
                    <a:pt x="210" y="7"/>
                  </a:lnTo>
                  <a:lnTo>
                    <a:pt x="181" y="7"/>
                  </a:lnTo>
                  <a:lnTo>
                    <a:pt x="152" y="8"/>
                  </a:lnTo>
                  <a:lnTo>
                    <a:pt x="123" y="8"/>
                  </a:lnTo>
                  <a:lnTo>
                    <a:pt x="94" y="8"/>
                  </a:lnTo>
                  <a:lnTo>
                    <a:pt x="68" y="9"/>
                  </a:lnTo>
                  <a:lnTo>
                    <a:pt x="45" y="9"/>
                  </a:lnTo>
                  <a:lnTo>
                    <a:pt x="24" y="11"/>
                  </a:lnTo>
                  <a:lnTo>
                    <a:pt x="9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4"/>
            <p:cNvSpPr/>
            <p:nvPr/>
          </p:nvSpPr>
          <p:spPr>
            <a:xfrm>
              <a:off x="7008840" y="702000"/>
              <a:ext cx="46080" cy="32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5" h="31">
                  <a:moveTo>
                    <a:pt x="45" y="25"/>
                  </a:moveTo>
                  <a:lnTo>
                    <a:pt x="45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3" y="13"/>
                  </a:lnTo>
                  <a:lnTo>
                    <a:pt x="38" y="6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11" y="31"/>
                  </a:lnTo>
                  <a:lnTo>
                    <a:pt x="24" y="30"/>
                  </a:lnTo>
                  <a:lnTo>
                    <a:pt x="35" y="27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5"/>
            <p:cNvSpPr/>
            <p:nvPr/>
          </p:nvSpPr>
          <p:spPr>
            <a:xfrm>
              <a:off x="7017120" y="711000"/>
              <a:ext cx="29520" cy="23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24">
                  <a:moveTo>
                    <a:pt x="26" y="23"/>
                  </a:moveTo>
                  <a:lnTo>
                    <a:pt x="27" y="20"/>
                  </a:lnTo>
                  <a:lnTo>
                    <a:pt x="27" y="18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7" y="8"/>
                  </a:lnTo>
                  <a:lnTo>
                    <a:pt x="24" y="4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5" y="24"/>
                  </a:lnTo>
                  <a:lnTo>
                    <a:pt x="9" y="24"/>
                  </a:lnTo>
                  <a:lnTo>
                    <a:pt x="16" y="23"/>
                  </a:lnTo>
                  <a:lnTo>
                    <a:pt x="21" y="23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6"/>
            <p:cNvSpPr/>
            <p:nvPr/>
          </p:nvSpPr>
          <p:spPr>
            <a:xfrm>
              <a:off x="7038720" y="713160"/>
              <a:ext cx="12240" cy="12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" h="11">
                  <a:moveTo>
                    <a:pt x="7" y="11"/>
                  </a:moveTo>
                  <a:lnTo>
                    <a:pt x="8" y="11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346760" y="2286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990720" y="1066680"/>
            <a:ext cx="739116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料浆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用预先加热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0.2mol/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5486400" y="4952880"/>
          <a:ext cx="320040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4952880"/>
                    <a:ext cx="3200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sp>
          <p:nvSpPr>
            <p:cNvPr id="358" name="Freeform 3"/>
            <p:cNvSpPr/>
            <p:nvPr/>
          </p:nvSpPr>
          <p:spPr>
            <a:xfrm>
              <a:off x="0" y="5358240"/>
              <a:ext cx="2759040" cy="149940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1499400"/>
                <a:gd name="textAreaBottom" fmla="*/ 1499760 h 149940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"/>
            <p:cNvSpPr/>
            <p:nvPr/>
          </p:nvSpPr>
          <p:spPr>
            <a:xfrm>
              <a:off x="2562120" y="5333400"/>
              <a:ext cx="2570400" cy="152460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1524600"/>
                <a:gd name="textAreaBottom" fmla="*/ 1524960 h 152460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4951440" y="5422680"/>
              <a:ext cx="2425680" cy="143532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"/>
            <p:cNvSpPr/>
            <p:nvPr/>
          </p:nvSpPr>
          <p:spPr>
            <a:xfrm>
              <a:off x="7029360" y="5257800"/>
              <a:ext cx="2114640" cy="160020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969840" y="5915520"/>
              <a:ext cx="1332000" cy="94248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0" y="5901480"/>
              <a:ext cx="882720" cy="956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956160"/>
                <a:gd name="textAreaBottom" fmla="*/ 956520 h 95616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612880" y="5861880"/>
              <a:ext cx="2222640" cy="99612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5270400" y="5811480"/>
              <a:ext cx="1427400" cy="104652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046520"/>
                <a:gd name="textAreaBottom" fmla="*/ 1046880 h 104652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6878520" y="5814720"/>
              <a:ext cx="2265480" cy="104328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12"/>
          <p:cNvSpPr/>
          <p:nvPr/>
        </p:nvSpPr>
        <p:spPr>
          <a:xfrm>
            <a:off x="380880" y="380880"/>
            <a:ext cx="838224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硝酸磷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用中性柠檬酸铵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预先加热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的水浴中保温振荡提取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0min(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磷酸二氢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样溶解定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摇匀，用于测定水溶性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6274440" y="30492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Object 2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2415960" cy="1371600"/>
          </a:xfrm>
          <a:prstGeom prst="rect">
            <a:avLst/>
          </a:prstGeom>
          <a:ln w="0">
            <a:noFill/>
          </a:ln>
        </p:spPr>
      </p:pic>
      <p:sp>
        <p:nvSpPr>
          <p:cNvPr id="370" name="Line 3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0880" y="380880"/>
            <a:ext cx="830592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测定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磷肥原料制备的待测液体积不同，再测定水溶性磷和枸溶性磷时，需重点注意按体积成固定比例吸取。计算时也要注意取用倍数的差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结果计算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结果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结果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一、二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二氢钾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990720" y="1447920"/>
            <a:ext cx="70866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复混肥料是氮磷钾三种养分中，至少含有二种养分标明量的由化学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掺混方法制成的肥料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包括混合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通常所说的复混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和复合肥料两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技术要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GB 15063——200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外观：粒状、条状或片状产品，无机械杂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04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1066680" y="1600200"/>
            <a:ext cx="723924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热水溶解，四苯硼钾质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样品提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00m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试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-5g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中，加水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加热微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冷却，转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容量瓶中，水定容、摇匀，干过滤，弃取最初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522880" y="685800"/>
            <a:ext cx="39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第三节 复混肥料中钾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5800" y="1143000"/>
            <a:ext cx="7848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试样不含有机物或氰氨基化合物，直接吸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烧杯中，加浓度为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13408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液处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533520" y="365040"/>
            <a:ext cx="83055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试样中含有有机物或氰氨基化合物，吸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加入饱和溴水溶液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(50g/L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，将溶液煮沸至无溴的颜色，若仍有其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有机物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的颜色，待溶液冷却后，加入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活性炭，充分搅拌吸附，然后过滤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水洗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水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加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685800" y="1295280"/>
            <a:ext cx="784872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不断搅拌下，逐滴加入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四苯硼钠沉淀剂溶液，加入量为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氧化钾加四苯硼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并过量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继续搅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静置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上，用倾泻法将沉淀用已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恒重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号玻璃坩埚抽滤，用洗涤剂洗涤沉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-7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用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最后用水洗涤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将坩埚底部用吸水纸吸干，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烘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90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冷却、称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测定样品同步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308680" y="457200"/>
            <a:ext cx="11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沉淀、过滤、干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533520" y="609480"/>
            <a:ext cx="81532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2O%=(m1-m0)*0.1314*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、空白产生的沉淀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1314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四苯硼钾换算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系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平行测定结果的绝对差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小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-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大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4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685800" y="2133720"/>
            <a:ext cx="78487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在微酸性溶液中，加入过量的硝酸银溶液，使氯离子转化为氯化银沉淀，用邻苯二甲酸二丁酯包裹沉淀，以硫酸铁铵为指示剂，用硫氰酸铵标准液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(NH4SCN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0.05mol/L)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滴定剩余的硝酸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082240" y="53352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第四节  复混肥料中氯离子含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021320" y="1371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Object 1024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990720" y="1600200"/>
            <a:ext cx="73152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取试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10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含量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~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烧杯中，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，缓慢加热至沸，继续微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冷却至室温，溶液转移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容量瓶中，定容、摇匀，干过滤，弃取最初的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51800" y="609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Object 1024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728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865600" y="5334120"/>
            <a:ext cx="6277680" cy="1523880"/>
            <a:chOff x="2865600" y="5334120"/>
            <a:chExt cx="6277680" cy="1523880"/>
          </a:xfrm>
        </p:grpSpPr>
        <p:sp>
          <p:nvSpPr>
            <p:cNvPr id="388" name="Freeform 3"/>
            <p:cNvSpPr/>
            <p:nvPr/>
          </p:nvSpPr>
          <p:spPr>
            <a:xfrm>
              <a:off x="3974760" y="5379120"/>
              <a:ext cx="5168520" cy="14785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3970080" y="6187680"/>
              <a:ext cx="1478160" cy="67032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2865600" y="5334120"/>
              <a:ext cx="1822680" cy="15238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3417480" y="6001560"/>
              <a:ext cx="66240" cy="85608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3391920" y="5972760"/>
              <a:ext cx="117720" cy="54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3273480" y="6001560"/>
              <a:ext cx="471960" cy="59544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552480" y="6588000"/>
              <a:ext cx="268560" cy="131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Object 1024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584360" cy="962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1"/>
          <p:cNvSpPr/>
          <p:nvPr/>
        </p:nvSpPr>
        <p:spPr>
          <a:xfrm>
            <a:off x="380880" y="914400"/>
            <a:ext cx="82296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准确吸取一定量的滤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含氯离子约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mg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三角瓶中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+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的硝酸溶液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.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硝酸银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0.05mol/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，摇动至沉淀分层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邻苯二甲酸二丁酯，摇动片刻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加水至溶液总体积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2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硫酸铁铵指示剂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80g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溶解后加几滴硫酸使棕色消失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用浓度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0.05mol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的硫氰酸铵标准液滴定剩余的硝酸银，至出现浅橙红色或砖红色为止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10454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滴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6"/>
          <p:cNvSpPr/>
          <p:nvPr/>
        </p:nvSpPr>
        <p:spPr>
          <a:xfrm>
            <a:off x="6095880" y="5197320"/>
            <a:ext cx="1623960" cy="166068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1023" h="1046">
                <a:moveTo>
                  <a:pt x="725" y="1046"/>
                </a:moveTo>
                <a:lnTo>
                  <a:pt x="718" y="1046"/>
                </a:lnTo>
                <a:lnTo>
                  <a:pt x="701" y="1046"/>
                </a:lnTo>
                <a:lnTo>
                  <a:pt x="672" y="1046"/>
                </a:lnTo>
                <a:lnTo>
                  <a:pt x="634" y="1043"/>
                </a:lnTo>
                <a:lnTo>
                  <a:pt x="589" y="1043"/>
                </a:lnTo>
                <a:lnTo>
                  <a:pt x="541" y="1043"/>
                </a:lnTo>
                <a:lnTo>
                  <a:pt x="489" y="1043"/>
                </a:lnTo>
                <a:lnTo>
                  <a:pt x="434" y="1041"/>
                </a:lnTo>
                <a:lnTo>
                  <a:pt x="380" y="1041"/>
                </a:lnTo>
                <a:lnTo>
                  <a:pt x="327" y="1041"/>
                </a:lnTo>
                <a:lnTo>
                  <a:pt x="278" y="1041"/>
                </a:lnTo>
                <a:lnTo>
                  <a:pt x="234" y="1038"/>
                </a:lnTo>
                <a:lnTo>
                  <a:pt x="198" y="1038"/>
                </a:lnTo>
                <a:lnTo>
                  <a:pt x="169" y="1041"/>
                </a:lnTo>
                <a:lnTo>
                  <a:pt x="149" y="1041"/>
                </a:lnTo>
                <a:lnTo>
                  <a:pt x="142" y="1041"/>
                </a:lnTo>
                <a:lnTo>
                  <a:pt x="109" y="996"/>
                </a:lnTo>
                <a:lnTo>
                  <a:pt x="85" y="943"/>
                </a:lnTo>
                <a:lnTo>
                  <a:pt x="67" y="884"/>
                </a:lnTo>
                <a:lnTo>
                  <a:pt x="58" y="824"/>
                </a:lnTo>
                <a:lnTo>
                  <a:pt x="56" y="765"/>
                </a:lnTo>
                <a:lnTo>
                  <a:pt x="62" y="710"/>
                </a:lnTo>
                <a:lnTo>
                  <a:pt x="76" y="659"/>
                </a:lnTo>
                <a:lnTo>
                  <a:pt x="93" y="620"/>
                </a:lnTo>
                <a:lnTo>
                  <a:pt x="87" y="601"/>
                </a:lnTo>
                <a:lnTo>
                  <a:pt x="78" y="580"/>
                </a:lnTo>
                <a:lnTo>
                  <a:pt x="69" y="553"/>
                </a:lnTo>
                <a:lnTo>
                  <a:pt x="56" y="524"/>
                </a:lnTo>
                <a:lnTo>
                  <a:pt x="42" y="498"/>
                </a:lnTo>
                <a:lnTo>
                  <a:pt x="29" y="471"/>
                </a:lnTo>
                <a:lnTo>
                  <a:pt x="13" y="447"/>
                </a:lnTo>
                <a:lnTo>
                  <a:pt x="0" y="432"/>
                </a:lnTo>
                <a:lnTo>
                  <a:pt x="11" y="432"/>
                </a:lnTo>
                <a:lnTo>
                  <a:pt x="25" y="434"/>
                </a:lnTo>
                <a:lnTo>
                  <a:pt x="42" y="442"/>
                </a:lnTo>
                <a:lnTo>
                  <a:pt x="62" y="450"/>
                </a:lnTo>
                <a:lnTo>
                  <a:pt x="80" y="463"/>
                </a:lnTo>
                <a:lnTo>
                  <a:pt x="98" y="477"/>
                </a:lnTo>
                <a:lnTo>
                  <a:pt x="114" y="490"/>
                </a:lnTo>
                <a:lnTo>
                  <a:pt x="125" y="503"/>
                </a:lnTo>
                <a:lnTo>
                  <a:pt x="111" y="479"/>
                </a:lnTo>
                <a:lnTo>
                  <a:pt x="100" y="450"/>
                </a:lnTo>
                <a:lnTo>
                  <a:pt x="87" y="424"/>
                </a:lnTo>
                <a:lnTo>
                  <a:pt x="73" y="397"/>
                </a:lnTo>
                <a:lnTo>
                  <a:pt x="62" y="373"/>
                </a:lnTo>
                <a:lnTo>
                  <a:pt x="56" y="355"/>
                </a:lnTo>
                <a:lnTo>
                  <a:pt x="49" y="341"/>
                </a:lnTo>
                <a:lnTo>
                  <a:pt x="47" y="336"/>
                </a:lnTo>
                <a:lnTo>
                  <a:pt x="69" y="347"/>
                </a:lnTo>
                <a:lnTo>
                  <a:pt x="91" y="357"/>
                </a:lnTo>
                <a:lnTo>
                  <a:pt x="111" y="368"/>
                </a:lnTo>
                <a:lnTo>
                  <a:pt x="129" y="376"/>
                </a:lnTo>
                <a:lnTo>
                  <a:pt x="145" y="384"/>
                </a:lnTo>
                <a:lnTo>
                  <a:pt x="156" y="392"/>
                </a:lnTo>
                <a:lnTo>
                  <a:pt x="165" y="394"/>
                </a:lnTo>
                <a:lnTo>
                  <a:pt x="167" y="397"/>
                </a:lnTo>
                <a:lnTo>
                  <a:pt x="189" y="373"/>
                </a:lnTo>
                <a:lnTo>
                  <a:pt x="218" y="349"/>
                </a:lnTo>
                <a:lnTo>
                  <a:pt x="249" y="331"/>
                </a:lnTo>
                <a:lnTo>
                  <a:pt x="285" y="312"/>
                </a:lnTo>
                <a:lnTo>
                  <a:pt x="320" y="299"/>
                </a:lnTo>
                <a:lnTo>
                  <a:pt x="354" y="288"/>
                </a:lnTo>
                <a:lnTo>
                  <a:pt x="385" y="283"/>
                </a:lnTo>
                <a:lnTo>
                  <a:pt x="412" y="283"/>
                </a:lnTo>
                <a:lnTo>
                  <a:pt x="420" y="254"/>
                </a:lnTo>
                <a:lnTo>
                  <a:pt x="432" y="222"/>
                </a:lnTo>
                <a:lnTo>
                  <a:pt x="443" y="185"/>
                </a:lnTo>
                <a:lnTo>
                  <a:pt x="456" y="151"/>
                </a:lnTo>
                <a:lnTo>
                  <a:pt x="467" y="116"/>
                </a:lnTo>
                <a:lnTo>
                  <a:pt x="476" y="90"/>
                </a:lnTo>
                <a:lnTo>
                  <a:pt x="483" y="71"/>
                </a:lnTo>
                <a:lnTo>
                  <a:pt x="485" y="66"/>
                </a:lnTo>
                <a:lnTo>
                  <a:pt x="485" y="116"/>
                </a:lnTo>
                <a:lnTo>
                  <a:pt x="489" y="183"/>
                </a:lnTo>
                <a:lnTo>
                  <a:pt x="496" y="246"/>
                </a:lnTo>
                <a:lnTo>
                  <a:pt x="505" y="291"/>
                </a:lnTo>
                <a:lnTo>
                  <a:pt x="581" y="90"/>
                </a:lnTo>
                <a:lnTo>
                  <a:pt x="576" y="138"/>
                </a:lnTo>
                <a:lnTo>
                  <a:pt x="572" y="193"/>
                </a:lnTo>
                <a:lnTo>
                  <a:pt x="567" y="246"/>
                </a:lnTo>
                <a:lnTo>
                  <a:pt x="567" y="291"/>
                </a:lnTo>
                <a:lnTo>
                  <a:pt x="578" y="291"/>
                </a:lnTo>
                <a:lnTo>
                  <a:pt x="592" y="294"/>
                </a:lnTo>
                <a:lnTo>
                  <a:pt x="605" y="299"/>
                </a:lnTo>
                <a:lnTo>
                  <a:pt x="618" y="304"/>
                </a:lnTo>
                <a:lnTo>
                  <a:pt x="629" y="310"/>
                </a:lnTo>
                <a:lnTo>
                  <a:pt x="638" y="318"/>
                </a:lnTo>
                <a:lnTo>
                  <a:pt x="647" y="323"/>
                </a:lnTo>
                <a:lnTo>
                  <a:pt x="652" y="328"/>
                </a:lnTo>
                <a:lnTo>
                  <a:pt x="649" y="304"/>
                </a:lnTo>
                <a:lnTo>
                  <a:pt x="652" y="281"/>
                </a:lnTo>
                <a:lnTo>
                  <a:pt x="658" y="254"/>
                </a:lnTo>
                <a:lnTo>
                  <a:pt x="669" y="228"/>
                </a:lnTo>
                <a:lnTo>
                  <a:pt x="683" y="204"/>
                </a:lnTo>
                <a:lnTo>
                  <a:pt x="696" y="183"/>
                </a:lnTo>
                <a:lnTo>
                  <a:pt x="710" y="167"/>
                </a:lnTo>
                <a:lnTo>
                  <a:pt x="725" y="156"/>
                </a:lnTo>
                <a:lnTo>
                  <a:pt x="725" y="119"/>
                </a:lnTo>
                <a:lnTo>
                  <a:pt x="732" y="77"/>
                </a:lnTo>
                <a:lnTo>
                  <a:pt x="738" y="42"/>
                </a:lnTo>
                <a:lnTo>
                  <a:pt x="743" y="26"/>
                </a:lnTo>
                <a:lnTo>
                  <a:pt x="747" y="58"/>
                </a:lnTo>
                <a:lnTo>
                  <a:pt x="754" y="95"/>
                </a:lnTo>
                <a:lnTo>
                  <a:pt x="761" y="130"/>
                </a:lnTo>
                <a:lnTo>
                  <a:pt x="770" y="151"/>
                </a:lnTo>
                <a:lnTo>
                  <a:pt x="785" y="108"/>
                </a:lnTo>
                <a:lnTo>
                  <a:pt x="807" y="58"/>
                </a:lnTo>
                <a:lnTo>
                  <a:pt x="825" y="18"/>
                </a:lnTo>
                <a:lnTo>
                  <a:pt x="834" y="0"/>
                </a:lnTo>
                <a:lnTo>
                  <a:pt x="839" y="32"/>
                </a:lnTo>
                <a:lnTo>
                  <a:pt x="839" y="66"/>
                </a:lnTo>
                <a:lnTo>
                  <a:pt x="839" y="98"/>
                </a:lnTo>
                <a:lnTo>
                  <a:pt x="836" y="119"/>
                </a:lnTo>
                <a:lnTo>
                  <a:pt x="852" y="127"/>
                </a:lnTo>
                <a:lnTo>
                  <a:pt x="867" y="135"/>
                </a:lnTo>
                <a:lnTo>
                  <a:pt x="881" y="148"/>
                </a:lnTo>
                <a:lnTo>
                  <a:pt x="894" y="161"/>
                </a:lnTo>
                <a:lnTo>
                  <a:pt x="903" y="177"/>
                </a:lnTo>
                <a:lnTo>
                  <a:pt x="910" y="196"/>
                </a:lnTo>
                <a:lnTo>
                  <a:pt x="916" y="214"/>
                </a:lnTo>
                <a:lnTo>
                  <a:pt x="916" y="236"/>
                </a:lnTo>
                <a:lnTo>
                  <a:pt x="925" y="233"/>
                </a:lnTo>
                <a:lnTo>
                  <a:pt x="939" y="236"/>
                </a:lnTo>
                <a:lnTo>
                  <a:pt x="952" y="241"/>
                </a:lnTo>
                <a:lnTo>
                  <a:pt x="970" y="249"/>
                </a:lnTo>
                <a:lnTo>
                  <a:pt x="985" y="257"/>
                </a:lnTo>
                <a:lnTo>
                  <a:pt x="1001" y="267"/>
                </a:lnTo>
                <a:lnTo>
                  <a:pt x="1014" y="278"/>
                </a:lnTo>
                <a:lnTo>
                  <a:pt x="1023" y="288"/>
                </a:lnTo>
                <a:lnTo>
                  <a:pt x="1008" y="296"/>
                </a:lnTo>
                <a:lnTo>
                  <a:pt x="988" y="299"/>
                </a:lnTo>
                <a:lnTo>
                  <a:pt x="968" y="302"/>
                </a:lnTo>
                <a:lnTo>
                  <a:pt x="947" y="304"/>
                </a:lnTo>
                <a:lnTo>
                  <a:pt x="925" y="304"/>
                </a:lnTo>
                <a:lnTo>
                  <a:pt x="907" y="304"/>
                </a:lnTo>
                <a:lnTo>
                  <a:pt x="890" y="302"/>
                </a:lnTo>
                <a:lnTo>
                  <a:pt x="876" y="302"/>
                </a:lnTo>
                <a:lnTo>
                  <a:pt x="872" y="323"/>
                </a:lnTo>
                <a:lnTo>
                  <a:pt x="865" y="344"/>
                </a:lnTo>
                <a:lnTo>
                  <a:pt x="856" y="365"/>
                </a:lnTo>
                <a:lnTo>
                  <a:pt x="847" y="386"/>
                </a:lnTo>
                <a:lnTo>
                  <a:pt x="834" y="405"/>
                </a:lnTo>
                <a:lnTo>
                  <a:pt x="821" y="421"/>
                </a:lnTo>
                <a:lnTo>
                  <a:pt x="805" y="434"/>
                </a:lnTo>
                <a:lnTo>
                  <a:pt x="787" y="445"/>
                </a:lnTo>
                <a:lnTo>
                  <a:pt x="803" y="484"/>
                </a:lnTo>
                <a:lnTo>
                  <a:pt x="816" y="530"/>
                </a:lnTo>
                <a:lnTo>
                  <a:pt x="830" y="580"/>
                </a:lnTo>
                <a:lnTo>
                  <a:pt x="839" y="628"/>
                </a:lnTo>
                <a:lnTo>
                  <a:pt x="845" y="680"/>
                </a:lnTo>
                <a:lnTo>
                  <a:pt x="847" y="728"/>
                </a:lnTo>
                <a:lnTo>
                  <a:pt x="843" y="776"/>
                </a:lnTo>
                <a:lnTo>
                  <a:pt x="830" y="821"/>
                </a:lnTo>
                <a:lnTo>
                  <a:pt x="927" y="882"/>
                </a:lnTo>
                <a:lnTo>
                  <a:pt x="783" y="916"/>
                </a:lnTo>
                <a:lnTo>
                  <a:pt x="770" y="953"/>
                </a:lnTo>
                <a:lnTo>
                  <a:pt x="752" y="996"/>
                </a:lnTo>
                <a:lnTo>
                  <a:pt x="734" y="1030"/>
                </a:lnTo>
                <a:lnTo>
                  <a:pt x="725" y="1046"/>
                </a:lnTo>
                <a:close/>
              </a:path>
            </a:pathLst>
          </a:custGeom>
          <a:solidFill>
            <a:srgbClr val="70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3"/>
          <p:cNvGrpSpPr/>
          <p:nvPr/>
        </p:nvGrpSpPr>
        <p:grpSpPr>
          <a:xfrm>
            <a:off x="6095880" y="4038480"/>
            <a:ext cx="2661840" cy="2819160"/>
            <a:chOff x="6095880" y="4038480"/>
            <a:chExt cx="2661840" cy="2819160"/>
          </a:xfrm>
        </p:grpSpPr>
        <p:grpSp>
          <p:nvGrpSpPr>
            <p:cNvPr id="400" name="Group 22"/>
            <p:cNvGrpSpPr/>
            <p:nvPr/>
          </p:nvGrpSpPr>
          <p:grpSpPr>
            <a:xfrm>
              <a:off x="6095880" y="4038480"/>
              <a:ext cx="2568960" cy="2756520"/>
              <a:chOff x="6095880" y="4038480"/>
              <a:chExt cx="2568960" cy="2756520"/>
            </a:xfrm>
          </p:grpSpPr>
          <p:sp>
            <p:nvSpPr>
              <p:cNvPr id="401" name="Freeform 3"/>
              <p:cNvSpPr/>
              <p:nvPr/>
            </p:nvSpPr>
            <p:spPr>
              <a:xfrm>
                <a:off x="6095880" y="4038480"/>
                <a:ext cx="1094760" cy="265284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887" h="3658">
                    <a:moveTo>
                      <a:pt x="507" y="3589"/>
                    </a:moveTo>
                    <a:lnTo>
                      <a:pt x="294" y="3658"/>
                    </a:lnTo>
                    <a:lnTo>
                      <a:pt x="298" y="1417"/>
                    </a:lnTo>
                    <a:lnTo>
                      <a:pt x="269" y="1417"/>
                    </a:lnTo>
                    <a:lnTo>
                      <a:pt x="238" y="1412"/>
                    </a:lnTo>
                    <a:lnTo>
                      <a:pt x="211" y="1404"/>
                    </a:lnTo>
                    <a:lnTo>
                      <a:pt x="185" y="1391"/>
                    </a:lnTo>
                    <a:lnTo>
                      <a:pt x="160" y="1369"/>
                    </a:lnTo>
                    <a:lnTo>
                      <a:pt x="136" y="1340"/>
                    </a:lnTo>
                    <a:lnTo>
                      <a:pt x="118" y="1306"/>
                    </a:lnTo>
                    <a:lnTo>
                      <a:pt x="100" y="1258"/>
                    </a:lnTo>
                    <a:lnTo>
                      <a:pt x="85" y="1200"/>
                    </a:lnTo>
                    <a:lnTo>
                      <a:pt x="71" y="1131"/>
                    </a:lnTo>
                    <a:lnTo>
                      <a:pt x="58" y="1054"/>
                    </a:lnTo>
                    <a:lnTo>
                      <a:pt x="47" y="975"/>
                    </a:lnTo>
                    <a:lnTo>
                      <a:pt x="33" y="898"/>
                    </a:lnTo>
                    <a:lnTo>
                      <a:pt x="22" y="824"/>
                    </a:lnTo>
                    <a:lnTo>
                      <a:pt x="13" y="760"/>
                    </a:lnTo>
                    <a:lnTo>
                      <a:pt x="5" y="710"/>
                    </a:lnTo>
                    <a:lnTo>
                      <a:pt x="0" y="668"/>
                    </a:lnTo>
                    <a:lnTo>
                      <a:pt x="7" y="633"/>
                    </a:lnTo>
                    <a:lnTo>
                      <a:pt x="22" y="612"/>
                    </a:lnTo>
                    <a:lnTo>
                      <a:pt x="40" y="599"/>
                    </a:lnTo>
                    <a:lnTo>
                      <a:pt x="62" y="599"/>
                    </a:lnTo>
                    <a:lnTo>
                      <a:pt x="87" y="609"/>
                    </a:lnTo>
                    <a:lnTo>
                      <a:pt x="107" y="636"/>
                    </a:lnTo>
                    <a:lnTo>
                      <a:pt x="122" y="673"/>
                    </a:lnTo>
                    <a:lnTo>
                      <a:pt x="134" y="726"/>
                    </a:lnTo>
                    <a:lnTo>
                      <a:pt x="142" y="789"/>
                    </a:lnTo>
                    <a:lnTo>
                      <a:pt x="151" y="864"/>
                    </a:lnTo>
                    <a:lnTo>
                      <a:pt x="162" y="940"/>
                    </a:lnTo>
                    <a:lnTo>
                      <a:pt x="171" y="1015"/>
                    </a:lnTo>
                    <a:lnTo>
                      <a:pt x="185" y="1081"/>
                    </a:lnTo>
                    <a:lnTo>
                      <a:pt x="198" y="1136"/>
                    </a:lnTo>
                    <a:lnTo>
                      <a:pt x="216" y="1173"/>
                    </a:lnTo>
                    <a:lnTo>
                      <a:pt x="234" y="1195"/>
                    </a:lnTo>
                    <a:lnTo>
                      <a:pt x="251" y="1208"/>
                    </a:lnTo>
                    <a:lnTo>
                      <a:pt x="269" y="1218"/>
                    </a:lnTo>
                    <a:lnTo>
                      <a:pt x="285" y="1224"/>
                    </a:lnTo>
                    <a:lnTo>
                      <a:pt x="300" y="1224"/>
                    </a:lnTo>
                    <a:lnTo>
                      <a:pt x="316" y="1221"/>
                    </a:lnTo>
                    <a:lnTo>
                      <a:pt x="329" y="1218"/>
                    </a:lnTo>
                    <a:lnTo>
                      <a:pt x="338" y="1211"/>
                    </a:lnTo>
                    <a:lnTo>
                      <a:pt x="340" y="1203"/>
                    </a:lnTo>
                    <a:lnTo>
                      <a:pt x="340" y="1195"/>
                    </a:lnTo>
                    <a:lnTo>
                      <a:pt x="340" y="1187"/>
                    </a:lnTo>
                    <a:lnTo>
                      <a:pt x="340" y="1179"/>
                    </a:lnTo>
                    <a:lnTo>
                      <a:pt x="331" y="1187"/>
                    </a:lnTo>
                    <a:lnTo>
                      <a:pt x="320" y="1189"/>
                    </a:lnTo>
                    <a:lnTo>
                      <a:pt x="309" y="1187"/>
                    </a:lnTo>
                    <a:lnTo>
                      <a:pt x="294" y="1179"/>
                    </a:lnTo>
                    <a:lnTo>
                      <a:pt x="280" y="1166"/>
                    </a:lnTo>
                    <a:lnTo>
                      <a:pt x="267" y="1150"/>
                    </a:lnTo>
                    <a:lnTo>
                      <a:pt x="254" y="1131"/>
                    </a:lnTo>
                    <a:lnTo>
                      <a:pt x="245" y="1107"/>
                    </a:lnTo>
                    <a:lnTo>
                      <a:pt x="229" y="1046"/>
                    </a:lnTo>
                    <a:lnTo>
                      <a:pt x="218" y="970"/>
                    </a:lnTo>
                    <a:lnTo>
                      <a:pt x="209" y="893"/>
                    </a:lnTo>
                    <a:lnTo>
                      <a:pt x="205" y="826"/>
                    </a:lnTo>
                    <a:lnTo>
                      <a:pt x="209" y="776"/>
                    </a:lnTo>
                    <a:lnTo>
                      <a:pt x="218" y="734"/>
                    </a:lnTo>
                    <a:lnTo>
                      <a:pt x="234" y="707"/>
                    </a:lnTo>
                    <a:lnTo>
                      <a:pt x="254" y="697"/>
                    </a:lnTo>
                    <a:lnTo>
                      <a:pt x="271" y="702"/>
                    </a:lnTo>
                    <a:lnTo>
                      <a:pt x="283" y="718"/>
                    </a:lnTo>
                    <a:lnTo>
                      <a:pt x="287" y="742"/>
                    </a:lnTo>
                    <a:lnTo>
                      <a:pt x="287" y="776"/>
                    </a:lnTo>
                    <a:lnTo>
                      <a:pt x="287" y="858"/>
                    </a:lnTo>
                    <a:lnTo>
                      <a:pt x="294" y="988"/>
                    </a:lnTo>
                    <a:lnTo>
                      <a:pt x="311" y="1094"/>
                    </a:lnTo>
                    <a:lnTo>
                      <a:pt x="347" y="1110"/>
                    </a:lnTo>
                    <a:lnTo>
                      <a:pt x="351" y="962"/>
                    </a:lnTo>
                    <a:lnTo>
                      <a:pt x="360" y="699"/>
                    </a:lnTo>
                    <a:lnTo>
                      <a:pt x="367" y="427"/>
                    </a:lnTo>
                    <a:lnTo>
                      <a:pt x="374" y="252"/>
                    </a:lnTo>
                    <a:lnTo>
                      <a:pt x="376" y="204"/>
                    </a:lnTo>
                    <a:lnTo>
                      <a:pt x="378" y="159"/>
                    </a:lnTo>
                    <a:lnTo>
                      <a:pt x="380" y="117"/>
                    </a:lnTo>
                    <a:lnTo>
                      <a:pt x="385" y="77"/>
                    </a:lnTo>
                    <a:lnTo>
                      <a:pt x="392" y="45"/>
                    </a:lnTo>
                    <a:lnTo>
                      <a:pt x="405" y="21"/>
                    </a:lnTo>
                    <a:lnTo>
                      <a:pt x="420" y="5"/>
                    </a:lnTo>
                    <a:lnTo>
                      <a:pt x="445" y="0"/>
                    </a:lnTo>
                    <a:lnTo>
                      <a:pt x="467" y="5"/>
                    </a:lnTo>
                    <a:lnTo>
                      <a:pt x="483" y="24"/>
                    </a:lnTo>
                    <a:lnTo>
                      <a:pt x="492" y="53"/>
                    </a:lnTo>
                    <a:lnTo>
                      <a:pt x="496" y="85"/>
                    </a:lnTo>
                    <a:lnTo>
                      <a:pt x="498" y="119"/>
                    </a:lnTo>
                    <a:lnTo>
                      <a:pt x="496" y="154"/>
                    </a:lnTo>
                    <a:lnTo>
                      <a:pt x="494" y="185"/>
                    </a:lnTo>
                    <a:lnTo>
                      <a:pt x="494" y="209"/>
                    </a:lnTo>
                    <a:lnTo>
                      <a:pt x="492" y="374"/>
                    </a:lnTo>
                    <a:lnTo>
                      <a:pt x="485" y="691"/>
                    </a:lnTo>
                    <a:lnTo>
                      <a:pt x="480" y="1017"/>
                    </a:lnTo>
                    <a:lnTo>
                      <a:pt x="483" y="1211"/>
                    </a:lnTo>
                    <a:lnTo>
                      <a:pt x="500" y="1192"/>
                    </a:lnTo>
                    <a:lnTo>
                      <a:pt x="518" y="1173"/>
                    </a:lnTo>
                    <a:lnTo>
                      <a:pt x="534" y="1150"/>
                    </a:lnTo>
                    <a:lnTo>
                      <a:pt x="547" y="1123"/>
                    </a:lnTo>
                    <a:lnTo>
                      <a:pt x="558" y="1091"/>
                    </a:lnTo>
                    <a:lnTo>
                      <a:pt x="567" y="1054"/>
                    </a:lnTo>
                    <a:lnTo>
                      <a:pt x="574" y="1009"/>
                    </a:lnTo>
                    <a:lnTo>
                      <a:pt x="576" y="959"/>
                    </a:lnTo>
                    <a:lnTo>
                      <a:pt x="578" y="845"/>
                    </a:lnTo>
                    <a:lnTo>
                      <a:pt x="583" y="736"/>
                    </a:lnTo>
                    <a:lnTo>
                      <a:pt x="583" y="641"/>
                    </a:lnTo>
                    <a:lnTo>
                      <a:pt x="581" y="572"/>
                    </a:lnTo>
                    <a:lnTo>
                      <a:pt x="581" y="532"/>
                    </a:lnTo>
                    <a:lnTo>
                      <a:pt x="589" y="509"/>
                    </a:lnTo>
                    <a:lnTo>
                      <a:pt x="601" y="498"/>
                    </a:lnTo>
                    <a:lnTo>
                      <a:pt x="616" y="498"/>
                    </a:lnTo>
                    <a:lnTo>
                      <a:pt x="634" y="506"/>
                    </a:lnTo>
                    <a:lnTo>
                      <a:pt x="647" y="527"/>
                    </a:lnTo>
                    <a:lnTo>
                      <a:pt x="656" y="564"/>
                    </a:lnTo>
                    <a:lnTo>
                      <a:pt x="661" y="615"/>
                    </a:lnTo>
                    <a:lnTo>
                      <a:pt x="663" y="657"/>
                    </a:lnTo>
                    <a:lnTo>
                      <a:pt x="667" y="723"/>
                    </a:lnTo>
                    <a:lnTo>
                      <a:pt x="669" y="808"/>
                    </a:lnTo>
                    <a:lnTo>
                      <a:pt x="669" y="898"/>
                    </a:lnTo>
                    <a:lnTo>
                      <a:pt x="661" y="996"/>
                    </a:lnTo>
                    <a:lnTo>
                      <a:pt x="643" y="1089"/>
                    </a:lnTo>
                    <a:lnTo>
                      <a:pt x="609" y="1171"/>
                    </a:lnTo>
                    <a:lnTo>
                      <a:pt x="561" y="1240"/>
                    </a:lnTo>
                    <a:lnTo>
                      <a:pt x="618" y="1195"/>
                    </a:lnTo>
                    <a:lnTo>
                      <a:pt x="663" y="1152"/>
                    </a:lnTo>
                    <a:lnTo>
                      <a:pt x="696" y="1107"/>
                    </a:lnTo>
                    <a:lnTo>
                      <a:pt x="723" y="1065"/>
                    </a:lnTo>
                    <a:lnTo>
                      <a:pt x="741" y="1022"/>
                    </a:lnTo>
                    <a:lnTo>
                      <a:pt x="754" y="975"/>
                    </a:lnTo>
                    <a:lnTo>
                      <a:pt x="763" y="927"/>
                    </a:lnTo>
                    <a:lnTo>
                      <a:pt x="770" y="877"/>
                    </a:lnTo>
                    <a:lnTo>
                      <a:pt x="774" y="824"/>
                    </a:lnTo>
                    <a:lnTo>
                      <a:pt x="778" y="768"/>
                    </a:lnTo>
                    <a:lnTo>
                      <a:pt x="783" y="713"/>
                    </a:lnTo>
                    <a:lnTo>
                      <a:pt x="787" y="662"/>
                    </a:lnTo>
                    <a:lnTo>
                      <a:pt x="794" y="620"/>
                    </a:lnTo>
                    <a:lnTo>
                      <a:pt x="805" y="585"/>
                    </a:lnTo>
                    <a:lnTo>
                      <a:pt x="819" y="562"/>
                    </a:lnTo>
                    <a:lnTo>
                      <a:pt x="836" y="554"/>
                    </a:lnTo>
                    <a:lnTo>
                      <a:pt x="867" y="570"/>
                    </a:lnTo>
                    <a:lnTo>
                      <a:pt x="883" y="615"/>
                    </a:lnTo>
                    <a:lnTo>
                      <a:pt x="887" y="676"/>
                    </a:lnTo>
                    <a:lnTo>
                      <a:pt x="887" y="744"/>
                    </a:lnTo>
                    <a:lnTo>
                      <a:pt x="885" y="766"/>
                    </a:lnTo>
                    <a:lnTo>
                      <a:pt x="883" y="797"/>
                    </a:lnTo>
                    <a:lnTo>
                      <a:pt x="881" y="837"/>
                    </a:lnTo>
                    <a:lnTo>
                      <a:pt x="874" y="885"/>
                    </a:lnTo>
                    <a:lnTo>
                      <a:pt x="865" y="935"/>
                    </a:lnTo>
                    <a:lnTo>
                      <a:pt x="854" y="991"/>
                    </a:lnTo>
                    <a:lnTo>
                      <a:pt x="839" y="1049"/>
                    </a:lnTo>
                    <a:lnTo>
                      <a:pt x="821" y="1107"/>
                    </a:lnTo>
                    <a:lnTo>
                      <a:pt x="798" y="1166"/>
                    </a:lnTo>
                    <a:lnTo>
                      <a:pt x="770" y="1221"/>
                    </a:lnTo>
                    <a:lnTo>
                      <a:pt x="736" y="1274"/>
                    </a:lnTo>
                    <a:lnTo>
                      <a:pt x="698" y="1322"/>
                    </a:lnTo>
                    <a:lnTo>
                      <a:pt x="654" y="1362"/>
                    </a:lnTo>
                    <a:lnTo>
                      <a:pt x="603" y="1393"/>
                    </a:lnTo>
                    <a:lnTo>
                      <a:pt x="545" y="1417"/>
                    </a:lnTo>
                    <a:lnTo>
                      <a:pt x="478" y="1430"/>
                    </a:lnTo>
                    <a:lnTo>
                      <a:pt x="483" y="1814"/>
                    </a:lnTo>
                    <a:lnTo>
                      <a:pt x="494" y="2553"/>
                    </a:lnTo>
                    <a:lnTo>
                      <a:pt x="503" y="3269"/>
                    </a:lnTo>
                    <a:lnTo>
                      <a:pt x="507" y="358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4"/>
              <p:cNvSpPr/>
              <p:nvPr/>
            </p:nvSpPr>
            <p:spPr>
              <a:xfrm>
                <a:off x="6902640" y="4672080"/>
                <a:ext cx="831600" cy="174240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0 h 1742400"/>
                  <a:gd name="textAreaBottom" fmla="*/ 1742760 h 1742400"/>
                </a:gdLst>
                <a:ahLst/>
                <a:rect l="textAreaLeft" t="textAreaTop" r="textAreaRight" b="textAreaBottom"/>
                <a:pathLst>
                  <a:path w="674" h="2403">
                    <a:moveTo>
                      <a:pt x="371" y="2352"/>
                    </a:moveTo>
                    <a:lnTo>
                      <a:pt x="209" y="2403"/>
                    </a:lnTo>
                    <a:lnTo>
                      <a:pt x="227" y="1038"/>
                    </a:lnTo>
                    <a:lnTo>
                      <a:pt x="205" y="1038"/>
                    </a:lnTo>
                    <a:lnTo>
                      <a:pt x="180" y="1036"/>
                    </a:lnTo>
                    <a:lnTo>
                      <a:pt x="160" y="1030"/>
                    </a:lnTo>
                    <a:lnTo>
                      <a:pt x="138" y="1020"/>
                    </a:lnTo>
                    <a:lnTo>
                      <a:pt x="120" y="1007"/>
                    </a:lnTo>
                    <a:lnTo>
                      <a:pt x="102" y="985"/>
                    </a:lnTo>
                    <a:lnTo>
                      <a:pt x="89" y="959"/>
                    </a:lnTo>
                    <a:lnTo>
                      <a:pt x="76" y="925"/>
                    </a:lnTo>
                    <a:lnTo>
                      <a:pt x="64" y="882"/>
                    </a:lnTo>
                    <a:lnTo>
                      <a:pt x="53" y="829"/>
                    </a:lnTo>
                    <a:lnTo>
                      <a:pt x="44" y="774"/>
                    </a:lnTo>
                    <a:lnTo>
                      <a:pt x="33" y="715"/>
                    </a:lnTo>
                    <a:lnTo>
                      <a:pt x="24" y="657"/>
                    </a:lnTo>
                    <a:lnTo>
                      <a:pt x="18" y="604"/>
                    </a:lnTo>
                    <a:lnTo>
                      <a:pt x="9" y="559"/>
                    </a:lnTo>
                    <a:lnTo>
                      <a:pt x="2" y="522"/>
                    </a:lnTo>
                    <a:lnTo>
                      <a:pt x="0" y="490"/>
                    </a:lnTo>
                    <a:lnTo>
                      <a:pt x="4" y="466"/>
                    </a:lnTo>
                    <a:lnTo>
                      <a:pt x="15" y="448"/>
                    </a:lnTo>
                    <a:lnTo>
                      <a:pt x="31" y="440"/>
                    </a:lnTo>
                    <a:lnTo>
                      <a:pt x="47" y="440"/>
                    </a:lnTo>
                    <a:lnTo>
                      <a:pt x="64" y="448"/>
                    </a:lnTo>
                    <a:lnTo>
                      <a:pt x="80" y="466"/>
                    </a:lnTo>
                    <a:lnTo>
                      <a:pt x="91" y="493"/>
                    </a:lnTo>
                    <a:lnTo>
                      <a:pt x="100" y="533"/>
                    </a:lnTo>
                    <a:lnTo>
                      <a:pt x="107" y="580"/>
                    </a:lnTo>
                    <a:lnTo>
                      <a:pt x="116" y="633"/>
                    </a:lnTo>
                    <a:lnTo>
                      <a:pt x="122" y="689"/>
                    </a:lnTo>
                    <a:lnTo>
                      <a:pt x="131" y="744"/>
                    </a:lnTo>
                    <a:lnTo>
                      <a:pt x="140" y="792"/>
                    </a:lnTo>
                    <a:lnTo>
                      <a:pt x="151" y="834"/>
                    </a:lnTo>
                    <a:lnTo>
                      <a:pt x="165" y="861"/>
                    </a:lnTo>
                    <a:lnTo>
                      <a:pt x="178" y="877"/>
                    </a:lnTo>
                    <a:lnTo>
                      <a:pt x="191" y="887"/>
                    </a:lnTo>
                    <a:lnTo>
                      <a:pt x="205" y="893"/>
                    </a:lnTo>
                    <a:lnTo>
                      <a:pt x="218" y="898"/>
                    </a:lnTo>
                    <a:lnTo>
                      <a:pt x="229" y="898"/>
                    </a:lnTo>
                    <a:lnTo>
                      <a:pt x="240" y="895"/>
                    </a:lnTo>
                    <a:lnTo>
                      <a:pt x="249" y="893"/>
                    </a:lnTo>
                    <a:lnTo>
                      <a:pt x="256" y="887"/>
                    </a:lnTo>
                    <a:lnTo>
                      <a:pt x="258" y="882"/>
                    </a:lnTo>
                    <a:lnTo>
                      <a:pt x="260" y="874"/>
                    </a:lnTo>
                    <a:lnTo>
                      <a:pt x="260" y="869"/>
                    </a:lnTo>
                    <a:lnTo>
                      <a:pt x="260" y="864"/>
                    </a:lnTo>
                    <a:lnTo>
                      <a:pt x="253" y="872"/>
                    </a:lnTo>
                    <a:lnTo>
                      <a:pt x="245" y="872"/>
                    </a:lnTo>
                    <a:lnTo>
                      <a:pt x="233" y="872"/>
                    </a:lnTo>
                    <a:lnTo>
                      <a:pt x="225" y="866"/>
                    </a:lnTo>
                    <a:lnTo>
                      <a:pt x="213" y="856"/>
                    </a:lnTo>
                    <a:lnTo>
                      <a:pt x="202" y="845"/>
                    </a:lnTo>
                    <a:lnTo>
                      <a:pt x="193" y="829"/>
                    </a:lnTo>
                    <a:lnTo>
                      <a:pt x="187" y="813"/>
                    </a:lnTo>
                    <a:lnTo>
                      <a:pt x="173" y="768"/>
                    </a:lnTo>
                    <a:lnTo>
                      <a:pt x="165" y="710"/>
                    </a:lnTo>
                    <a:lnTo>
                      <a:pt x="158" y="654"/>
                    </a:lnTo>
                    <a:lnTo>
                      <a:pt x="156" y="607"/>
                    </a:lnTo>
                    <a:lnTo>
                      <a:pt x="158" y="570"/>
                    </a:lnTo>
                    <a:lnTo>
                      <a:pt x="165" y="538"/>
                    </a:lnTo>
                    <a:lnTo>
                      <a:pt x="176" y="519"/>
                    </a:lnTo>
                    <a:lnTo>
                      <a:pt x="191" y="511"/>
                    </a:lnTo>
                    <a:lnTo>
                      <a:pt x="207" y="514"/>
                    </a:lnTo>
                    <a:lnTo>
                      <a:pt x="213" y="527"/>
                    </a:lnTo>
                    <a:lnTo>
                      <a:pt x="218" y="546"/>
                    </a:lnTo>
                    <a:lnTo>
                      <a:pt x="218" y="570"/>
                    </a:lnTo>
                    <a:lnTo>
                      <a:pt x="218" y="631"/>
                    </a:lnTo>
                    <a:lnTo>
                      <a:pt x="222" y="723"/>
                    </a:lnTo>
                    <a:lnTo>
                      <a:pt x="236" y="803"/>
                    </a:lnTo>
                    <a:lnTo>
                      <a:pt x="265" y="813"/>
                    </a:lnTo>
                    <a:lnTo>
                      <a:pt x="267" y="705"/>
                    </a:lnTo>
                    <a:lnTo>
                      <a:pt x="273" y="514"/>
                    </a:lnTo>
                    <a:lnTo>
                      <a:pt x="278" y="315"/>
                    </a:lnTo>
                    <a:lnTo>
                      <a:pt x="285" y="186"/>
                    </a:lnTo>
                    <a:lnTo>
                      <a:pt x="287" y="117"/>
                    </a:lnTo>
                    <a:lnTo>
                      <a:pt x="291" y="58"/>
                    </a:lnTo>
                    <a:lnTo>
                      <a:pt x="307" y="16"/>
                    </a:lnTo>
                    <a:lnTo>
                      <a:pt x="338" y="0"/>
                    </a:lnTo>
                    <a:lnTo>
                      <a:pt x="369" y="19"/>
                    </a:lnTo>
                    <a:lnTo>
                      <a:pt x="378" y="64"/>
                    </a:lnTo>
                    <a:lnTo>
                      <a:pt x="378" y="114"/>
                    </a:lnTo>
                    <a:lnTo>
                      <a:pt x="376" y="156"/>
                    </a:lnTo>
                    <a:lnTo>
                      <a:pt x="374" y="276"/>
                    </a:lnTo>
                    <a:lnTo>
                      <a:pt x="369" y="509"/>
                    </a:lnTo>
                    <a:lnTo>
                      <a:pt x="365" y="747"/>
                    </a:lnTo>
                    <a:lnTo>
                      <a:pt x="367" y="887"/>
                    </a:lnTo>
                    <a:lnTo>
                      <a:pt x="380" y="874"/>
                    </a:lnTo>
                    <a:lnTo>
                      <a:pt x="394" y="861"/>
                    </a:lnTo>
                    <a:lnTo>
                      <a:pt x="405" y="842"/>
                    </a:lnTo>
                    <a:lnTo>
                      <a:pt x="416" y="824"/>
                    </a:lnTo>
                    <a:lnTo>
                      <a:pt x="425" y="800"/>
                    </a:lnTo>
                    <a:lnTo>
                      <a:pt x="431" y="774"/>
                    </a:lnTo>
                    <a:lnTo>
                      <a:pt x="436" y="742"/>
                    </a:lnTo>
                    <a:lnTo>
                      <a:pt x="438" y="705"/>
                    </a:lnTo>
                    <a:lnTo>
                      <a:pt x="440" y="623"/>
                    </a:lnTo>
                    <a:lnTo>
                      <a:pt x="442" y="540"/>
                    </a:lnTo>
                    <a:lnTo>
                      <a:pt x="442" y="472"/>
                    </a:lnTo>
                    <a:lnTo>
                      <a:pt x="442" y="421"/>
                    </a:lnTo>
                    <a:lnTo>
                      <a:pt x="442" y="392"/>
                    </a:lnTo>
                    <a:lnTo>
                      <a:pt x="447" y="374"/>
                    </a:lnTo>
                    <a:lnTo>
                      <a:pt x="456" y="366"/>
                    </a:lnTo>
                    <a:lnTo>
                      <a:pt x="467" y="366"/>
                    </a:lnTo>
                    <a:lnTo>
                      <a:pt x="480" y="374"/>
                    </a:lnTo>
                    <a:lnTo>
                      <a:pt x="491" y="390"/>
                    </a:lnTo>
                    <a:lnTo>
                      <a:pt x="498" y="413"/>
                    </a:lnTo>
                    <a:lnTo>
                      <a:pt x="500" y="450"/>
                    </a:lnTo>
                    <a:lnTo>
                      <a:pt x="503" y="482"/>
                    </a:lnTo>
                    <a:lnTo>
                      <a:pt x="505" y="530"/>
                    </a:lnTo>
                    <a:lnTo>
                      <a:pt x="507" y="591"/>
                    </a:lnTo>
                    <a:lnTo>
                      <a:pt x="507" y="660"/>
                    </a:lnTo>
                    <a:lnTo>
                      <a:pt x="500" y="731"/>
                    </a:lnTo>
                    <a:lnTo>
                      <a:pt x="487" y="797"/>
                    </a:lnTo>
                    <a:lnTo>
                      <a:pt x="463" y="858"/>
                    </a:lnTo>
                    <a:lnTo>
                      <a:pt x="427" y="909"/>
                    </a:lnTo>
                    <a:lnTo>
                      <a:pt x="469" y="877"/>
                    </a:lnTo>
                    <a:lnTo>
                      <a:pt x="503" y="845"/>
                    </a:lnTo>
                    <a:lnTo>
                      <a:pt x="529" y="813"/>
                    </a:lnTo>
                    <a:lnTo>
                      <a:pt x="549" y="782"/>
                    </a:lnTo>
                    <a:lnTo>
                      <a:pt x="563" y="750"/>
                    </a:lnTo>
                    <a:lnTo>
                      <a:pt x="571" y="715"/>
                    </a:lnTo>
                    <a:lnTo>
                      <a:pt x="578" y="681"/>
                    </a:lnTo>
                    <a:lnTo>
                      <a:pt x="583" y="644"/>
                    </a:lnTo>
                    <a:lnTo>
                      <a:pt x="589" y="562"/>
                    </a:lnTo>
                    <a:lnTo>
                      <a:pt x="598" y="485"/>
                    </a:lnTo>
                    <a:lnTo>
                      <a:pt x="609" y="429"/>
                    </a:lnTo>
                    <a:lnTo>
                      <a:pt x="634" y="405"/>
                    </a:lnTo>
                    <a:lnTo>
                      <a:pt x="658" y="419"/>
                    </a:lnTo>
                    <a:lnTo>
                      <a:pt x="672" y="450"/>
                    </a:lnTo>
                    <a:lnTo>
                      <a:pt x="674" y="498"/>
                    </a:lnTo>
                    <a:lnTo>
                      <a:pt x="674" y="546"/>
                    </a:lnTo>
                    <a:lnTo>
                      <a:pt x="672" y="586"/>
                    </a:lnTo>
                    <a:lnTo>
                      <a:pt x="663" y="649"/>
                    </a:lnTo>
                    <a:lnTo>
                      <a:pt x="647" y="726"/>
                    </a:lnTo>
                    <a:lnTo>
                      <a:pt x="623" y="811"/>
                    </a:lnTo>
                    <a:lnTo>
                      <a:pt x="585" y="895"/>
                    </a:lnTo>
                    <a:lnTo>
                      <a:pt x="529" y="967"/>
                    </a:lnTo>
                    <a:lnTo>
                      <a:pt x="456" y="1023"/>
                    </a:lnTo>
                    <a:lnTo>
                      <a:pt x="362" y="1046"/>
                    </a:lnTo>
                    <a:lnTo>
                      <a:pt x="365" y="1285"/>
                    </a:lnTo>
                    <a:lnTo>
                      <a:pt x="367" y="1730"/>
                    </a:lnTo>
                    <a:lnTo>
                      <a:pt x="369" y="2159"/>
                    </a:lnTo>
                    <a:lnTo>
                      <a:pt x="371" y="23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5"/>
              <p:cNvSpPr/>
              <p:nvPr/>
            </p:nvSpPr>
            <p:spPr>
              <a:xfrm>
                <a:off x="7679160" y="4407480"/>
                <a:ext cx="985680" cy="2387520"/>
              </a:xfrm>
              <a:custGeom>
                <a:avLst/>
                <a:gdLst>
                  <a:gd name="textAreaLeft" fmla="*/ 0 w 985680"/>
                  <a:gd name="textAreaRight" fmla="*/ 986040 w 985680"/>
                  <a:gd name="textAreaTop" fmla="*/ 0 h 2387520"/>
                  <a:gd name="textAreaBottom" fmla="*/ 2387880 h 2387520"/>
                </a:gdLst>
                <a:ahLst/>
                <a:rect l="textAreaLeft" t="textAreaTop" r="textAreaRight" b="textAreaBottom"/>
                <a:pathLst>
                  <a:path w="799" h="3292">
                    <a:moveTo>
                      <a:pt x="456" y="3231"/>
                    </a:moveTo>
                    <a:lnTo>
                      <a:pt x="263" y="3292"/>
                    </a:lnTo>
                    <a:lnTo>
                      <a:pt x="267" y="1274"/>
                    </a:lnTo>
                    <a:lnTo>
                      <a:pt x="240" y="1274"/>
                    </a:lnTo>
                    <a:lnTo>
                      <a:pt x="214" y="1271"/>
                    </a:lnTo>
                    <a:lnTo>
                      <a:pt x="189" y="1266"/>
                    </a:lnTo>
                    <a:lnTo>
                      <a:pt x="165" y="1252"/>
                    </a:lnTo>
                    <a:lnTo>
                      <a:pt x="143" y="1234"/>
                    </a:lnTo>
                    <a:lnTo>
                      <a:pt x="123" y="1207"/>
                    </a:lnTo>
                    <a:lnTo>
                      <a:pt x="105" y="1176"/>
                    </a:lnTo>
                    <a:lnTo>
                      <a:pt x="89" y="1133"/>
                    </a:lnTo>
                    <a:lnTo>
                      <a:pt x="76" y="1080"/>
                    </a:lnTo>
                    <a:lnTo>
                      <a:pt x="63" y="1017"/>
                    </a:lnTo>
                    <a:lnTo>
                      <a:pt x="51" y="951"/>
                    </a:lnTo>
                    <a:lnTo>
                      <a:pt x="40" y="879"/>
                    </a:lnTo>
                    <a:lnTo>
                      <a:pt x="29" y="807"/>
                    </a:lnTo>
                    <a:lnTo>
                      <a:pt x="20" y="741"/>
                    </a:lnTo>
                    <a:lnTo>
                      <a:pt x="11" y="686"/>
                    </a:lnTo>
                    <a:lnTo>
                      <a:pt x="3" y="641"/>
                    </a:lnTo>
                    <a:lnTo>
                      <a:pt x="0" y="601"/>
                    </a:lnTo>
                    <a:lnTo>
                      <a:pt x="5" y="572"/>
                    </a:lnTo>
                    <a:lnTo>
                      <a:pt x="18" y="551"/>
                    </a:lnTo>
                    <a:lnTo>
                      <a:pt x="36" y="537"/>
                    </a:lnTo>
                    <a:lnTo>
                      <a:pt x="56" y="537"/>
                    </a:lnTo>
                    <a:lnTo>
                      <a:pt x="78" y="548"/>
                    </a:lnTo>
                    <a:lnTo>
                      <a:pt x="96" y="569"/>
                    </a:lnTo>
                    <a:lnTo>
                      <a:pt x="109" y="604"/>
                    </a:lnTo>
                    <a:lnTo>
                      <a:pt x="120" y="651"/>
                    </a:lnTo>
                    <a:lnTo>
                      <a:pt x="127" y="709"/>
                    </a:lnTo>
                    <a:lnTo>
                      <a:pt x="136" y="778"/>
                    </a:lnTo>
                    <a:lnTo>
                      <a:pt x="145" y="845"/>
                    </a:lnTo>
                    <a:lnTo>
                      <a:pt x="154" y="913"/>
                    </a:lnTo>
                    <a:lnTo>
                      <a:pt x="165" y="972"/>
                    </a:lnTo>
                    <a:lnTo>
                      <a:pt x="178" y="1022"/>
                    </a:lnTo>
                    <a:lnTo>
                      <a:pt x="194" y="1056"/>
                    </a:lnTo>
                    <a:lnTo>
                      <a:pt x="209" y="1075"/>
                    </a:lnTo>
                    <a:lnTo>
                      <a:pt x="225" y="1088"/>
                    </a:lnTo>
                    <a:lnTo>
                      <a:pt x="240" y="1096"/>
                    </a:lnTo>
                    <a:lnTo>
                      <a:pt x="256" y="1101"/>
                    </a:lnTo>
                    <a:lnTo>
                      <a:pt x="269" y="1101"/>
                    </a:lnTo>
                    <a:lnTo>
                      <a:pt x="283" y="1101"/>
                    </a:lnTo>
                    <a:lnTo>
                      <a:pt x="294" y="1096"/>
                    </a:lnTo>
                    <a:lnTo>
                      <a:pt x="303" y="1091"/>
                    </a:lnTo>
                    <a:lnTo>
                      <a:pt x="307" y="1083"/>
                    </a:lnTo>
                    <a:lnTo>
                      <a:pt x="307" y="1075"/>
                    </a:lnTo>
                    <a:lnTo>
                      <a:pt x="307" y="1067"/>
                    </a:lnTo>
                    <a:lnTo>
                      <a:pt x="307" y="1059"/>
                    </a:lnTo>
                    <a:lnTo>
                      <a:pt x="298" y="1067"/>
                    </a:lnTo>
                    <a:lnTo>
                      <a:pt x="289" y="1070"/>
                    </a:lnTo>
                    <a:lnTo>
                      <a:pt x="278" y="1067"/>
                    </a:lnTo>
                    <a:lnTo>
                      <a:pt x="265" y="1062"/>
                    </a:lnTo>
                    <a:lnTo>
                      <a:pt x="252" y="1051"/>
                    </a:lnTo>
                    <a:lnTo>
                      <a:pt x="240" y="1035"/>
                    </a:lnTo>
                    <a:lnTo>
                      <a:pt x="229" y="1017"/>
                    </a:lnTo>
                    <a:lnTo>
                      <a:pt x="220" y="996"/>
                    </a:lnTo>
                    <a:lnTo>
                      <a:pt x="207" y="940"/>
                    </a:lnTo>
                    <a:lnTo>
                      <a:pt x="196" y="874"/>
                    </a:lnTo>
                    <a:lnTo>
                      <a:pt x="187" y="802"/>
                    </a:lnTo>
                    <a:lnTo>
                      <a:pt x="185" y="744"/>
                    </a:lnTo>
                    <a:lnTo>
                      <a:pt x="187" y="696"/>
                    </a:lnTo>
                    <a:lnTo>
                      <a:pt x="196" y="659"/>
                    </a:lnTo>
                    <a:lnTo>
                      <a:pt x="209" y="635"/>
                    </a:lnTo>
                    <a:lnTo>
                      <a:pt x="227" y="625"/>
                    </a:lnTo>
                    <a:lnTo>
                      <a:pt x="243" y="630"/>
                    </a:lnTo>
                    <a:lnTo>
                      <a:pt x="254" y="646"/>
                    </a:lnTo>
                    <a:lnTo>
                      <a:pt x="258" y="667"/>
                    </a:lnTo>
                    <a:lnTo>
                      <a:pt x="258" y="699"/>
                    </a:lnTo>
                    <a:lnTo>
                      <a:pt x="258" y="773"/>
                    </a:lnTo>
                    <a:lnTo>
                      <a:pt x="265" y="890"/>
                    </a:lnTo>
                    <a:lnTo>
                      <a:pt x="281" y="985"/>
                    </a:lnTo>
                    <a:lnTo>
                      <a:pt x="312" y="998"/>
                    </a:lnTo>
                    <a:lnTo>
                      <a:pt x="316" y="863"/>
                    </a:lnTo>
                    <a:lnTo>
                      <a:pt x="323" y="627"/>
                    </a:lnTo>
                    <a:lnTo>
                      <a:pt x="329" y="384"/>
                    </a:lnTo>
                    <a:lnTo>
                      <a:pt x="336" y="225"/>
                    </a:lnTo>
                    <a:lnTo>
                      <a:pt x="338" y="182"/>
                    </a:lnTo>
                    <a:lnTo>
                      <a:pt x="338" y="143"/>
                    </a:lnTo>
                    <a:lnTo>
                      <a:pt x="341" y="106"/>
                    </a:lnTo>
                    <a:lnTo>
                      <a:pt x="345" y="71"/>
                    </a:lnTo>
                    <a:lnTo>
                      <a:pt x="352" y="42"/>
                    </a:lnTo>
                    <a:lnTo>
                      <a:pt x="363" y="21"/>
                    </a:lnTo>
                    <a:lnTo>
                      <a:pt x="378" y="5"/>
                    </a:lnTo>
                    <a:lnTo>
                      <a:pt x="401" y="0"/>
                    </a:lnTo>
                    <a:lnTo>
                      <a:pt x="421" y="5"/>
                    </a:lnTo>
                    <a:lnTo>
                      <a:pt x="436" y="21"/>
                    </a:lnTo>
                    <a:lnTo>
                      <a:pt x="443" y="47"/>
                    </a:lnTo>
                    <a:lnTo>
                      <a:pt x="447" y="76"/>
                    </a:lnTo>
                    <a:lnTo>
                      <a:pt x="447" y="108"/>
                    </a:lnTo>
                    <a:lnTo>
                      <a:pt x="445" y="140"/>
                    </a:lnTo>
                    <a:lnTo>
                      <a:pt x="443" y="169"/>
                    </a:lnTo>
                    <a:lnTo>
                      <a:pt x="443" y="190"/>
                    </a:lnTo>
                    <a:lnTo>
                      <a:pt x="441" y="336"/>
                    </a:lnTo>
                    <a:lnTo>
                      <a:pt x="434" y="622"/>
                    </a:lnTo>
                    <a:lnTo>
                      <a:pt x="432" y="916"/>
                    </a:lnTo>
                    <a:lnTo>
                      <a:pt x="434" y="1091"/>
                    </a:lnTo>
                    <a:lnTo>
                      <a:pt x="450" y="1075"/>
                    </a:lnTo>
                    <a:lnTo>
                      <a:pt x="465" y="1056"/>
                    </a:lnTo>
                    <a:lnTo>
                      <a:pt x="481" y="1035"/>
                    </a:lnTo>
                    <a:lnTo>
                      <a:pt x="492" y="1009"/>
                    </a:lnTo>
                    <a:lnTo>
                      <a:pt x="503" y="982"/>
                    </a:lnTo>
                    <a:lnTo>
                      <a:pt x="510" y="948"/>
                    </a:lnTo>
                    <a:lnTo>
                      <a:pt x="516" y="908"/>
                    </a:lnTo>
                    <a:lnTo>
                      <a:pt x="518" y="863"/>
                    </a:lnTo>
                    <a:lnTo>
                      <a:pt x="521" y="762"/>
                    </a:lnTo>
                    <a:lnTo>
                      <a:pt x="523" y="662"/>
                    </a:lnTo>
                    <a:lnTo>
                      <a:pt x="523" y="574"/>
                    </a:lnTo>
                    <a:lnTo>
                      <a:pt x="523" y="513"/>
                    </a:lnTo>
                    <a:lnTo>
                      <a:pt x="523" y="479"/>
                    </a:lnTo>
                    <a:lnTo>
                      <a:pt x="530" y="458"/>
                    </a:lnTo>
                    <a:lnTo>
                      <a:pt x="541" y="447"/>
                    </a:lnTo>
                    <a:lnTo>
                      <a:pt x="554" y="447"/>
                    </a:lnTo>
                    <a:lnTo>
                      <a:pt x="570" y="455"/>
                    </a:lnTo>
                    <a:lnTo>
                      <a:pt x="583" y="476"/>
                    </a:lnTo>
                    <a:lnTo>
                      <a:pt x="592" y="508"/>
                    </a:lnTo>
                    <a:lnTo>
                      <a:pt x="594" y="553"/>
                    </a:lnTo>
                    <a:lnTo>
                      <a:pt x="596" y="593"/>
                    </a:lnTo>
                    <a:lnTo>
                      <a:pt x="601" y="651"/>
                    </a:lnTo>
                    <a:lnTo>
                      <a:pt x="603" y="725"/>
                    </a:lnTo>
                    <a:lnTo>
                      <a:pt x="603" y="810"/>
                    </a:lnTo>
                    <a:lnTo>
                      <a:pt x="594" y="895"/>
                    </a:lnTo>
                    <a:lnTo>
                      <a:pt x="579" y="980"/>
                    </a:lnTo>
                    <a:lnTo>
                      <a:pt x="550" y="1054"/>
                    </a:lnTo>
                    <a:lnTo>
                      <a:pt x="505" y="1115"/>
                    </a:lnTo>
                    <a:lnTo>
                      <a:pt x="556" y="1075"/>
                    </a:lnTo>
                    <a:lnTo>
                      <a:pt x="596" y="1035"/>
                    </a:lnTo>
                    <a:lnTo>
                      <a:pt x="627" y="998"/>
                    </a:lnTo>
                    <a:lnTo>
                      <a:pt x="650" y="958"/>
                    </a:lnTo>
                    <a:lnTo>
                      <a:pt x="665" y="919"/>
                    </a:lnTo>
                    <a:lnTo>
                      <a:pt x="676" y="879"/>
                    </a:lnTo>
                    <a:lnTo>
                      <a:pt x="685" y="834"/>
                    </a:lnTo>
                    <a:lnTo>
                      <a:pt x="692" y="789"/>
                    </a:lnTo>
                    <a:lnTo>
                      <a:pt x="701" y="691"/>
                    </a:lnTo>
                    <a:lnTo>
                      <a:pt x="710" y="596"/>
                    </a:lnTo>
                    <a:lnTo>
                      <a:pt x="723" y="524"/>
                    </a:lnTo>
                    <a:lnTo>
                      <a:pt x="752" y="498"/>
                    </a:lnTo>
                    <a:lnTo>
                      <a:pt x="781" y="513"/>
                    </a:lnTo>
                    <a:lnTo>
                      <a:pt x="794" y="553"/>
                    </a:lnTo>
                    <a:lnTo>
                      <a:pt x="799" y="609"/>
                    </a:lnTo>
                    <a:lnTo>
                      <a:pt x="796" y="670"/>
                    </a:lnTo>
                    <a:lnTo>
                      <a:pt x="796" y="688"/>
                    </a:lnTo>
                    <a:lnTo>
                      <a:pt x="794" y="717"/>
                    </a:lnTo>
                    <a:lnTo>
                      <a:pt x="790" y="755"/>
                    </a:lnTo>
                    <a:lnTo>
                      <a:pt x="785" y="797"/>
                    </a:lnTo>
                    <a:lnTo>
                      <a:pt x="779" y="842"/>
                    </a:lnTo>
                    <a:lnTo>
                      <a:pt x="768" y="892"/>
                    </a:lnTo>
                    <a:lnTo>
                      <a:pt x="754" y="945"/>
                    </a:lnTo>
                    <a:lnTo>
                      <a:pt x="739" y="998"/>
                    </a:lnTo>
                    <a:lnTo>
                      <a:pt x="716" y="1049"/>
                    </a:lnTo>
                    <a:lnTo>
                      <a:pt x="692" y="1099"/>
                    </a:lnTo>
                    <a:lnTo>
                      <a:pt x="663" y="1147"/>
                    </a:lnTo>
                    <a:lnTo>
                      <a:pt x="627" y="1189"/>
                    </a:lnTo>
                    <a:lnTo>
                      <a:pt x="587" y="1226"/>
                    </a:lnTo>
                    <a:lnTo>
                      <a:pt x="541" y="1255"/>
                    </a:lnTo>
                    <a:lnTo>
                      <a:pt x="490" y="1276"/>
                    </a:lnTo>
                    <a:lnTo>
                      <a:pt x="430" y="1287"/>
                    </a:lnTo>
                    <a:lnTo>
                      <a:pt x="434" y="1634"/>
                    </a:lnTo>
                    <a:lnTo>
                      <a:pt x="443" y="2299"/>
                    </a:lnTo>
                    <a:lnTo>
                      <a:pt x="452" y="2942"/>
                    </a:lnTo>
                    <a:lnTo>
                      <a:pt x="456" y="323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6225120" y="5430600"/>
              <a:ext cx="2532600" cy="1427040"/>
              <a:chOff x="6225120" y="5430600"/>
              <a:chExt cx="2532600" cy="1427040"/>
            </a:xfrm>
          </p:grpSpPr>
          <p:sp>
            <p:nvSpPr>
              <p:cNvPr id="405" name="Freeform 6"/>
              <p:cNvSpPr/>
              <p:nvPr/>
            </p:nvSpPr>
            <p:spPr>
              <a:xfrm>
                <a:off x="7868880" y="6445080"/>
                <a:ext cx="836640" cy="412560"/>
              </a:xfrm>
              <a:custGeom>
                <a:avLst/>
                <a:gdLst>
                  <a:gd name="textAreaLeft" fmla="*/ 0 w 836640"/>
                  <a:gd name="textAreaRight" fmla="*/ 837000 w 8366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678" h="569">
                    <a:moveTo>
                      <a:pt x="551" y="569"/>
                    </a:moveTo>
                    <a:lnTo>
                      <a:pt x="0" y="567"/>
                    </a:lnTo>
                    <a:lnTo>
                      <a:pt x="9" y="516"/>
                    </a:lnTo>
                    <a:lnTo>
                      <a:pt x="29" y="461"/>
                    </a:lnTo>
                    <a:lnTo>
                      <a:pt x="60" y="402"/>
                    </a:lnTo>
                    <a:lnTo>
                      <a:pt x="98" y="344"/>
                    </a:lnTo>
                    <a:lnTo>
                      <a:pt x="138" y="289"/>
                    </a:lnTo>
                    <a:lnTo>
                      <a:pt x="180" y="244"/>
                    </a:lnTo>
                    <a:lnTo>
                      <a:pt x="222" y="206"/>
                    </a:lnTo>
                    <a:lnTo>
                      <a:pt x="258" y="185"/>
                    </a:lnTo>
                    <a:lnTo>
                      <a:pt x="258" y="161"/>
                    </a:lnTo>
                    <a:lnTo>
                      <a:pt x="267" y="132"/>
                    </a:lnTo>
                    <a:lnTo>
                      <a:pt x="278" y="103"/>
                    </a:lnTo>
                    <a:lnTo>
                      <a:pt x="293" y="77"/>
                    </a:lnTo>
                    <a:lnTo>
                      <a:pt x="309" y="50"/>
                    </a:lnTo>
                    <a:lnTo>
                      <a:pt x="322" y="26"/>
                    </a:lnTo>
                    <a:lnTo>
                      <a:pt x="333" y="10"/>
                    </a:lnTo>
                    <a:lnTo>
                      <a:pt x="336" y="0"/>
                    </a:lnTo>
                    <a:lnTo>
                      <a:pt x="367" y="159"/>
                    </a:lnTo>
                    <a:lnTo>
                      <a:pt x="502" y="34"/>
                    </a:lnTo>
                    <a:lnTo>
                      <a:pt x="445" y="201"/>
                    </a:lnTo>
                    <a:lnTo>
                      <a:pt x="465" y="225"/>
                    </a:lnTo>
                    <a:lnTo>
                      <a:pt x="485" y="257"/>
                    </a:lnTo>
                    <a:lnTo>
                      <a:pt x="498" y="289"/>
                    </a:lnTo>
                    <a:lnTo>
                      <a:pt x="509" y="323"/>
                    </a:lnTo>
                    <a:lnTo>
                      <a:pt x="527" y="315"/>
                    </a:lnTo>
                    <a:lnTo>
                      <a:pt x="547" y="310"/>
                    </a:lnTo>
                    <a:lnTo>
                      <a:pt x="571" y="304"/>
                    </a:lnTo>
                    <a:lnTo>
                      <a:pt x="598" y="302"/>
                    </a:lnTo>
                    <a:lnTo>
                      <a:pt x="622" y="302"/>
                    </a:lnTo>
                    <a:lnTo>
                      <a:pt x="645" y="299"/>
                    </a:lnTo>
                    <a:lnTo>
                      <a:pt x="665" y="299"/>
                    </a:lnTo>
                    <a:lnTo>
                      <a:pt x="678" y="302"/>
                    </a:lnTo>
                    <a:lnTo>
                      <a:pt x="665" y="318"/>
                    </a:lnTo>
                    <a:lnTo>
                      <a:pt x="649" y="334"/>
                    </a:lnTo>
                    <a:lnTo>
                      <a:pt x="631" y="350"/>
                    </a:lnTo>
                    <a:lnTo>
                      <a:pt x="616" y="363"/>
                    </a:lnTo>
                    <a:lnTo>
                      <a:pt x="598" y="379"/>
                    </a:lnTo>
                    <a:lnTo>
                      <a:pt x="582" y="392"/>
                    </a:lnTo>
                    <a:lnTo>
                      <a:pt x="567" y="402"/>
                    </a:lnTo>
                    <a:lnTo>
                      <a:pt x="554" y="410"/>
                    </a:lnTo>
                    <a:lnTo>
                      <a:pt x="562" y="450"/>
                    </a:lnTo>
                    <a:lnTo>
                      <a:pt x="567" y="493"/>
                    </a:lnTo>
                    <a:lnTo>
                      <a:pt x="562" y="532"/>
                    </a:lnTo>
                    <a:lnTo>
                      <a:pt x="551" y="569"/>
                    </a:lnTo>
                    <a:close/>
                  </a:path>
                </a:pathLst>
              </a:custGeom>
              <a:solidFill>
                <a:srgbClr val="70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>
                <a:off x="7385040" y="5430600"/>
                <a:ext cx="414720" cy="17460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36" h="241">
                    <a:moveTo>
                      <a:pt x="65" y="183"/>
                    </a:moveTo>
                    <a:lnTo>
                      <a:pt x="23" y="165"/>
                    </a:lnTo>
                    <a:lnTo>
                      <a:pt x="3" y="133"/>
                    </a:lnTo>
                    <a:lnTo>
                      <a:pt x="0" y="98"/>
                    </a:lnTo>
                    <a:lnTo>
                      <a:pt x="16" y="61"/>
                    </a:lnTo>
                    <a:lnTo>
                      <a:pt x="38" y="32"/>
                    </a:lnTo>
                    <a:lnTo>
                      <a:pt x="69" y="14"/>
                    </a:lnTo>
                    <a:lnTo>
                      <a:pt x="100" y="14"/>
                    </a:lnTo>
                    <a:lnTo>
                      <a:pt x="132" y="35"/>
                    </a:lnTo>
                    <a:lnTo>
                      <a:pt x="145" y="16"/>
                    </a:lnTo>
                    <a:lnTo>
                      <a:pt x="163" y="3"/>
                    </a:lnTo>
                    <a:lnTo>
                      <a:pt x="185" y="0"/>
                    </a:lnTo>
                    <a:lnTo>
                      <a:pt x="205" y="6"/>
                    </a:lnTo>
                    <a:lnTo>
                      <a:pt x="225" y="16"/>
                    </a:lnTo>
                    <a:lnTo>
                      <a:pt x="241" y="35"/>
                    </a:lnTo>
                    <a:lnTo>
                      <a:pt x="247" y="59"/>
                    </a:lnTo>
                    <a:lnTo>
                      <a:pt x="245" y="90"/>
                    </a:lnTo>
                    <a:lnTo>
                      <a:pt x="267" y="75"/>
                    </a:lnTo>
                    <a:lnTo>
                      <a:pt x="292" y="72"/>
                    </a:lnTo>
                    <a:lnTo>
                      <a:pt x="316" y="85"/>
                    </a:lnTo>
                    <a:lnTo>
                      <a:pt x="332" y="106"/>
                    </a:lnTo>
                    <a:lnTo>
                      <a:pt x="336" y="138"/>
                    </a:lnTo>
                    <a:lnTo>
                      <a:pt x="325" y="173"/>
                    </a:lnTo>
                    <a:lnTo>
                      <a:pt x="294" y="207"/>
                    </a:lnTo>
                    <a:lnTo>
                      <a:pt x="234" y="241"/>
                    </a:lnTo>
                    <a:lnTo>
                      <a:pt x="218" y="220"/>
                    </a:lnTo>
                    <a:lnTo>
                      <a:pt x="200" y="202"/>
                    </a:lnTo>
                    <a:lnTo>
                      <a:pt x="180" y="183"/>
                    </a:lnTo>
                    <a:lnTo>
                      <a:pt x="160" y="170"/>
                    </a:lnTo>
                    <a:lnTo>
                      <a:pt x="136" y="162"/>
                    </a:lnTo>
                    <a:lnTo>
                      <a:pt x="114" y="159"/>
                    </a:lnTo>
                    <a:lnTo>
                      <a:pt x="89" y="167"/>
                    </a:lnTo>
                    <a:lnTo>
                      <a:pt x="65" y="18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7772760" y="5980320"/>
                <a:ext cx="370080" cy="2282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0" h="315">
                    <a:moveTo>
                      <a:pt x="13" y="143"/>
                    </a:moveTo>
                    <a:lnTo>
                      <a:pt x="0" y="106"/>
                    </a:lnTo>
                    <a:lnTo>
                      <a:pt x="2" y="69"/>
                    </a:lnTo>
                    <a:lnTo>
                      <a:pt x="15" y="37"/>
                    </a:lnTo>
                    <a:lnTo>
                      <a:pt x="38" y="10"/>
                    </a:lnTo>
                    <a:lnTo>
                      <a:pt x="62" y="0"/>
                    </a:lnTo>
                    <a:lnTo>
                      <a:pt x="87" y="3"/>
                    </a:lnTo>
                    <a:lnTo>
                      <a:pt x="109" y="24"/>
                    </a:lnTo>
                    <a:lnTo>
                      <a:pt x="124" y="71"/>
                    </a:lnTo>
                    <a:lnTo>
                      <a:pt x="144" y="48"/>
                    </a:lnTo>
                    <a:lnTo>
                      <a:pt x="167" y="40"/>
                    </a:lnTo>
                    <a:lnTo>
                      <a:pt x="191" y="45"/>
                    </a:lnTo>
                    <a:lnTo>
                      <a:pt x="211" y="61"/>
                    </a:lnTo>
                    <a:lnTo>
                      <a:pt x="227" y="82"/>
                    </a:lnTo>
                    <a:lnTo>
                      <a:pt x="236" y="108"/>
                    </a:lnTo>
                    <a:lnTo>
                      <a:pt x="231" y="138"/>
                    </a:lnTo>
                    <a:lnTo>
                      <a:pt x="216" y="161"/>
                    </a:lnTo>
                    <a:lnTo>
                      <a:pt x="242" y="151"/>
                    </a:lnTo>
                    <a:lnTo>
                      <a:pt x="267" y="154"/>
                    </a:lnTo>
                    <a:lnTo>
                      <a:pt x="287" y="172"/>
                    </a:lnTo>
                    <a:lnTo>
                      <a:pt x="298" y="199"/>
                    </a:lnTo>
                    <a:lnTo>
                      <a:pt x="300" y="228"/>
                    </a:lnTo>
                    <a:lnTo>
                      <a:pt x="287" y="262"/>
                    </a:lnTo>
                    <a:lnTo>
                      <a:pt x="256" y="291"/>
                    </a:lnTo>
                    <a:lnTo>
                      <a:pt x="205" y="315"/>
                    </a:lnTo>
                    <a:lnTo>
                      <a:pt x="187" y="283"/>
                    </a:lnTo>
                    <a:lnTo>
                      <a:pt x="167" y="254"/>
                    </a:lnTo>
                    <a:lnTo>
                      <a:pt x="144" y="228"/>
                    </a:lnTo>
                    <a:lnTo>
                      <a:pt x="122" y="201"/>
                    </a:lnTo>
                    <a:lnTo>
                      <a:pt x="96" y="180"/>
                    </a:lnTo>
                    <a:lnTo>
                      <a:pt x="69" y="164"/>
                    </a:lnTo>
                    <a:lnTo>
                      <a:pt x="42" y="151"/>
                    </a:lnTo>
                    <a:lnTo>
                      <a:pt x="13" y="14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>
                <a:off x="6225120" y="5492160"/>
                <a:ext cx="2112840" cy="136548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365480"/>
                  <a:gd name="textAreaBottom" fmla="*/ 1365840 h 1365480"/>
                </a:gdLst>
                <a:ahLst/>
                <a:rect l="textAreaLeft" t="textAreaTop" r="textAreaRight" b="textAreaBottom"/>
                <a:pathLst>
                  <a:path w="1712" h="1883">
                    <a:moveTo>
                      <a:pt x="1281" y="1883"/>
                    </a:moveTo>
                    <a:lnTo>
                      <a:pt x="705" y="1881"/>
                    </a:lnTo>
                    <a:lnTo>
                      <a:pt x="691" y="1857"/>
                    </a:lnTo>
                    <a:lnTo>
                      <a:pt x="676" y="1828"/>
                    </a:lnTo>
                    <a:lnTo>
                      <a:pt x="662" y="1793"/>
                    </a:lnTo>
                    <a:lnTo>
                      <a:pt x="649" y="1756"/>
                    </a:lnTo>
                    <a:lnTo>
                      <a:pt x="638" y="1719"/>
                    </a:lnTo>
                    <a:lnTo>
                      <a:pt x="631" y="1685"/>
                    </a:lnTo>
                    <a:lnTo>
                      <a:pt x="625" y="1650"/>
                    </a:lnTo>
                    <a:lnTo>
                      <a:pt x="625" y="1624"/>
                    </a:lnTo>
                    <a:lnTo>
                      <a:pt x="607" y="1626"/>
                    </a:lnTo>
                    <a:lnTo>
                      <a:pt x="585" y="1632"/>
                    </a:lnTo>
                    <a:lnTo>
                      <a:pt x="562" y="1634"/>
                    </a:lnTo>
                    <a:lnTo>
                      <a:pt x="536" y="1640"/>
                    </a:lnTo>
                    <a:lnTo>
                      <a:pt x="511" y="1645"/>
                    </a:lnTo>
                    <a:lnTo>
                      <a:pt x="487" y="1653"/>
                    </a:lnTo>
                    <a:lnTo>
                      <a:pt x="467" y="1658"/>
                    </a:lnTo>
                    <a:lnTo>
                      <a:pt x="449" y="1666"/>
                    </a:lnTo>
                    <a:lnTo>
                      <a:pt x="464" y="1645"/>
                    </a:lnTo>
                    <a:lnTo>
                      <a:pt x="482" y="1621"/>
                    </a:lnTo>
                    <a:lnTo>
                      <a:pt x="498" y="1595"/>
                    </a:lnTo>
                    <a:lnTo>
                      <a:pt x="516" y="1571"/>
                    </a:lnTo>
                    <a:lnTo>
                      <a:pt x="533" y="1550"/>
                    </a:lnTo>
                    <a:lnTo>
                      <a:pt x="549" y="1528"/>
                    </a:lnTo>
                    <a:lnTo>
                      <a:pt x="562" y="1510"/>
                    </a:lnTo>
                    <a:lnTo>
                      <a:pt x="573" y="1497"/>
                    </a:lnTo>
                    <a:lnTo>
                      <a:pt x="549" y="1449"/>
                    </a:lnTo>
                    <a:lnTo>
                      <a:pt x="531" y="1399"/>
                    </a:lnTo>
                    <a:lnTo>
                      <a:pt x="518" y="1340"/>
                    </a:lnTo>
                    <a:lnTo>
                      <a:pt x="511" y="1285"/>
                    </a:lnTo>
                    <a:lnTo>
                      <a:pt x="511" y="1229"/>
                    </a:lnTo>
                    <a:lnTo>
                      <a:pt x="516" y="1179"/>
                    </a:lnTo>
                    <a:lnTo>
                      <a:pt x="527" y="1136"/>
                    </a:lnTo>
                    <a:lnTo>
                      <a:pt x="544" y="1105"/>
                    </a:lnTo>
                    <a:lnTo>
                      <a:pt x="493" y="1089"/>
                    </a:lnTo>
                    <a:lnTo>
                      <a:pt x="442" y="1057"/>
                    </a:lnTo>
                    <a:lnTo>
                      <a:pt x="395" y="1012"/>
                    </a:lnTo>
                    <a:lnTo>
                      <a:pt x="353" y="959"/>
                    </a:lnTo>
                    <a:lnTo>
                      <a:pt x="320" y="901"/>
                    </a:lnTo>
                    <a:lnTo>
                      <a:pt x="298" y="840"/>
                    </a:lnTo>
                    <a:lnTo>
                      <a:pt x="291" y="784"/>
                    </a:lnTo>
                    <a:lnTo>
                      <a:pt x="298" y="734"/>
                    </a:lnTo>
                    <a:lnTo>
                      <a:pt x="100" y="705"/>
                    </a:lnTo>
                    <a:lnTo>
                      <a:pt x="133" y="697"/>
                    </a:lnTo>
                    <a:lnTo>
                      <a:pt x="166" y="686"/>
                    </a:lnTo>
                    <a:lnTo>
                      <a:pt x="200" y="673"/>
                    </a:lnTo>
                    <a:lnTo>
                      <a:pt x="233" y="657"/>
                    </a:lnTo>
                    <a:lnTo>
                      <a:pt x="262" y="641"/>
                    </a:lnTo>
                    <a:lnTo>
                      <a:pt x="284" y="625"/>
                    </a:lnTo>
                    <a:lnTo>
                      <a:pt x="302" y="612"/>
                    </a:lnTo>
                    <a:lnTo>
                      <a:pt x="313" y="599"/>
                    </a:lnTo>
                    <a:lnTo>
                      <a:pt x="293" y="583"/>
                    </a:lnTo>
                    <a:lnTo>
                      <a:pt x="271" y="562"/>
                    </a:lnTo>
                    <a:lnTo>
                      <a:pt x="249" y="535"/>
                    </a:lnTo>
                    <a:lnTo>
                      <a:pt x="229" y="503"/>
                    </a:lnTo>
                    <a:lnTo>
                      <a:pt x="211" y="469"/>
                    </a:lnTo>
                    <a:lnTo>
                      <a:pt x="200" y="432"/>
                    </a:lnTo>
                    <a:lnTo>
                      <a:pt x="193" y="397"/>
                    </a:lnTo>
                    <a:lnTo>
                      <a:pt x="198" y="363"/>
                    </a:lnTo>
                    <a:lnTo>
                      <a:pt x="178" y="363"/>
                    </a:lnTo>
                    <a:lnTo>
                      <a:pt x="153" y="368"/>
                    </a:lnTo>
                    <a:lnTo>
                      <a:pt x="129" y="374"/>
                    </a:lnTo>
                    <a:lnTo>
                      <a:pt x="102" y="382"/>
                    </a:lnTo>
                    <a:lnTo>
                      <a:pt x="77" y="392"/>
                    </a:lnTo>
                    <a:lnTo>
                      <a:pt x="53" y="403"/>
                    </a:lnTo>
                    <a:lnTo>
                      <a:pt x="33" y="413"/>
                    </a:lnTo>
                    <a:lnTo>
                      <a:pt x="17" y="424"/>
                    </a:lnTo>
                    <a:lnTo>
                      <a:pt x="24" y="411"/>
                    </a:lnTo>
                    <a:lnTo>
                      <a:pt x="33" y="395"/>
                    </a:lnTo>
                    <a:lnTo>
                      <a:pt x="44" y="379"/>
                    </a:lnTo>
                    <a:lnTo>
                      <a:pt x="55" y="360"/>
                    </a:lnTo>
                    <a:lnTo>
                      <a:pt x="69" y="344"/>
                    </a:lnTo>
                    <a:lnTo>
                      <a:pt x="82" y="331"/>
                    </a:lnTo>
                    <a:lnTo>
                      <a:pt x="95" y="321"/>
                    </a:lnTo>
                    <a:lnTo>
                      <a:pt x="106" y="313"/>
                    </a:lnTo>
                    <a:lnTo>
                      <a:pt x="97" y="299"/>
                    </a:lnTo>
                    <a:lnTo>
                      <a:pt x="86" y="284"/>
                    </a:lnTo>
                    <a:lnTo>
                      <a:pt x="73" y="265"/>
                    </a:lnTo>
                    <a:lnTo>
                      <a:pt x="57" y="246"/>
                    </a:lnTo>
                    <a:lnTo>
                      <a:pt x="42" y="228"/>
                    </a:lnTo>
                    <a:lnTo>
                      <a:pt x="29" y="212"/>
                    </a:lnTo>
                    <a:lnTo>
                      <a:pt x="13" y="199"/>
                    </a:lnTo>
                    <a:lnTo>
                      <a:pt x="0" y="191"/>
                    </a:lnTo>
                    <a:lnTo>
                      <a:pt x="26" y="193"/>
                    </a:lnTo>
                    <a:lnTo>
                      <a:pt x="53" y="196"/>
                    </a:lnTo>
                    <a:lnTo>
                      <a:pt x="77" y="201"/>
                    </a:lnTo>
                    <a:lnTo>
                      <a:pt x="100" y="207"/>
                    </a:lnTo>
                    <a:lnTo>
                      <a:pt x="122" y="215"/>
                    </a:lnTo>
                    <a:lnTo>
                      <a:pt x="142" y="223"/>
                    </a:lnTo>
                    <a:lnTo>
                      <a:pt x="158" y="231"/>
                    </a:lnTo>
                    <a:lnTo>
                      <a:pt x="171" y="241"/>
                    </a:lnTo>
                    <a:lnTo>
                      <a:pt x="186" y="220"/>
                    </a:lnTo>
                    <a:lnTo>
                      <a:pt x="209" y="204"/>
                    </a:lnTo>
                    <a:lnTo>
                      <a:pt x="233" y="193"/>
                    </a:lnTo>
                    <a:lnTo>
                      <a:pt x="260" y="186"/>
                    </a:lnTo>
                    <a:lnTo>
                      <a:pt x="284" y="183"/>
                    </a:lnTo>
                    <a:lnTo>
                      <a:pt x="309" y="180"/>
                    </a:lnTo>
                    <a:lnTo>
                      <a:pt x="329" y="183"/>
                    </a:lnTo>
                    <a:lnTo>
                      <a:pt x="344" y="186"/>
                    </a:lnTo>
                    <a:lnTo>
                      <a:pt x="355" y="135"/>
                    </a:lnTo>
                    <a:lnTo>
                      <a:pt x="364" y="82"/>
                    </a:lnTo>
                    <a:lnTo>
                      <a:pt x="373" y="35"/>
                    </a:lnTo>
                    <a:lnTo>
                      <a:pt x="380" y="0"/>
                    </a:lnTo>
                    <a:lnTo>
                      <a:pt x="380" y="53"/>
                    </a:lnTo>
                    <a:lnTo>
                      <a:pt x="384" y="103"/>
                    </a:lnTo>
                    <a:lnTo>
                      <a:pt x="391" y="148"/>
                    </a:lnTo>
                    <a:lnTo>
                      <a:pt x="400" y="175"/>
                    </a:lnTo>
                    <a:lnTo>
                      <a:pt x="420" y="159"/>
                    </a:lnTo>
                    <a:lnTo>
                      <a:pt x="444" y="143"/>
                    </a:lnTo>
                    <a:lnTo>
                      <a:pt x="469" y="130"/>
                    </a:lnTo>
                    <a:lnTo>
                      <a:pt x="498" y="117"/>
                    </a:lnTo>
                    <a:lnTo>
                      <a:pt x="524" y="109"/>
                    </a:lnTo>
                    <a:lnTo>
                      <a:pt x="553" y="98"/>
                    </a:lnTo>
                    <a:lnTo>
                      <a:pt x="582" y="93"/>
                    </a:lnTo>
                    <a:lnTo>
                      <a:pt x="609" y="90"/>
                    </a:lnTo>
                    <a:lnTo>
                      <a:pt x="589" y="111"/>
                    </a:lnTo>
                    <a:lnTo>
                      <a:pt x="567" y="130"/>
                    </a:lnTo>
                    <a:lnTo>
                      <a:pt x="542" y="151"/>
                    </a:lnTo>
                    <a:lnTo>
                      <a:pt x="520" y="170"/>
                    </a:lnTo>
                    <a:lnTo>
                      <a:pt x="496" y="188"/>
                    </a:lnTo>
                    <a:lnTo>
                      <a:pt x="471" y="204"/>
                    </a:lnTo>
                    <a:lnTo>
                      <a:pt x="447" y="220"/>
                    </a:lnTo>
                    <a:lnTo>
                      <a:pt x="424" y="231"/>
                    </a:lnTo>
                    <a:lnTo>
                      <a:pt x="440" y="257"/>
                    </a:lnTo>
                    <a:lnTo>
                      <a:pt x="453" y="286"/>
                    </a:lnTo>
                    <a:lnTo>
                      <a:pt x="464" y="307"/>
                    </a:lnTo>
                    <a:lnTo>
                      <a:pt x="469" y="318"/>
                    </a:lnTo>
                    <a:lnTo>
                      <a:pt x="480" y="307"/>
                    </a:lnTo>
                    <a:lnTo>
                      <a:pt x="496" y="302"/>
                    </a:lnTo>
                    <a:lnTo>
                      <a:pt x="511" y="299"/>
                    </a:lnTo>
                    <a:lnTo>
                      <a:pt x="529" y="299"/>
                    </a:lnTo>
                    <a:lnTo>
                      <a:pt x="547" y="305"/>
                    </a:lnTo>
                    <a:lnTo>
                      <a:pt x="562" y="310"/>
                    </a:lnTo>
                    <a:lnTo>
                      <a:pt x="578" y="318"/>
                    </a:lnTo>
                    <a:lnTo>
                      <a:pt x="589" y="329"/>
                    </a:lnTo>
                    <a:lnTo>
                      <a:pt x="600" y="284"/>
                    </a:lnTo>
                    <a:lnTo>
                      <a:pt x="611" y="239"/>
                    </a:lnTo>
                    <a:lnTo>
                      <a:pt x="620" y="196"/>
                    </a:lnTo>
                    <a:lnTo>
                      <a:pt x="622" y="164"/>
                    </a:lnTo>
                    <a:lnTo>
                      <a:pt x="631" y="183"/>
                    </a:lnTo>
                    <a:lnTo>
                      <a:pt x="640" y="201"/>
                    </a:lnTo>
                    <a:lnTo>
                      <a:pt x="651" y="223"/>
                    </a:lnTo>
                    <a:lnTo>
                      <a:pt x="660" y="244"/>
                    </a:lnTo>
                    <a:lnTo>
                      <a:pt x="669" y="262"/>
                    </a:lnTo>
                    <a:lnTo>
                      <a:pt x="678" y="284"/>
                    </a:lnTo>
                    <a:lnTo>
                      <a:pt x="685" y="305"/>
                    </a:lnTo>
                    <a:lnTo>
                      <a:pt x="689" y="323"/>
                    </a:lnTo>
                    <a:lnTo>
                      <a:pt x="709" y="313"/>
                    </a:lnTo>
                    <a:lnTo>
                      <a:pt x="729" y="307"/>
                    </a:lnTo>
                    <a:lnTo>
                      <a:pt x="751" y="305"/>
                    </a:lnTo>
                    <a:lnTo>
                      <a:pt x="774" y="310"/>
                    </a:lnTo>
                    <a:lnTo>
                      <a:pt x="798" y="315"/>
                    </a:lnTo>
                    <a:lnTo>
                      <a:pt x="820" y="326"/>
                    </a:lnTo>
                    <a:lnTo>
                      <a:pt x="842" y="339"/>
                    </a:lnTo>
                    <a:lnTo>
                      <a:pt x="863" y="352"/>
                    </a:lnTo>
                    <a:lnTo>
                      <a:pt x="867" y="326"/>
                    </a:lnTo>
                    <a:lnTo>
                      <a:pt x="876" y="297"/>
                    </a:lnTo>
                    <a:lnTo>
                      <a:pt x="887" y="262"/>
                    </a:lnTo>
                    <a:lnTo>
                      <a:pt x="898" y="231"/>
                    </a:lnTo>
                    <a:lnTo>
                      <a:pt x="911" y="196"/>
                    </a:lnTo>
                    <a:lnTo>
                      <a:pt x="925" y="164"/>
                    </a:lnTo>
                    <a:lnTo>
                      <a:pt x="940" y="138"/>
                    </a:lnTo>
                    <a:lnTo>
                      <a:pt x="954" y="117"/>
                    </a:lnTo>
                    <a:lnTo>
                      <a:pt x="967" y="98"/>
                    </a:lnTo>
                    <a:lnTo>
                      <a:pt x="983" y="82"/>
                    </a:lnTo>
                    <a:lnTo>
                      <a:pt x="1000" y="69"/>
                    </a:lnTo>
                    <a:lnTo>
                      <a:pt x="1020" y="58"/>
                    </a:lnTo>
                    <a:lnTo>
                      <a:pt x="1043" y="53"/>
                    </a:lnTo>
                    <a:lnTo>
                      <a:pt x="1065" y="53"/>
                    </a:lnTo>
                    <a:lnTo>
                      <a:pt x="1089" y="56"/>
                    </a:lnTo>
                    <a:lnTo>
                      <a:pt x="1116" y="66"/>
                    </a:lnTo>
                    <a:lnTo>
                      <a:pt x="1138" y="80"/>
                    </a:lnTo>
                    <a:lnTo>
                      <a:pt x="1156" y="95"/>
                    </a:lnTo>
                    <a:lnTo>
                      <a:pt x="1167" y="114"/>
                    </a:lnTo>
                    <a:lnTo>
                      <a:pt x="1176" y="133"/>
                    </a:lnTo>
                    <a:lnTo>
                      <a:pt x="1181" y="151"/>
                    </a:lnTo>
                    <a:lnTo>
                      <a:pt x="1183" y="167"/>
                    </a:lnTo>
                    <a:lnTo>
                      <a:pt x="1183" y="183"/>
                    </a:lnTo>
                    <a:lnTo>
                      <a:pt x="1181" y="196"/>
                    </a:lnTo>
                    <a:lnTo>
                      <a:pt x="1196" y="196"/>
                    </a:lnTo>
                    <a:lnTo>
                      <a:pt x="1214" y="199"/>
                    </a:lnTo>
                    <a:lnTo>
                      <a:pt x="1232" y="201"/>
                    </a:lnTo>
                    <a:lnTo>
                      <a:pt x="1254" y="207"/>
                    </a:lnTo>
                    <a:lnTo>
                      <a:pt x="1272" y="215"/>
                    </a:lnTo>
                    <a:lnTo>
                      <a:pt x="1290" y="220"/>
                    </a:lnTo>
                    <a:lnTo>
                      <a:pt x="1305" y="225"/>
                    </a:lnTo>
                    <a:lnTo>
                      <a:pt x="1314" y="231"/>
                    </a:lnTo>
                    <a:lnTo>
                      <a:pt x="1298" y="241"/>
                    </a:lnTo>
                    <a:lnTo>
                      <a:pt x="1281" y="252"/>
                    </a:lnTo>
                    <a:lnTo>
                      <a:pt x="1261" y="262"/>
                    </a:lnTo>
                    <a:lnTo>
                      <a:pt x="1241" y="270"/>
                    </a:lnTo>
                    <a:lnTo>
                      <a:pt x="1218" y="278"/>
                    </a:lnTo>
                    <a:lnTo>
                      <a:pt x="1198" y="286"/>
                    </a:lnTo>
                    <a:lnTo>
                      <a:pt x="1181" y="291"/>
                    </a:lnTo>
                    <a:lnTo>
                      <a:pt x="1165" y="297"/>
                    </a:lnTo>
                    <a:lnTo>
                      <a:pt x="1149" y="323"/>
                    </a:lnTo>
                    <a:lnTo>
                      <a:pt x="1134" y="347"/>
                    </a:lnTo>
                    <a:lnTo>
                      <a:pt x="1116" y="371"/>
                    </a:lnTo>
                    <a:lnTo>
                      <a:pt x="1096" y="392"/>
                    </a:lnTo>
                    <a:lnTo>
                      <a:pt x="1072" y="413"/>
                    </a:lnTo>
                    <a:lnTo>
                      <a:pt x="1043" y="429"/>
                    </a:lnTo>
                    <a:lnTo>
                      <a:pt x="1009" y="448"/>
                    </a:lnTo>
                    <a:lnTo>
                      <a:pt x="971" y="461"/>
                    </a:lnTo>
                    <a:lnTo>
                      <a:pt x="985" y="480"/>
                    </a:lnTo>
                    <a:lnTo>
                      <a:pt x="994" y="503"/>
                    </a:lnTo>
                    <a:lnTo>
                      <a:pt x="1000" y="522"/>
                    </a:lnTo>
                    <a:lnTo>
                      <a:pt x="1003" y="530"/>
                    </a:lnTo>
                    <a:lnTo>
                      <a:pt x="1023" y="525"/>
                    </a:lnTo>
                    <a:lnTo>
                      <a:pt x="1049" y="517"/>
                    </a:lnTo>
                    <a:lnTo>
                      <a:pt x="1080" y="509"/>
                    </a:lnTo>
                    <a:lnTo>
                      <a:pt x="1116" y="501"/>
                    </a:lnTo>
                    <a:lnTo>
                      <a:pt x="1149" y="490"/>
                    </a:lnTo>
                    <a:lnTo>
                      <a:pt x="1178" y="480"/>
                    </a:lnTo>
                    <a:lnTo>
                      <a:pt x="1205" y="472"/>
                    </a:lnTo>
                    <a:lnTo>
                      <a:pt x="1223" y="464"/>
                    </a:lnTo>
                    <a:lnTo>
                      <a:pt x="1209" y="482"/>
                    </a:lnTo>
                    <a:lnTo>
                      <a:pt x="1196" y="498"/>
                    </a:lnTo>
                    <a:lnTo>
                      <a:pt x="1183" y="514"/>
                    </a:lnTo>
                    <a:lnTo>
                      <a:pt x="1172" y="527"/>
                    </a:lnTo>
                    <a:lnTo>
                      <a:pt x="1156" y="543"/>
                    </a:lnTo>
                    <a:lnTo>
                      <a:pt x="1143" y="556"/>
                    </a:lnTo>
                    <a:lnTo>
                      <a:pt x="1127" y="567"/>
                    </a:lnTo>
                    <a:lnTo>
                      <a:pt x="1112" y="578"/>
                    </a:lnTo>
                    <a:lnTo>
                      <a:pt x="1127" y="578"/>
                    </a:lnTo>
                    <a:lnTo>
                      <a:pt x="1147" y="580"/>
                    </a:lnTo>
                    <a:lnTo>
                      <a:pt x="1167" y="583"/>
                    </a:lnTo>
                    <a:lnTo>
                      <a:pt x="1187" y="588"/>
                    </a:lnTo>
                    <a:lnTo>
                      <a:pt x="1207" y="593"/>
                    </a:lnTo>
                    <a:lnTo>
                      <a:pt x="1225" y="599"/>
                    </a:lnTo>
                    <a:lnTo>
                      <a:pt x="1241" y="604"/>
                    </a:lnTo>
                    <a:lnTo>
                      <a:pt x="1254" y="609"/>
                    </a:lnTo>
                    <a:lnTo>
                      <a:pt x="1232" y="625"/>
                    </a:lnTo>
                    <a:lnTo>
                      <a:pt x="1205" y="638"/>
                    </a:lnTo>
                    <a:lnTo>
                      <a:pt x="1176" y="652"/>
                    </a:lnTo>
                    <a:lnTo>
                      <a:pt x="1147" y="662"/>
                    </a:lnTo>
                    <a:lnTo>
                      <a:pt x="1118" y="668"/>
                    </a:lnTo>
                    <a:lnTo>
                      <a:pt x="1092" y="673"/>
                    </a:lnTo>
                    <a:lnTo>
                      <a:pt x="1067" y="676"/>
                    </a:lnTo>
                    <a:lnTo>
                      <a:pt x="1049" y="676"/>
                    </a:lnTo>
                    <a:lnTo>
                      <a:pt x="1049" y="702"/>
                    </a:lnTo>
                    <a:lnTo>
                      <a:pt x="1043" y="739"/>
                    </a:lnTo>
                    <a:lnTo>
                      <a:pt x="1029" y="774"/>
                    </a:lnTo>
                    <a:lnTo>
                      <a:pt x="1009" y="797"/>
                    </a:lnTo>
                    <a:lnTo>
                      <a:pt x="1027" y="789"/>
                    </a:lnTo>
                    <a:lnTo>
                      <a:pt x="1049" y="781"/>
                    </a:lnTo>
                    <a:lnTo>
                      <a:pt x="1074" y="776"/>
                    </a:lnTo>
                    <a:lnTo>
                      <a:pt x="1105" y="774"/>
                    </a:lnTo>
                    <a:lnTo>
                      <a:pt x="1138" y="771"/>
                    </a:lnTo>
                    <a:lnTo>
                      <a:pt x="1172" y="774"/>
                    </a:lnTo>
                    <a:lnTo>
                      <a:pt x="1209" y="776"/>
                    </a:lnTo>
                    <a:lnTo>
                      <a:pt x="1247" y="784"/>
                    </a:lnTo>
                    <a:lnTo>
                      <a:pt x="1283" y="795"/>
                    </a:lnTo>
                    <a:lnTo>
                      <a:pt x="1321" y="811"/>
                    </a:lnTo>
                    <a:lnTo>
                      <a:pt x="1354" y="832"/>
                    </a:lnTo>
                    <a:lnTo>
                      <a:pt x="1387" y="856"/>
                    </a:lnTo>
                    <a:lnTo>
                      <a:pt x="1418" y="887"/>
                    </a:lnTo>
                    <a:lnTo>
                      <a:pt x="1443" y="922"/>
                    </a:lnTo>
                    <a:lnTo>
                      <a:pt x="1465" y="964"/>
                    </a:lnTo>
                    <a:lnTo>
                      <a:pt x="1483" y="1015"/>
                    </a:lnTo>
                    <a:lnTo>
                      <a:pt x="1712" y="1007"/>
                    </a:lnTo>
                    <a:lnTo>
                      <a:pt x="1694" y="1020"/>
                    </a:lnTo>
                    <a:lnTo>
                      <a:pt x="1676" y="1036"/>
                    </a:lnTo>
                    <a:lnTo>
                      <a:pt x="1652" y="1052"/>
                    </a:lnTo>
                    <a:lnTo>
                      <a:pt x="1628" y="1068"/>
                    </a:lnTo>
                    <a:lnTo>
                      <a:pt x="1601" y="1083"/>
                    </a:lnTo>
                    <a:lnTo>
                      <a:pt x="1570" y="1094"/>
                    </a:lnTo>
                    <a:lnTo>
                      <a:pt x="1539" y="1102"/>
                    </a:lnTo>
                    <a:lnTo>
                      <a:pt x="1507" y="1105"/>
                    </a:lnTo>
                    <a:lnTo>
                      <a:pt x="1530" y="1113"/>
                    </a:lnTo>
                    <a:lnTo>
                      <a:pt x="1554" y="1121"/>
                    </a:lnTo>
                    <a:lnTo>
                      <a:pt x="1585" y="1128"/>
                    </a:lnTo>
                    <a:lnTo>
                      <a:pt x="1614" y="1142"/>
                    </a:lnTo>
                    <a:lnTo>
                      <a:pt x="1643" y="1152"/>
                    </a:lnTo>
                    <a:lnTo>
                      <a:pt x="1668" y="1166"/>
                    </a:lnTo>
                    <a:lnTo>
                      <a:pt x="1688" y="1179"/>
                    </a:lnTo>
                    <a:lnTo>
                      <a:pt x="1701" y="1195"/>
                    </a:lnTo>
                    <a:lnTo>
                      <a:pt x="1674" y="1195"/>
                    </a:lnTo>
                    <a:lnTo>
                      <a:pt x="1645" y="1195"/>
                    </a:lnTo>
                    <a:lnTo>
                      <a:pt x="1616" y="1195"/>
                    </a:lnTo>
                    <a:lnTo>
                      <a:pt x="1588" y="1195"/>
                    </a:lnTo>
                    <a:lnTo>
                      <a:pt x="1559" y="1195"/>
                    </a:lnTo>
                    <a:lnTo>
                      <a:pt x="1532" y="1192"/>
                    </a:lnTo>
                    <a:lnTo>
                      <a:pt x="1510" y="1189"/>
                    </a:lnTo>
                    <a:lnTo>
                      <a:pt x="1492" y="1187"/>
                    </a:lnTo>
                    <a:lnTo>
                      <a:pt x="1501" y="1253"/>
                    </a:lnTo>
                    <a:lnTo>
                      <a:pt x="1499" y="1335"/>
                    </a:lnTo>
                    <a:lnTo>
                      <a:pt x="1490" y="1430"/>
                    </a:lnTo>
                    <a:lnTo>
                      <a:pt x="1470" y="1528"/>
                    </a:lnTo>
                    <a:lnTo>
                      <a:pt x="1439" y="1629"/>
                    </a:lnTo>
                    <a:lnTo>
                      <a:pt x="1396" y="1724"/>
                    </a:lnTo>
                    <a:lnTo>
                      <a:pt x="1345" y="1812"/>
                    </a:lnTo>
                    <a:lnTo>
                      <a:pt x="1281" y="1883"/>
                    </a:lnTo>
                    <a:close/>
                  </a:path>
                </a:pathLst>
              </a:custGeom>
              <a:solidFill>
                <a:srgbClr val="078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>
                <a:off x="7095240" y="6341400"/>
                <a:ext cx="224640" cy="15732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2" h="217">
                    <a:moveTo>
                      <a:pt x="0" y="77"/>
                    </a:moveTo>
                    <a:lnTo>
                      <a:pt x="17" y="66"/>
                    </a:lnTo>
                    <a:lnTo>
                      <a:pt x="35" y="55"/>
                    </a:lnTo>
                    <a:lnTo>
                      <a:pt x="57" y="45"/>
                    </a:lnTo>
                    <a:lnTo>
                      <a:pt x="80" y="34"/>
                    </a:lnTo>
                    <a:lnTo>
                      <a:pt x="104" y="24"/>
                    </a:lnTo>
                    <a:lnTo>
                      <a:pt x="129" y="16"/>
                    </a:lnTo>
                    <a:lnTo>
                      <a:pt x="155" y="8"/>
                    </a:lnTo>
                    <a:lnTo>
                      <a:pt x="180" y="0"/>
                    </a:lnTo>
                    <a:lnTo>
                      <a:pt x="182" y="26"/>
                    </a:lnTo>
                    <a:lnTo>
                      <a:pt x="182" y="58"/>
                    </a:lnTo>
                    <a:lnTo>
                      <a:pt x="180" y="90"/>
                    </a:lnTo>
                    <a:lnTo>
                      <a:pt x="178" y="111"/>
                    </a:lnTo>
                    <a:lnTo>
                      <a:pt x="131" y="95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1" y="138"/>
                    </a:lnTo>
                    <a:lnTo>
                      <a:pt x="73" y="153"/>
                    </a:lnTo>
                    <a:lnTo>
                      <a:pt x="55" y="169"/>
                    </a:lnTo>
                    <a:lnTo>
                      <a:pt x="42" y="185"/>
                    </a:lnTo>
                    <a:lnTo>
                      <a:pt x="29" y="201"/>
                    </a:lnTo>
                    <a:lnTo>
                      <a:pt x="22" y="217"/>
                    </a:lnTo>
                    <a:lnTo>
                      <a:pt x="24" y="199"/>
                    </a:lnTo>
                    <a:lnTo>
                      <a:pt x="33" y="177"/>
                    </a:lnTo>
                    <a:lnTo>
                      <a:pt x="42" y="159"/>
                    </a:lnTo>
                    <a:lnTo>
                      <a:pt x="53" y="140"/>
                    </a:lnTo>
                    <a:lnTo>
                      <a:pt x="66" y="124"/>
                    </a:lnTo>
                    <a:lnTo>
                      <a:pt x="80" y="108"/>
                    </a:lnTo>
                    <a:lnTo>
                      <a:pt x="91" y="93"/>
                    </a:lnTo>
                    <a:lnTo>
                      <a:pt x="102" y="82"/>
                    </a:lnTo>
                    <a:lnTo>
                      <a:pt x="100" y="82"/>
                    </a:lnTo>
                    <a:lnTo>
                      <a:pt x="91" y="82"/>
                    </a:lnTo>
                    <a:lnTo>
                      <a:pt x="77" y="82"/>
                    </a:lnTo>
                    <a:lnTo>
                      <a:pt x="62" y="82"/>
                    </a:lnTo>
                    <a:lnTo>
                      <a:pt x="44" y="82"/>
                    </a:lnTo>
                    <a:lnTo>
                      <a:pt x="26" y="79"/>
                    </a:lnTo>
                    <a:lnTo>
                      <a:pt x="11" y="7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>
                <a:off x="7416000" y="6391440"/>
                <a:ext cx="320400" cy="23400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60" h="323">
                    <a:moveTo>
                      <a:pt x="0" y="198"/>
                    </a:moveTo>
                    <a:lnTo>
                      <a:pt x="153" y="175"/>
                    </a:lnTo>
                    <a:lnTo>
                      <a:pt x="138" y="0"/>
                    </a:lnTo>
                    <a:lnTo>
                      <a:pt x="200" y="164"/>
                    </a:lnTo>
                    <a:lnTo>
                      <a:pt x="211" y="156"/>
                    </a:lnTo>
                    <a:lnTo>
                      <a:pt x="222" y="153"/>
                    </a:lnTo>
                    <a:lnTo>
                      <a:pt x="233" y="153"/>
                    </a:lnTo>
                    <a:lnTo>
                      <a:pt x="244" y="156"/>
                    </a:lnTo>
                    <a:lnTo>
                      <a:pt x="251" y="164"/>
                    </a:lnTo>
                    <a:lnTo>
                      <a:pt x="258" y="175"/>
                    </a:lnTo>
                    <a:lnTo>
                      <a:pt x="260" y="188"/>
                    </a:lnTo>
                    <a:lnTo>
                      <a:pt x="260" y="206"/>
                    </a:lnTo>
                    <a:lnTo>
                      <a:pt x="253" y="246"/>
                    </a:lnTo>
                    <a:lnTo>
                      <a:pt x="244" y="286"/>
                    </a:lnTo>
                    <a:lnTo>
                      <a:pt x="229" y="312"/>
                    </a:lnTo>
                    <a:lnTo>
                      <a:pt x="202" y="323"/>
                    </a:lnTo>
                    <a:lnTo>
                      <a:pt x="184" y="320"/>
                    </a:lnTo>
                    <a:lnTo>
                      <a:pt x="167" y="315"/>
                    </a:lnTo>
                    <a:lnTo>
                      <a:pt x="149" y="310"/>
                    </a:lnTo>
                    <a:lnTo>
                      <a:pt x="133" y="299"/>
                    </a:lnTo>
                    <a:lnTo>
                      <a:pt x="120" y="286"/>
                    </a:lnTo>
                    <a:lnTo>
                      <a:pt x="115" y="270"/>
                    </a:lnTo>
                    <a:lnTo>
                      <a:pt x="115" y="251"/>
                    </a:lnTo>
                    <a:lnTo>
                      <a:pt x="127" y="22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>
                <a:off x="7158240" y="6575400"/>
                <a:ext cx="237960" cy="209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93" h="289">
                    <a:moveTo>
                      <a:pt x="115" y="0"/>
                    </a:moveTo>
                    <a:lnTo>
                      <a:pt x="89" y="172"/>
                    </a:lnTo>
                    <a:lnTo>
                      <a:pt x="193" y="148"/>
                    </a:lnTo>
                    <a:lnTo>
                      <a:pt x="189" y="151"/>
                    </a:lnTo>
                    <a:lnTo>
                      <a:pt x="178" y="162"/>
                    </a:lnTo>
                    <a:lnTo>
                      <a:pt x="162" y="175"/>
                    </a:lnTo>
                    <a:lnTo>
                      <a:pt x="144" y="193"/>
                    </a:lnTo>
                    <a:lnTo>
                      <a:pt x="124" y="212"/>
                    </a:lnTo>
                    <a:lnTo>
                      <a:pt x="107" y="230"/>
                    </a:lnTo>
                    <a:lnTo>
                      <a:pt x="91" y="249"/>
                    </a:lnTo>
                    <a:lnTo>
                      <a:pt x="80" y="265"/>
                    </a:lnTo>
                    <a:lnTo>
                      <a:pt x="71" y="278"/>
                    </a:lnTo>
                    <a:lnTo>
                      <a:pt x="58" y="286"/>
                    </a:lnTo>
                    <a:lnTo>
                      <a:pt x="44" y="289"/>
                    </a:lnTo>
                    <a:lnTo>
                      <a:pt x="31" y="289"/>
                    </a:lnTo>
                    <a:lnTo>
                      <a:pt x="18" y="286"/>
                    </a:lnTo>
                    <a:lnTo>
                      <a:pt x="6" y="278"/>
                    </a:lnTo>
                    <a:lnTo>
                      <a:pt x="0" y="268"/>
                    </a:lnTo>
                    <a:lnTo>
                      <a:pt x="0" y="252"/>
                    </a:lnTo>
                    <a:lnTo>
                      <a:pt x="6" y="230"/>
                    </a:lnTo>
                    <a:lnTo>
                      <a:pt x="18" y="201"/>
                    </a:lnTo>
                    <a:lnTo>
                      <a:pt x="33" y="167"/>
                    </a:lnTo>
                    <a:lnTo>
                      <a:pt x="53" y="130"/>
                    </a:lnTo>
                    <a:lnTo>
                      <a:pt x="71" y="93"/>
                    </a:lnTo>
                    <a:lnTo>
                      <a:pt x="91" y="58"/>
                    </a:lnTo>
                    <a:lnTo>
                      <a:pt x="104" y="26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>
                <a:off x="6900120" y="5838120"/>
                <a:ext cx="354240" cy="2016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287" h="278">
                    <a:moveTo>
                      <a:pt x="0" y="185"/>
                    </a:moveTo>
                    <a:lnTo>
                      <a:pt x="15" y="167"/>
                    </a:lnTo>
                    <a:lnTo>
                      <a:pt x="35" y="148"/>
                    </a:lnTo>
                    <a:lnTo>
                      <a:pt x="60" y="130"/>
                    </a:lnTo>
                    <a:lnTo>
                      <a:pt x="89" y="111"/>
                    </a:lnTo>
                    <a:lnTo>
                      <a:pt x="115" y="95"/>
                    </a:lnTo>
                    <a:lnTo>
                      <a:pt x="142" y="82"/>
                    </a:lnTo>
                    <a:lnTo>
                      <a:pt x="164" y="71"/>
                    </a:lnTo>
                    <a:lnTo>
                      <a:pt x="182" y="66"/>
                    </a:lnTo>
                    <a:lnTo>
                      <a:pt x="180" y="45"/>
                    </a:lnTo>
                    <a:lnTo>
                      <a:pt x="187" y="29"/>
                    </a:lnTo>
                    <a:lnTo>
                      <a:pt x="195" y="16"/>
                    </a:lnTo>
                    <a:lnTo>
                      <a:pt x="211" y="5"/>
                    </a:lnTo>
                    <a:lnTo>
                      <a:pt x="227" y="0"/>
                    </a:lnTo>
                    <a:lnTo>
                      <a:pt x="244" y="3"/>
                    </a:lnTo>
                    <a:lnTo>
                      <a:pt x="260" y="8"/>
                    </a:lnTo>
                    <a:lnTo>
                      <a:pt x="271" y="18"/>
                    </a:lnTo>
                    <a:lnTo>
                      <a:pt x="284" y="48"/>
                    </a:lnTo>
                    <a:lnTo>
                      <a:pt x="287" y="77"/>
                    </a:lnTo>
                    <a:lnTo>
                      <a:pt x="271" y="103"/>
                    </a:lnTo>
                    <a:lnTo>
                      <a:pt x="242" y="116"/>
                    </a:lnTo>
                    <a:lnTo>
                      <a:pt x="227" y="138"/>
                    </a:lnTo>
                    <a:lnTo>
                      <a:pt x="211" y="164"/>
                    </a:lnTo>
                    <a:lnTo>
                      <a:pt x="191" y="191"/>
                    </a:lnTo>
                    <a:lnTo>
                      <a:pt x="171" y="217"/>
                    </a:lnTo>
                    <a:lnTo>
                      <a:pt x="153" y="241"/>
                    </a:lnTo>
                    <a:lnTo>
                      <a:pt x="140" y="259"/>
                    </a:lnTo>
                    <a:lnTo>
                      <a:pt x="131" y="273"/>
                    </a:lnTo>
                    <a:lnTo>
                      <a:pt x="126" y="278"/>
                    </a:lnTo>
                    <a:lnTo>
                      <a:pt x="149" y="138"/>
                    </a:lnTo>
                    <a:lnTo>
                      <a:pt x="144" y="140"/>
                    </a:lnTo>
                    <a:lnTo>
                      <a:pt x="131" y="143"/>
                    </a:lnTo>
                    <a:lnTo>
                      <a:pt x="111" y="151"/>
                    </a:lnTo>
                    <a:lnTo>
                      <a:pt x="89" y="159"/>
                    </a:lnTo>
                    <a:lnTo>
                      <a:pt x="64" y="167"/>
                    </a:lnTo>
                    <a:lnTo>
                      <a:pt x="40" y="175"/>
                    </a:lnTo>
                    <a:lnTo>
                      <a:pt x="17" y="1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6756840" y="6010560"/>
                <a:ext cx="302040" cy="19404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245" h="268">
                    <a:moveTo>
                      <a:pt x="38" y="0"/>
                    </a:moveTo>
                    <a:lnTo>
                      <a:pt x="53" y="8"/>
                    </a:lnTo>
                    <a:lnTo>
                      <a:pt x="71" y="21"/>
                    </a:lnTo>
                    <a:lnTo>
                      <a:pt x="91" y="37"/>
                    </a:lnTo>
                    <a:lnTo>
                      <a:pt x="109" y="56"/>
                    </a:lnTo>
                    <a:lnTo>
                      <a:pt x="127" y="77"/>
                    </a:lnTo>
                    <a:lnTo>
                      <a:pt x="142" y="96"/>
                    </a:lnTo>
                    <a:lnTo>
                      <a:pt x="156" y="117"/>
                    </a:lnTo>
                    <a:lnTo>
                      <a:pt x="162" y="135"/>
                    </a:lnTo>
                    <a:lnTo>
                      <a:pt x="174" y="122"/>
                    </a:lnTo>
                    <a:lnTo>
                      <a:pt x="185" y="112"/>
                    </a:lnTo>
                    <a:lnTo>
                      <a:pt x="198" y="106"/>
                    </a:lnTo>
                    <a:lnTo>
                      <a:pt x="211" y="106"/>
                    </a:lnTo>
                    <a:lnTo>
                      <a:pt x="222" y="109"/>
                    </a:lnTo>
                    <a:lnTo>
                      <a:pt x="234" y="117"/>
                    </a:lnTo>
                    <a:lnTo>
                      <a:pt x="240" y="130"/>
                    </a:lnTo>
                    <a:lnTo>
                      <a:pt x="245" y="149"/>
                    </a:lnTo>
                    <a:lnTo>
                      <a:pt x="245" y="186"/>
                    </a:lnTo>
                    <a:lnTo>
                      <a:pt x="236" y="217"/>
                    </a:lnTo>
                    <a:lnTo>
                      <a:pt x="225" y="239"/>
                    </a:lnTo>
                    <a:lnTo>
                      <a:pt x="211" y="252"/>
                    </a:lnTo>
                    <a:lnTo>
                      <a:pt x="202" y="257"/>
                    </a:lnTo>
                    <a:lnTo>
                      <a:pt x="194" y="260"/>
                    </a:lnTo>
                    <a:lnTo>
                      <a:pt x="180" y="265"/>
                    </a:lnTo>
                    <a:lnTo>
                      <a:pt x="169" y="268"/>
                    </a:lnTo>
                    <a:lnTo>
                      <a:pt x="156" y="268"/>
                    </a:lnTo>
                    <a:lnTo>
                      <a:pt x="145" y="268"/>
                    </a:lnTo>
                    <a:lnTo>
                      <a:pt x="136" y="265"/>
                    </a:lnTo>
                    <a:lnTo>
                      <a:pt x="131" y="257"/>
                    </a:lnTo>
                    <a:lnTo>
                      <a:pt x="127" y="239"/>
                    </a:lnTo>
                    <a:lnTo>
                      <a:pt x="127" y="220"/>
                    </a:lnTo>
                    <a:lnTo>
                      <a:pt x="127" y="199"/>
                    </a:lnTo>
                    <a:lnTo>
                      <a:pt x="129" y="180"/>
                    </a:lnTo>
                    <a:lnTo>
                      <a:pt x="111" y="175"/>
                    </a:lnTo>
                    <a:lnTo>
                      <a:pt x="93" y="170"/>
                    </a:lnTo>
                    <a:lnTo>
                      <a:pt x="76" y="159"/>
                    </a:lnTo>
                    <a:lnTo>
                      <a:pt x="58" y="151"/>
                    </a:lnTo>
                    <a:lnTo>
                      <a:pt x="40" y="141"/>
                    </a:lnTo>
                    <a:lnTo>
                      <a:pt x="25" y="130"/>
                    </a:lnTo>
                    <a:lnTo>
                      <a:pt x="11" y="122"/>
                    </a:lnTo>
                    <a:lnTo>
                      <a:pt x="0" y="117"/>
                    </a:lnTo>
                    <a:lnTo>
                      <a:pt x="100" y="130"/>
                    </a:lnTo>
                    <a:lnTo>
                      <a:pt x="93" y="114"/>
                    </a:lnTo>
                    <a:lnTo>
                      <a:pt x="76" y="80"/>
                    </a:lnTo>
                    <a:lnTo>
                      <a:pt x="56" y="3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7734240" y="6225840"/>
                <a:ext cx="280080" cy="2224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27" h="307">
                    <a:moveTo>
                      <a:pt x="51" y="307"/>
                    </a:moveTo>
                    <a:lnTo>
                      <a:pt x="60" y="140"/>
                    </a:lnTo>
                    <a:lnTo>
                      <a:pt x="55" y="138"/>
                    </a:lnTo>
                    <a:lnTo>
                      <a:pt x="46" y="130"/>
                    </a:lnTo>
                    <a:lnTo>
                      <a:pt x="33" y="119"/>
                    </a:lnTo>
                    <a:lnTo>
                      <a:pt x="20" y="103"/>
                    </a:lnTo>
                    <a:lnTo>
                      <a:pt x="9" y="87"/>
                    </a:lnTo>
                    <a:lnTo>
                      <a:pt x="0" y="69"/>
                    </a:lnTo>
                    <a:lnTo>
                      <a:pt x="0" y="50"/>
                    </a:lnTo>
                    <a:lnTo>
                      <a:pt x="6" y="32"/>
                    </a:lnTo>
                    <a:lnTo>
                      <a:pt x="20" y="16"/>
                    </a:lnTo>
                    <a:lnTo>
                      <a:pt x="38" y="5"/>
                    </a:lnTo>
                    <a:lnTo>
                      <a:pt x="58" y="0"/>
                    </a:lnTo>
                    <a:lnTo>
                      <a:pt x="75" y="0"/>
                    </a:lnTo>
                    <a:lnTo>
                      <a:pt x="91" y="5"/>
                    </a:lnTo>
                    <a:lnTo>
                      <a:pt x="104" y="16"/>
                    </a:lnTo>
                    <a:lnTo>
                      <a:pt x="111" y="34"/>
                    </a:lnTo>
                    <a:lnTo>
                      <a:pt x="113" y="58"/>
                    </a:lnTo>
                    <a:lnTo>
                      <a:pt x="227" y="138"/>
                    </a:lnTo>
                    <a:lnTo>
                      <a:pt x="98" y="130"/>
                    </a:lnTo>
                    <a:lnTo>
                      <a:pt x="51" y="30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6295320" y="6652440"/>
                <a:ext cx="227880" cy="12672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85" h="175">
                    <a:moveTo>
                      <a:pt x="0" y="82"/>
                    </a:moveTo>
                    <a:lnTo>
                      <a:pt x="16" y="69"/>
                    </a:lnTo>
                    <a:lnTo>
                      <a:pt x="36" y="53"/>
                    </a:lnTo>
                    <a:lnTo>
                      <a:pt x="56" y="42"/>
                    </a:lnTo>
                    <a:lnTo>
                      <a:pt x="76" y="29"/>
                    </a:lnTo>
                    <a:lnTo>
                      <a:pt x="98" y="21"/>
                    </a:lnTo>
                    <a:lnTo>
                      <a:pt x="121" y="11"/>
                    </a:lnTo>
                    <a:lnTo>
                      <a:pt x="141" y="5"/>
                    </a:lnTo>
                    <a:lnTo>
                      <a:pt x="158" y="0"/>
                    </a:lnTo>
                    <a:lnTo>
                      <a:pt x="178" y="21"/>
                    </a:lnTo>
                    <a:lnTo>
                      <a:pt x="185" y="42"/>
                    </a:lnTo>
                    <a:lnTo>
                      <a:pt x="183" y="61"/>
                    </a:lnTo>
                    <a:lnTo>
                      <a:pt x="176" y="82"/>
                    </a:lnTo>
                    <a:lnTo>
                      <a:pt x="163" y="98"/>
                    </a:lnTo>
                    <a:lnTo>
                      <a:pt x="145" y="106"/>
                    </a:lnTo>
                    <a:lnTo>
                      <a:pt x="127" y="111"/>
                    </a:lnTo>
                    <a:lnTo>
                      <a:pt x="121" y="111"/>
                    </a:lnTo>
                    <a:lnTo>
                      <a:pt x="69" y="175"/>
                    </a:lnTo>
                    <a:lnTo>
                      <a:pt x="72" y="162"/>
                    </a:lnTo>
                    <a:lnTo>
                      <a:pt x="83" y="130"/>
                    </a:lnTo>
                    <a:lnTo>
                      <a:pt x="96" y="95"/>
                    </a:lnTo>
                    <a:lnTo>
                      <a:pt x="114" y="69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8"/>
              <p:cNvSpPr/>
              <p:nvPr/>
            </p:nvSpPr>
            <p:spPr>
              <a:xfrm>
                <a:off x="6763320" y="6652440"/>
                <a:ext cx="208440" cy="189720"/>
              </a:xfrm>
              <a:custGeom>
                <a:avLst/>
                <a:gdLst>
                  <a:gd name="textAreaLeft" fmla="*/ 0 w 208440"/>
                  <a:gd name="textAreaRight" fmla="*/ 208800 w 2084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169" h="262">
                    <a:moveTo>
                      <a:pt x="44" y="116"/>
                    </a:moveTo>
                    <a:lnTo>
                      <a:pt x="20" y="106"/>
                    </a:lnTo>
                    <a:lnTo>
                      <a:pt x="4" y="82"/>
                    </a:lnTo>
                    <a:lnTo>
                      <a:pt x="0" y="56"/>
                    </a:lnTo>
                    <a:lnTo>
                      <a:pt x="15" y="29"/>
                    </a:lnTo>
                    <a:lnTo>
                      <a:pt x="31" y="18"/>
                    </a:lnTo>
                    <a:lnTo>
                      <a:pt x="46" y="8"/>
                    </a:lnTo>
                    <a:lnTo>
                      <a:pt x="64" y="3"/>
                    </a:lnTo>
                    <a:lnTo>
                      <a:pt x="80" y="0"/>
                    </a:lnTo>
                    <a:lnTo>
                      <a:pt x="95" y="5"/>
                    </a:lnTo>
                    <a:lnTo>
                      <a:pt x="106" y="16"/>
                    </a:lnTo>
                    <a:lnTo>
                      <a:pt x="113" y="32"/>
                    </a:lnTo>
                    <a:lnTo>
                      <a:pt x="115" y="58"/>
                    </a:lnTo>
                    <a:lnTo>
                      <a:pt x="169" y="180"/>
                    </a:lnTo>
                    <a:lnTo>
                      <a:pt x="102" y="124"/>
                    </a:lnTo>
                    <a:lnTo>
                      <a:pt x="31" y="262"/>
                    </a:lnTo>
                    <a:lnTo>
                      <a:pt x="44" y="116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9"/>
              <p:cNvSpPr/>
              <p:nvPr/>
            </p:nvSpPr>
            <p:spPr>
              <a:xfrm>
                <a:off x="6449760" y="6385680"/>
                <a:ext cx="244080" cy="126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98" h="175">
                    <a:moveTo>
                      <a:pt x="53" y="10"/>
                    </a:moveTo>
                    <a:lnTo>
                      <a:pt x="67" y="2"/>
                    </a:lnTo>
                    <a:lnTo>
                      <a:pt x="82" y="0"/>
                    </a:lnTo>
                    <a:lnTo>
                      <a:pt x="100" y="2"/>
                    </a:lnTo>
                    <a:lnTo>
                      <a:pt x="118" y="8"/>
                    </a:lnTo>
                    <a:lnTo>
                      <a:pt x="133" y="16"/>
                    </a:lnTo>
                    <a:lnTo>
                      <a:pt x="147" y="24"/>
                    </a:lnTo>
                    <a:lnTo>
                      <a:pt x="156" y="29"/>
                    </a:lnTo>
                    <a:lnTo>
                      <a:pt x="160" y="32"/>
                    </a:lnTo>
                    <a:lnTo>
                      <a:pt x="182" y="37"/>
                    </a:lnTo>
                    <a:lnTo>
                      <a:pt x="196" y="61"/>
                    </a:lnTo>
                    <a:lnTo>
                      <a:pt x="198" y="90"/>
                    </a:lnTo>
                    <a:lnTo>
                      <a:pt x="191" y="124"/>
                    </a:lnTo>
                    <a:lnTo>
                      <a:pt x="185" y="138"/>
                    </a:lnTo>
                    <a:lnTo>
                      <a:pt x="176" y="145"/>
                    </a:lnTo>
                    <a:lnTo>
                      <a:pt x="167" y="151"/>
                    </a:lnTo>
                    <a:lnTo>
                      <a:pt x="156" y="153"/>
                    </a:lnTo>
                    <a:lnTo>
                      <a:pt x="145" y="151"/>
                    </a:lnTo>
                    <a:lnTo>
                      <a:pt x="131" y="145"/>
                    </a:lnTo>
                    <a:lnTo>
                      <a:pt x="118" y="135"/>
                    </a:lnTo>
                    <a:lnTo>
                      <a:pt x="105" y="122"/>
                    </a:lnTo>
                    <a:lnTo>
                      <a:pt x="0" y="175"/>
                    </a:lnTo>
                    <a:lnTo>
                      <a:pt x="7" y="161"/>
                    </a:lnTo>
                    <a:lnTo>
                      <a:pt x="22" y="145"/>
                    </a:lnTo>
                    <a:lnTo>
                      <a:pt x="40" y="130"/>
                    </a:lnTo>
                    <a:lnTo>
                      <a:pt x="60" y="114"/>
                    </a:lnTo>
                    <a:lnTo>
                      <a:pt x="80" y="98"/>
                    </a:lnTo>
                    <a:lnTo>
                      <a:pt x="98" y="87"/>
                    </a:lnTo>
                    <a:lnTo>
                      <a:pt x="109" y="79"/>
                    </a:lnTo>
                    <a:lnTo>
                      <a:pt x="113" y="77"/>
                    </a:lnTo>
                    <a:lnTo>
                      <a:pt x="105" y="58"/>
                    </a:lnTo>
                    <a:lnTo>
                      <a:pt x="91" y="40"/>
                    </a:lnTo>
                    <a:lnTo>
                      <a:pt x="73" y="21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20"/>
              <p:cNvSpPr/>
              <p:nvPr/>
            </p:nvSpPr>
            <p:spPr>
              <a:xfrm>
                <a:off x="8488800" y="6658200"/>
                <a:ext cx="268920" cy="15372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18" h="212">
                    <a:moveTo>
                      <a:pt x="20" y="108"/>
                    </a:moveTo>
                    <a:lnTo>
                      <a:pt x="45" y="95"/>
                    </a:lnTo>
                    <a:lnTo>
                      <a:pt x="69" y="82"/>
                    </a:lnTo>
                    <a:lnTo>
                      <a:pt x="96" y="69"/>
                    </a:lnTo>
                    <a:lnTo>
                      <a:pt x="120" y="53"/>
                    </a:lnTo>
                    <a:lnTo>
                      <a:pt x="145" y="40"/>
                    </a:lnTo>
                    <a:lnTo>
                      <a:pt x="169" y="26"/>
                    </a:lnTo>
                    <a:lnTo>
                      <a:pt x="189" y="13"/>
                    </a:lnTo>
                    <a:lnTo>
                      <a:pt x="205" y="0"/>
                    </a:lnTo>
                    <a:lnTo>
                      <a:pt x="198" y="21"/>
                    </a:lnTo>
                    <a:lnTo>
                      <a:pt x="192" y="37"/>
                    </a:lnTo>
                    <a:lnTo>
                      <a:pt x="183" y="53"/>
                    </a:lnTo>
                    <a:lnTo>
                      <a:pt x="176" y="66"/>
                    </a:lnTo>
                    <a:lnTo>
                      <a:pt x="167" y="79"/>
                    </a:lnTo>
                    <a:lnTo>
                      <a:pt x="158" y="93"/>
                    </a:lnTo>
                    <a:lnTo>
                      <a:pt x="147" y="108"/>
                    </a:lnTo>
                    <a:lnTo>
                      <a:pt x="134" y="127"/>
                    </a:lnTo>
                    <a:lnTo>
                      <a:pt x="218" y="127"/>
                    </a:lnTo>
                    <a:lnTo>
                      <a:pt x="196" y="140"/>
                    </a:lnTo>
                    <a:lnTo>
                      <a:pt x="176" y="154"/>
                    </a:lnTo>
                    <a:lnTo>
                      <a:pt x="158" y="161"/>
                    </a:lnTo>
                    <a:lnTo>
                      <a:pt x="140" y="172"/>
                    </a:lnTo>
                    <a:lnTo>
                      <a:pt x="123" y="180"/>
                    </a:lnTo>
                    <a:lnTo>
                      <a:pt x="107" y="185"/>
                    </a:lnTo>
                    <a:lnTo>
                      <a:pt x="92" y="193"/>
                    </a:lnTo>
                    <a:lnTo>
                      <a:pt x="74" y="201"/>
                    </a:lnTo>
                    <a:lnTo>
                      <a:pt x="58" y="209"/>
                    </a:lnTo>
                    <a:lnTo>
                      <a:pt x="43" y="212"/>
                    </a:lnTo>
                    <a:lnTo>
                      <a:pt x="32" y="212"/>
                    </a:lnTo>
                    <a:lnTo>
                      <a:pt x="20" y="212"/>
                    </a:lnTo>
                    <a:lnTo>
                      <a:pt x="11" y="206"/>
                    </a:lnTo>
                    <a:lnTo>
                      <a:pt x="7" y="199"/>
                    </a:lnTo>
                    <a:lnTo>
                      <a:pt x="3" y="188"/>
                    </a:lnTo>
                    <a:lnTo>
                      <a:pt x="0" y="175"/>
                    </a:lnTo>
                    <a:lnTo>
                      <a:pt x="3" y="151"/>
                    </a:lnTo>
                    <a:lnTo>
                      <a:pt x="9" y="130"/>
                    </a:lnTo>
                    <a:lnTo>
                      <a:pt x="16" y="11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Rectangle 24"/>
          <p:cNvSpPr/>
          <p:nvPr/>
        </p:nvSpPr>
        <p:spPr>
          <a:xfrm>
            <a:off x="685800" y="609480"/>
            <a:ext cx="7848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l%=c*(V0-V1)*0.03545*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取用倍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式中：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c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硫氰酸铵标准液的浓度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空白试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(25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硝酸银溶液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消耗硫氰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铵标准液的体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滴定试液时消耗硫氰酸铵标准液的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1447920" y="1828800"/>
            <a:ext cx="3962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平行测定结果的绝对差值，氯离子含量小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氯离子含量为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5-25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氯离子含量大于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0.40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809000" y="812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结果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5943600" y="380880"/>
            <a:ext cx="2666880" cy="4433760"/>
            <a:chOff x="5943600" y="380880"/>
            <a:chExt cx="2666880" cy="4433760"/>
          </a:xfrm>
        </p:grpSpPr>
        <p:sp>
          <p:nvSpPr>
            <p:cNvPr id="423" name="Freeform 6"/>
            <p:cNvSpPr/>
            <p:nvPr/>
          </p:nvSpPr>
          <p:spPr>
            <a:xfrm>
              <a:off x="5943600" y="380880"/>
              <a:ext cx="2666880" cy="439092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4390920"/>
                <a:gd name="textAreaBottom" fmla="*/ 4391280 h 4390920"/>
              </a:gdLst>
              <a:ahLst/>
              <a:rect l="textAreaLeft" t="textAreaTop" r="textAreaRight" b="textAreaBottom"/>
              <a:pathLst>
                <a:path w="2592" h="2766">
                  <a:moveTo>
                    <a:pt x="79" y="1855"/>
                  </a:moveTo>
                  <a:lnTo>
                    <a:pt x="117" y="1952"/>
                  </a:lnTo>
                  <a:lnTo>
                    <a:pt x="161" y="2046"/>
                  </a:lnTo>
                  <a:lnTo>
                    <a:pt x="210" y="2136"/>
                  </a:lnTo>
                  <a:lnTo>
                    <a:pt x="266" y="2220"/>
                  </a:lnTo>
                  <a:lnTo>
                    <a:pt x="330" y="2301"/>
                  </a:lnTo>
                  <a:lnTo>
                    <a:pt x="397" y="2376"/>
                  </a:lnTo>
                  <a:lnTo>
                    <a:pt x="468" y="2445"/>
                  </a:lnTo>
                  <a:lnTo>
                    <a:pt x="546" y="2510"/>
                  </a:lnTo>
                  <a:lnTo>
                    <a:pt x="628" y="2566"/>
                  </a:lnTo>
                  <a:lnTo>
                    <a:pt x="713" y="2616"/>
                  </a:lnTo>
                  <a:lnTo>
                    <a:pt x="804" y="2663"/>
                  </a:lnTo>
                  <a:lnTo>
                    <a:pt x="897" y="2697"/>
                  </a:lnTo>
                  <a:lnTo>
                    <a:pt x="994" y="2729"/>
                  </a:lnTo>
                  <a:lnTo>
                    <a:pt x="1093" y="2747"/>
                  </a:lnTo>
                  <a:lnTo>
                    <a:pt x="1192" y="2763"/>
                  </a:lnTo>
                  <a:lnTo>
                    <a:pt x="1297" y="2766"/>
                  </a:lnTo>
                  <a:lnTo>
                    <a:pt x="1400" y="2763"/>
                  </a:lnTo>
                  <a:lnTo>
                    <a:pt x="1502" y="2747"/>
                  </a:lnTo>
                  <a:lnTo>
                    <a:pt x="1601" y="2729"/>
                  </a:lnTo>
                  <a:lnTo>
                    <a:pt x="1695" y="2697"/>
                  </a:lnTo>
                  <a:lnTo>
                    <a:pt x="1788" y="2663"/>
                  </a:lnTo>
                  <a:lnTo>
                    <a:pt x="1879" y="2616"/>
                  </a:lnTo>
                  <a:lnTo>
                    <a:pt x="1964" y="2566"/>
                  </a:lnTo>
                  <a:lnTo>
                    <a:pt x="2046" y="2510"/>
                  </a:lnTo>
                  <a:lnTo>
                    <a:pt x="2122" y="2445"/>
                  </a:lnTo>
                  <a:lnTo>
                    <a:pt x="2195" y="2376"/>
                  </a:lnTo>
                  <a:lnTo>
                    <a:pt x="2262" y="2301"/>
                  </a:lnTo>
                  <a:lnTo>
                    <a:pt x="2326" y="2220"/>
                  </a:lnTo>
                  <a:lnTo>
                    <a:pt x="2382" y="2136"/>
                  </a:lnTo>
                  <a:lnTo>
                    <a:pt x="2431" y="2046"/>
                  </a:lnTo>
                  <a:lnTo>
                    <a:pt x="2475" y="1952"/>
                  </a:lnTo>
                  <a:lnTo>
                    <a:pt x="2513" y="1855"/>
                  </a:lnTo>
                  <a:lnTo>
                    <a:pt x="2545" y="1743"/>
                  </a:lnTo>
                  <a:lnTo>
                    <a:pt x="2572" y="1628"/>
                  </a:lnTo>
                  <a:lnTo>
                    <a:pt x="2586" y="1509"/>
                  </a:lnTo>
                  <a:lnTo>
                    <a:pt x="2592" y="1385"/>
                  </a:lnTo>
                  <a:lnTo>
                    <a:pt x="2586" y="1244"/>
                  </a:lnTo>
                  <a:lnTo>
                    <a:pt x="2566" y="1107"/>
                  </a:lnTo>
                  <a:lnTo>
                    <a:pt x="2534" y="973"/>
                  </a:lnTo>
                  <a:lnTo>
                    <a:pt x="2490" y="845"/>
                  </a:lnTo>
                  <a:lnTo>
                    <a:pt x="2434" y="723"/>
                  </a:lnTo>
                  <a:lnTo>
                    <a:pt x="2370" y="611"/>
                  </a:lnTo>
                  <a:lnTo>
                    <a:pt x="2297" y="505"/>
                  </a:lnTo>
                  <a:lnTo>
                    <a:pt x="2212" y="405"/>
                  </a:lnTo>
                  <a:lnTo>
                    <a:pt x="2122" y="315"/>
                  </a:lnTo>
                  <a:lnTo>
                    <a:pt x="2019" y="237"/>
                  </a:lnTo>
                  <a:lnTo>
                    <a:pt x="1914" y="168"/>
                  </a:lnTo>
                  <a:lnTo>
                    <a:pt x="1800" y="109"/>
                  </a:lnTo>
                  <a:lnTo>
                    <a:pt x="1680" y="62"/>
                  </a:lnTo>
                  <a:lnTo>
                    <a:pt x="1558" y="28"/>
                  </a:lnTo>
                  <a:lnTo>
                    <a:pt x="1429" y="6"/>
                  </a:lnTo>
                  <a:lnTo>
                    <a:pt x="1297" y="0"/>
                  </a:lnTo>
                  <a:lnTo>
                    <a:pt x="1166" y="6"/>
                  </a:lnTo>
                  <a:lnTo>
                    <a:pt x="1037" y="28"/>
                  </a:lnTo>
                  <a:lnTo>
                    <a:pt x="912" y="62"/>
                  </a:lnTo>
                  <a:lnTo>
                    <a:pt x="792" y="109"/>
                  </a:lnTo>
                  <a:lnTo>
                    <a:pt x="678" y="168"/>
                  </a:lnTo>
                  <a:lnTo>
                    <a:pt x="573" y="237"/>
                  </a:lnTo>
                  <a:lnTo>
                    <a:pt x="473" y="315"/>
                  </a:lnTo>
                  <a:lnTo>
                    <a:pt x="380" y="405"/>
                  </a:lnTo>
                  <a:lnTo>
                    <a:pt x="295" y="505"/>
                  </a:lnTo>
                  <a:lnTo>
                    <a:pt x="222" y="611"/>
                  </a:lnTo>
                  <a:lnTo>
                    <a:pt x="158" y="723"/>
                  </a:lnTo>
                  <a:lnTo>
                    <a:pt x="102" y="845"/>
                  </a:lnTo>
                  <a:lnTo>
                    <a:pt x="58" y="973"/>
                  </a:lnTo>
                  <a:lnTo>
                    <a:pt x="26" y="1107"/>
                  </a:lnTo>
                  <a:lnTo>
                    <a:pt x="6" y="1244"/>
                  </a:lnTo>
                  <a:lnTo>
                    <a:pt x="0" y="1385"/>
                  </a:lnTo>
                  <a:lnTo>
                    <a:pt x="6" y="1509"/>
                  </a:lnTo>
                  <a:lnTo>
                    <a:pt x="20" y="1628"/>
                  </a:lnTo>
                  <a:lnTo>
                    <a:pt x="47" y="1743"/>
                  </a:lnTo>
                  <a:lnTo>
                    <a:pt x="79" y="185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6011280" y="3368520"/>
              <a:ext cx="2504160" cy="1446120"/>
            </a:xfrm>
            <a:custGeom>
              <a:avLst/>
              <a:gdLst>
                <a:gd name="textAreaLeft" fmla="*/ 0 w 2504160"/>
                <a:gd name="textAreaRight" fmla="*/ 2504520 w 25041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434" h="911">
                  <a:moveTo>
                    <a:pt x="2434" y="0"/>
                  </a:moveTo>
                  <a:lnTo>
                    <a:pt x="2396" y="97"/>
                  </a:lnTo>
                  <a:lnTo>
                    <a:pt x="2352" y="191"/>
                  </a:lnTo>
                  <a:lnTo>
                    <a:pt x="2303" y="281"/>
                  </a:lnTo>
                  <a:lnTo>
                    <a:pt x="2247" y="365"/>
                  </a:lnTo>
                  <a:lnTo>
                    <a:pt x="2183" y="446"/>
                  </a:lnTo>
                  <a:lnTo>
                    <a:pt x="2116" y="521"/>
                  </a:lnTo>
                  <a:lnTo>
                    <a:pt x="2043" y="590"/>
                  </a:lnTo>
                  <a:lnTo>
                    <a:pt x="1967" y="655"/>
                  </a:lnTo>
                  <a:lnTo>
                    <a:pt x="1885" y="711"/>
                  </a:lnTo>
                  <a:lnTo>
                    <a:pt x="1800" y="761"/>
                  </a:lnTo>
                  <a:lnTo>
                    <a:pt x="1709" y="808"/>
                  </a:lnTo>
                  <a:lnTo>
                    <a:pt x="1616" y="842"/>
                  </a:lnTo>
                  <a:lnTo>
                    <a:pt x="1522" y="874"/>
                  </a:lnTo>
                  <a:lnTo>
                    <a:pt x="1423" y="892"/>
                  </a:lnTo>
                  <a:lnTo>
                    <a:pt x="1321" y="908"/>
                  </a:lnTo>
                  <a:lnTo>
                    <a:pt x="1218" y="911"/>
                  </a:lnTo>
                  <a:lnTo>
                    <a:pt x="1113" y="908"/>
                  </a:lnTo>
                  <a:lnTo>
                    <a:pt x="1014" y="892"/>
                  </a:lnTo>
                  <a:lnTo>
                    <a:pt x="915" y="874"/>
                  </a:lnTo>
                  <a:lnTo>
                    <a:pt x="818" y="842"/>
                  </a:lnTo>
                  <a:lnTo>
                    <a:pt x="725" y="808"/>
                  </a:lnTo>
                  <a:lnTo>
                    <a:pt x="634" y="761"/>
                  </a:lnTo>
                  <a:lnTo>
                    <a:pt x="549" y="711"/>
                  </a:lnTo>
                  <a:lnTo>
                    <a:pt x="467" y="655"/>
                  </a:lnTo>
                  <a:lnTo>
                    <a:pt x="389" y="590"/>
                  </a:lnTo>
                  <a:lnTo>
                    <a:pt x="318" y="521"/>
                  </a:lnTo>
                  <a:lnTo>
                    <a:pt x="251" y="446"/>
                  </a:lnTo>
                  <a:lnTo>
                    <a:pt x="187" y="365"/>
                  </a:lnTo>
                  <a:lnTo>
                    <a:pt x="131" y="281"/>
                  </a:lnTo>
                  <a:lnTo>
                    <a:pt x="82" y="191"/>
                  </a:lnTo>
                  <a:lnTo>
                    <a:pt x="38" y="97"/>
                  </a:lnTo>
                  <a:lnTo>
                    <a:pt x="0" y="0"/>
                  </a:lnTo>
                  <a:lnTo>
                    <a:pt x="76" y="0"/>
                  </a:lnTo>
                  <a:lnTo>
                    <a:pt x="155" y="0"/>
                  </a:lnTo>
                  <a:lnTo>
                    <a:pt x="237" y="0"/>
                  </a:lnTo>
                  <a:lnTo>
                    <a:pt x="321" y="0"/>
                  </a:lnTo>
                  <a:lnTo>
                    <a:pt x="409" y="0"/>
                  </a:lnTo>
                  <a:lnTo>
                    <a:pt x="497" y="0"/>
                  </a:lnTo>
                  <a:lnTo>
                    <a:pt x="587" y="0"/>
                  </a:lnTo>
                  <a:lnTo>
                    <a:pt x="678" y="0"/>
                  </a:lnTo>
                  <a:lnTo>
                    <a:pt x="771" y="0"/>
                  </a:lnTo>
                  <a:lnTo>
                    <a:pt x="862" y="0"/>
                  </a:lnTo>
                  <a:lnTo>
                    <a:pt x="955" y="0"/>
                  </a:lnTo>
                  <a:lnTo>
                    <a:pt x="1049" y="0"/>
                  </a:lnTo>
                  <a:lnTo>
                    <a:pt x="1142" y="0"/>
                  </a:lnTo>
                  <a:lnTo>
                    <a:pt x="1236" y="0"/>
                  </a:lnTo>
                  <a:lnTo>
                    <a:pt x="1327" y="0"/>
                  </a:lnTo>
                  <a:lnTo>
                    <a:pt x="1417" y="0"/>
                  </a:lnTo>
                  <a:lnTo>
                    <a:pt x="1505" y="0"/>
                  </a:lnTo>
                  <a:lnTo>
                    <a:pt x="1593" y="0"/>
                  </a:lnTo>
                  <a:lnTo>
                    <a:pt x="1677" y="0"/>
                  </a:lnTo>
                  <a:lnTo>
                    <a:pt x="1759" y="0"/>
                  </a:lnTo>
                  <a:lnTo>
                    <a:pt x="1838" y="0"/>
                  </a:lnTo>
                  <a:lnTo>
                    <a:pt x="1914" y="0"/>
                  </a:lnTo>
                  <a:lnTo>
                    <a:pt x="1987" y="0"/>
                  </a:lnTo>
                  <a:lnTo>
                    <a:pt x="2054" y="0"/>
                  </a:lnTo>
                  <a:lnTo>
                    <a:pt x="2121" y="0"/>
                  </a:lnTo>
                  <a:lnTo>
                    <a:pt x="2180" y="0"/>
                  </a:lnTo>
                  <a:lnTo>
                    <a:pt x="2235" y="0"/>
                  </a:lnTo>
                  <a:lnTo>
                    <a:pt x="2288" y="0"/>
                  </a:lnTo>
                  <a:lnTo>
                    <a:pt x="2332" y="0"/>
                  </a:lnTo>
                  <a:lnTo>
                    <a:pt x="2373" y="0"/>
                  </a:lnTo>
                  <a:lnTo>
                    <a:pt x="2408" y="0"/>
                  </a:lnTo>
                  <a:lnTo>
                    <a:pt x="243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532920" y="3321000"/>
              <a:ext cx="1559520" cy="123336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516" h="777">
                  <a:moveTo>
                    <a:pt x="672" y="91"/>
                  </a:moveTo>
                  <a:lnTo>
                    <a:pt x="660" y="122"/>
                  </a:lnTo>
                  <a:lnTo>
                    <a:pt x="643" y="141"/>
                  </a:lnTo>
                  <a:lnTo>
                    <a:pt x="628" y="156"/>
                  </a:lnTo>
                  <a:lnTo>
                    <a:pt x="625" y="181"/>
                  </a:lnTo>
                  <a:lnTo>
                    <a:pt x="634" y="225"/>
                  </a:lnTo>
                  <a:lnTo>
                    <a:pt x="640" y="253"/>
                  </a:lnTo>
                  <a:lnTo>
                    <a:pt x="640" y="275"/>
                  </a:lnTo>
                  <a:lnTo>
                    <a:pt x="643" y="287"/>
                  </a:lnTo>
                  <a:lnTo>
                    <a:pt x="651" y="315"/>
                  </a:lnTo>
                  <a:lnTo>
                    <a:pt x="657" y="343"/>
                  </a:lnTo>
                  <a:lnTo>
                    <a:pt x="666" y="375"/>
                  </a:lnTo>
                  <a:lnTo>
                    <a:pt x="681" y="406"/>
                  </a:lnTo>
                  <a:lnTo>
                    <a:pt x="695" y="428"/>
                  </a:lnTo>
                  <a:lnTo>
                    <a:pt x="710" y="431"/>
                  </a:lnTo>
                  <a:lnTo>
                    <a:pt x="727" y="437"/>
                  </a:lnTo>
                  <a:lnTo>
                    <a:pt x="754" y="459"/>
                  </a:lnTo>
                  <a:lnTo>
                    <a:pt x="780" y="487"/>
                  </a:lnTo>
                  <a:lnTo>
                    <a:pt x="798" y="502"/>
                  </a:lnTo>
                  <a:lnTo>
                    <a:pt x="809" y="515"/>
                  </a:lnTo>
                  <a:lnTo>
                    <a:pt x="824" y="530"/>
                  </a:lnTo>
                  <a:lnTo>
                    <a:pt x="836" y="549"/>
                  </a:lnTo>
                  <a:lnTo>
                    <a:pt x="844" y="559"/>
                  </a:lnTo>
                  <a:lnTo>
                    <a:pt x="844" y="565"/>
                  </a:lnTo>
                  <a:lnTo>
                    <a:pt x="836" y="562"/>
                  </a:lnTo>
                  <a:lnTo>
                    <a:pt x="827" y="555"/>
                  </a:lnTo>
                  <a:lnTo>
                    <a:pt x="821" y="549"/>
                  </a:lnTo>
                  <a:lnTo>
                    <a:pt x="812" y="543"/>
                  </a:lnTo>
                  <a:lnTo>
                    <a:pt x="803" y="527"/>
                  </a:lnTo>
                  <a:lnTo>
                    <a:pt x="792" y="512"/>
                  </a:lnTo>
                  <a:lnTo>
                    <a:pt x="777" y="496"/>
                  </a:lnTo>
                  <a:lnTo>
                    <a:pt x="760" y="487"/>
                  </a:lnTo>
                  <a:lnTo>
                    <a:pt x="742" y="474"/>
                  </a:lnTo>
                  <a:lnTo>
                    <a:pt x="724" y="462"/>
                  </a:lnTo>
                  <a:lnTo>
                    <a:pt x="713" y="452"/>
                  </a:lnTo>
                  <a:lnTo>
                    <a:pt x="704" y="446"/>
                  </a:lnTo>
                  <a:lnTo>
                    <a:pt x="701" y="443"/>
                  </a:lnTo>
                  <a:lnTo>
                    <a:pt x="701" y="446"/>
                  </a:lnTo>
                  <a:lnTo>
                    <a:pt x="698" y="459"/>
                  </a:lnTo>
                  <a:lnTo>
                    <a:pt x="692" y="481"/>
                  </a:lnTo>
                  <a:lnTo>
                    <a:pt x="692" y="512"/>
                  </a:lnTo>
                  <a:lnTo>
                    <a:pt x="695" y="537"/>
                  </a:lnTo>
                  <a:lnTo>
                    <a:pt x="698" y="549"/>
                  </a:lnTo>
                  <a:lnTo>
                    <a:pt x="695" y="555"/>
                  </a:lnTo>
                  <a:lnTo>
                    <a:pt x="686" y="568"/>
                  </a:lnTo>
                  <a:lnTo>
                    <a:pt x="678" y="580"/>
                  </a:lnTo>
                  <a:lnTo>
                    <a:pt x="681" y="568"/>
                  </a:lnTo>
                  <a:lnTo>
                    <a:pt x="681" y="540"/>
                  </a:lnTo>
                  <a:lnTo>
                    <a:pt x="681" y="509"/>
                  </a:lnTo>
                  <a:lnTo>
                    <a:pt x="684" y="487"/>
                  </a:lnTo>
                  <a:lnTo>
                    <a:pt x="684" y="468"/>
                  </a:lnTo>
                  <a:lnTo>
                    <a:pt x="678" y="443"/>
                  </a:lnTo>
                  <a:lnTo>
                    <a:pt x="669" y="418"/>
                  </a:lnTo>
                  <a:lnTo>
                    <a:pt x="660" y="399"/>
                  </a:lnTo>
                  <a:lnTo>
                    <a:pt x="651" y="381"/>
                  </a:lnTo>
                  <a:lnTo>
                    <a:pt x="643" y="353"/>
                  </a:lnTo>
                  <a:lnTo>
                    <a:pt x="637" y="325"/>
                  </a:lnTo>
                  <a:lnTo>
                    <a:pt x="634" y="303"/>
                  </a:lnTo>
                  <a:lnTo>
                    <a:pt x="631" y="281"/>
                  </a:lnTo>
                  <a:lnTo>
                    <a:pt x="628" y="262"/>
                  </a:lnTo>
                  <a:lnTo>
                    <a:pt x="622" y="247"/>
                  </a:lnTo>
                  <a:lnTo>
                    <a:pt x="613" y="234"/>
                  </a:lnTo>
                  <a:lnTo>
                    <a:pt x="608" y="222"/>
                  </a:lnTo>
                  <a:lnTo>
                    <a:pt x="599" y="206"/>
                  </a:lnTo>
                  <a:lnTo>
                    <a:pt x="587" y="240"/>
                  </a:lnTo>
                  <a:lnTo>
                    <a:pt x="581" y="259"/>
                  </a:lnTo>
                  <a:lnTo>
                    <a:pt x="578" y="278"/>
                  </a:lnTo>
                  <a:lnTo>
                    <a:pt x="575" y="315"/>
                  </a:lnTo>
                  <a:lnTo>
                    <a:pt x="578" y="337"/>
                  </a:lnTo>
                  <a:lnTo>
                    <a:pt x="584" y="356"/>
                  </a:lnTo>
                  <a:lnTo>
                    <a:pt x="590" y="381"/>
                  </a:lnTo>
                  <a:lnTo>
                    <a:pt x="593" y="409"/>
                  </a:lnTo>
                  <a:lnTo>
                    <a:pt x="596" y="437"/>
                  </a:lnTo>
                  <a:lnTo>
                    <a:pt x="599" y="456"/>
                  </a:lnTo>
                  <a:lnTo>
                    <a:pt x="599" y="471"/>
                  </a:lnTo>
                  <a:lnTo>
                    <a:pt x="602" y="493"/>
                  </a:lnTo>
                  <a:lnTo>
                    <a:pt x="602" y="518"/>
                  </a:lnTo>
                  <a:lnTo>
                    <a:pt x="599" y="537"/>
                  </a:lnTo>
                  <a:lnTo>
                    <a:pt x="596" y="559"/>
                  </a:lnTo>
                  <a:lnTo>
                    <a:pt x="593" y="590"/>
                  </a:lnTo>
                  <a:lnTo>
                    <a:pt x="590" y="621"/>
                  </a:lnTo>
                  <a:lnTo>
                    <a:pt x="590" y="643"/>
                  </a:lnTo>
                  <a:lnTo>
                    <a:pt x="587" y="658"/>
                  </a:lnTo>
                  <a:lnTo>
                    <a:pt x="584" y="677"/>
                  </a:lnTo>
                  <a:lnTo>
                    <a:pt x="575" y="677"/>
                  </a:lnTo>
                  <a:lnTo>
                    <a:pt x="573" y="686"/>
                  </a:lnTo>
                  <a:lnTo>
                    <a:pt x="575" y="668"/>
                  </a:lnTo>
                  <a:lnTo>
                    <a:pt x="578" y="643"/>
                  </a:lnTo>
                  <a:lnTo>
                    <a:pt x="581" y="624"/>
                  </a:lnTo>
                  <a:lnTo>
                    <a:pt x="584" y="608"/>
                  </a:lnTo>
                  <a:lnTo>
                    <a:pt x="584" y="583"/>
                  </a:lnTo>
                  <a:lnTo>
                    <a:pt x="584" y="559"/>
                  </a:lnTo>
                  <a:lnTo>
                    <a:pt x="587" y="540"/>
                  </a:lnTo>
                  <a:lnTo>
                    <a:pt x="590" y="524"/>
                  </a:lnTo>
                  <a:lnTo>
                    <a:pt x="593" y="505"/>
                  </a:lnTo>
                  <a:lnTo>
                    <a:pt x="593" y="484"/>
                  </a:lnTo>
                  <a:lnTo>
                    <a:pt x="587" y="459"/>
                  </a:lnTo>
                  <a:lnTo>
                    <a:pt x="581" y="434"/>
                  </a:lnTo>
                  <a:lnTo>
                    <a:pt x="573" y="409"/>
                  </a:lnTo>
                  <a:lnTo>
                    <a:pt x="570" y="387"/>
                  </a:lnTo>
                  <a:lnTo>
                    <a:pt x="564" y="362"/>
                  </a:lnTo>
                  <a:lnTo>
                    <a:pt x="558" y="340"/>
                  </a:lnTo>
                  <a:lnTo>
                    <a:pt x="546" y="318"/>
                  </a:lnTo>
                  <a:lnTo>
                    <a:pt x="540" y="350"/>
                  </a:lnTo>
                  <a:lnTo>
                    <a:pt x="537" y="368"/>
                  </a:lnTo>
                  <a:lnTo>
                    <a:pt x="532" y="384"/>
                  </a:lnTo>
                  <a:lnTo>
                    <a:pt x="526" y="409"/>
                  </a:lnTo>
                  <a:lnTo>
                    <a:pt x="523" y="440"/>
                  </a:lnTo>
                  <a:lnTo>
                    <a:pt x="520" y="468"/>
                  </a:lnTo>
                  <a:lnTo>
                    <a:pt x="517" y="499"/>
                  </a:lnTo>
                  <a:lnTo>
                    <a:pt x="517" y="534"/>
                  </a:lnTo>
                  <a:lnTo>
                    <a:pt x="517" y="559"/>
                  </a:lnTo>
                  <a:lnTo>
                    <a:pt x="517" y="574"/>
                  </a:lnTo>
                  <a:lnTo>
                    <a:pt x="517" y="587"/>
                  </a:lnTo>
                  <a:lnTo>
                    <a:pt x="523" y="618"/>
                  </a:lnTo>
                  <a:lnTo>
                    <a:pt x="532" y="652"/>
                  </a:lnTo>
                  <a:lnTo>
                    <a:pt x="540" y="674"/>
                  </a:lnTo>
                  <a:lnTo>
                    <a:pt x="546" y="693"/>
                  </a:lnTo>
                  <a:lnTo>
                    <a:pt x="558" y="708"/>
                  </a:lnTo>
                  <a:lnTo>
                    <a:pt x="567" y="727"/>
                  </a:lnTo>
                  <a:lnTo>
                    <a:pt x="570" y="739"/>
                  </a:lnTo>
                  <a:lnTo>
                    <a:pt x="570" y="752"/>
                  </a:lnTo>
                  <a:lnTo>
                    <a:pt x="573" y="764"/>
                  </a:lnTo>
                  <a:lnTo>
                    <a:pt x="567" y="774"/>
                  </a:lnTo>
                  <a:lnTo>
                    <a:pt x="570" y="777"/>
                  </a:lnTo>
                  <a:lnTo>
                    <a:pt x="564" y="764"/>
                  </a:lnTo>
                  <a:lnTo>
                    <a:pt x="558" y="749"/>
                  </a:lnTo>
                  <a:lnTo>
                    <a:pt x="555" y="739"/>
                  </a:lnTo>
                  <a:lnTo>
                    <a:pt x="552" y="730"/>
                  </a:lnTo>
                  <a:lnTo>
                    <a:pt x="546" y="711"/>
                  </a:lnTo>
                  <a:lnTo>
                    <a:pt x="535" y="686"/>
                  </a:lnTo>
                  <a:lnTo>
                    <a:pt x="523" y="665"/>
                  </a:lnTo>
                  <a:lnTo>
                    <a:pt x="517" y="652"/>
                  </a:lnTo>
                  <a:lnTo>
                    <a:pt x="514" y="646"/>
                  </a:lnTo>
                  <a:lnTo>
                    <a:pt x="514" y="640"/>
                  </a:lnTo>
                  <a:lnTo>
                    <a:pt x="511" y="630"/>
                  </a:lnTo>
                  <a:lnTo>
                    <a:pt x="505" y="627"/>
                  </a:lnTo>
                  <a:lnTo>
                    <a:pt x="497" y="636"/>
                  </a:lnTo>
                  <a:lnTo>
                    <a:pt x="491" y="652"/>
                  </a:lnTo>
                  <a:lnTo>
                    <a:pt x="488" y="665"/>
                  </a:lnTo>
                  <a:lnTo>
                    <a:pt x="482" y="677"/>
                  </a:lnTo>
                  <a:lnTo>
                    <a:pt x="473" y="696"/>
                  </a:lnTo>
                  <a:lnTo>
                    <a:pt x="464" y="714"/>
                  </a:lnTo>
                  <a:lnTo>
                    <a:pt x="459" y="724"/>
                  </a:lnTo>
                  <a:lnTo>
                    <a:pt x="456" y="733"/>
                  </a:lnTo>
                  <a:lnTo>
                    <a:pt x="453" y="749"/>
                  </a:lnTo>
                  <a:lnTo>
                    <a:pt x="453" y="764"/>
                  </a:lnTo>
                  <a:lnTo>
                    <a:pt x="456" y="771"/>
                  </a:lnTo>
                  <a:lnTo>
                    <a:pt x="456" y="774"/>
                  </a:lnTo>
                  <a:lnTo>
                    <a:pt x="450" y="774"/>
                  </a:lnTo>
                  <a:lnTo>
                    <a:pt x="441" y="774"/>
                  </a:lnTo>
                  <a:lnTo>
                    <a:pt x="435" y="774"/>
                  </a:lnTo>
                  <a:lnTo>
                    <a:pt x="435" y="767"/>
                  </a:lnTo>
                  <a:lnTo>
                    <a:pt x="441" y="749"/>
                  </a:lnTo>
                  <a:lnTo>
                    <a:pt x="447" y="730"/>
                  </a:lnTo>
                  <a:lnTo>
                    <a:pt x="450" y="718"/>
                  </a:lnTo>
                  <a:lnTo>
                    <a:pt x="456" y="708"/>
                  </a:lnTo>
                  <a:lnTo>
                    <a:pt x="461" y="693"/>
                  </a:lnTo>
                  <a:lnTo>
                    <a:pt x="467" y="677"/>
                  </a:lnTo>
                  <a:lnTo>
                    <a:pt x="470" y="665"/>
                  </a:lnTo>
                  <a:lnTo>
                    <a:pt x="476" y="652"/>
                  </a:lnTo>
                  <a:lnTo>
                    <a:pt x="482" y="633"/>
                  </a:lnTo>
                  <a:lnTo>
                    <a:pt x="488" y="621"/>
                  </a:lnTo>
                  <a:lnTo>
                    <a:pt x="488" y="618"/>
                  </a:lnTo>
                  <a:lnTo>
                    <a:pt x="488" y="608"/>
                  </a:lnTo>
                  <a:lnTo>
                    <a:pt x="491" y="583"/>
                  </a:lnTo>
                  <a:lnTo>
                    <a:pt x="494" y="552"/>
                  </a:lnTo>
                  <a:lnTo>
                    <a:pt x="499" y="527"/>
                  </a:lnTo>
                  <a:lnTo>
                    <a:pt x="502" y="505"/>
                  </a:lnTo>
                  <a:lnTo>
                    <a:pt x="502" y="484"/>
                  </a:lnTo>
                  <a:lnTo>
                    <a:pt x="502" y="462"/>
                  </a:lnTo>
                  <a:lnTo>
                    <a:pt x="508" y="440"/>
                  </a:lnTo>
                  <a:lnTo>
                    <a:pt x="511" y="421"/>
                  </a:lnTo>
                  <a:lnTo>
                    <a:pt x="511" y="399"/>
                  </a:lnTo>
                  <a:lnTo>
                    <a:pt x="514" y="378"/>
                  </a:lnTo>
                  <a:lnTo>
                    <a:pt x="514" y="353"/>
                  </a:lnTo>
                  <a:lnTo>
                    <a:pt x="514" y="331"/>
                  </a:lnTo>
                  <a:lnTo>
                    <a:pt x="517" y="312"/>
                  </a:lnTo>
                  <a:lnTo>
                    <a:pt x="523" y="297"/>
                  </a:lnTo>
                  <a:lnTo>
                    <a:pt x="523" y="281"/>
                  </a:lnTo>
                  <a:lnTo>
                    <a:pt x="520" y="275"/>
                  </a:lnTo>
                  <a:lnTo>
                    <a:pt x="508" y="278"/>
                  </a:lnTo>
                  <a:lnTo>
                    <a:pt x="497" y="284"/>
                  </a:lnTo>
                  <a:lnTo>
                    <a:pt x="491" y="290"/>
                  </a:lnTo>
                  <a:lnTo>
                    <a:pt x="485" y="303"/>
                  </a:lnTo>
                  <a:lnTo>
                    <a:pt x="476" y="325"/>
                  </a:lnTo>
                  <a:lnTo>
                    <a:pt x="467" y="346"/>
                  </a:lnTo>
                  <a:lnTo>
                    <a:pt x="464" y="362"/>
                  </a:lnTo>
                  <a:lnTo>
                    <a:pt x="461" y="375"/>
                  </a:lnTo>
                  <a:lnTo>
                    <a:pt x="459" y="399"/>
                  </a:lnTo>
                  <a:lnTo>
                    <a:pt x="459" y="421"/>
                  </a:lnTo>
                  <a:lnTo>
                    <a:pt x="461" y="434"/>
                  </a:lnTo>
                  <a:lnTo>
                    <a:pt x="464" y="446"/>
                  </a:lnTo>
                  <a:lnTo>
                    <a:pt x="459" y="474"/>
                  </a:lnTo>
                  <a:lnTo>
                    <a:pt x="450" y="505"/>
                  </a:lnTo>
                  <a:lnTo>
                    <a:pt x="444" y="524"/>
                  </a:lnTo>
                  <a:lnTo>
                    <a:pt x="438" y="543"/>
                  </a:lnTo>
                  <a:lnTo>
                    <a:pt x="426" y="571"/>
                  </a:lnTo>
                  <a:lnTo>
                    <a:pt x="418" y="596"/>
                  </a:lnTo>
                  <a:lnTo>
                    <a:pt x="415" y="612"/>
                  </a:lnTo>
                  <a:lnTo>
                    <a:pt x="412" y="627"/>
                  </a:lnTo>
                  <a:lnTo>
                    <a:pt x="403" y="652"/>
                  </a:lnTo>
                  <a:lnTo>
                    <a:pt x="391" y="677"/>
                  </a:lnTo>
                  <a:lnTo>
                    <a:pt x="383" y="699"/>
                  </a:lnTo>
                  <a:lnTo>
                    <a:pt x="374" y="714"/>
                  </a:lnTo>
                  <a:lnTo>
                    <a:pt x="359" y="730"/>
                  </a:lnTo>
                  <a:lnTo>
                    <a:pt x="345" y="746"/>
                  </a:lnTo>
                  <a:lnTo>
                    <a:pt x="336" y="755"/>
                  </a:lnTo>
                  <a:lnTo>
                    <a:pt x="333" y="755"/>
                  </a:lnTo>
                  <a:lnTo>
                    <a:pt x="336" y="746"/>
                  </a:lnTo>
                  <a:lnTo>
                    <a:pt x="342" y="733"/>
                  </a:lnTo>
                  <a:lnTo>
                    <a:pt x="350" y="727"/>
                  </a:lnTo>
                  <a:lnTo>
                    <a:pt x="356" y="718"/>
                  </a:lnTo>
                  <a:lnTo>
                    <a:pt x="365" y="702"/>
                  </a:lnTo>
                  <a:lnTo>
                    <a:pt x="374" y="683"/>
                  </a:lnTo>
                  <a:lnTo>
                    <a:pt x="383" y="671"/>
                  </a:lnTo>
                  <a:lnTo>
                    <a:pt x="388" y="655"/>
                  </a:lnTo>
                  <a:lnTo>
                    <a:pt x="397" y="624"/>
                  </a:lnTo>
                  <a:lnTo>
                    <a:pt x="406" y="587"/>
                  </a:lnTo>
                  <a:lnTo>
                    <a:pt x="415" y="562"/>
                  </a:lnTo>
                  <a:lnTo>
                    <a:pt x="423" y="537"/>
                  </a:lnTo>
                  <a:lnTo>
                    <a:pt x="432" y="505"/>
                  </a:lnTo>
                  <a:lnTo>
                    <a:pt x="438" y="471"/>
                  </a:lnTo>
                  <a:lnTo>
                    <a:pt x="441" y="446"/>
                  </a:lnTo>
                  <a:lnTo>
                    <a:pt x="441" y="421"/>
                  </a:lnTo>
                  <a:lnTo>
                    <a:pt x="444" y="393"/>
                  </a:lnTo>
                  <a:lnTo>
                    <a:pt x="453" y="362"/>
                  </a:lnTo>
                  <a:lnTo>
                    <a:pt x="464" y="331"/>
                  </a:lnTo>
                  <a:lnTo>
                    <a:pt x="467" y="306"/>
                  </a:lnTo>
                  <a:lnTo>
                    <a:pt x="456" y="293"/>
                  </a:lnTo>
                  <a:lnTo>
                    <a:pt x="438" y="293"/>
                  </a:lnTo>
                  <a:lnTo>
                    <a:pt x="423" y="303"/>
                  </a:lnTo>
                  <a:lnTo>
                    <a:pt x="412" y="322"/>
                  </a:lnTo>
                  <a:lnTo>
                    <a:pt x="397" y="346"/>
                  </a:lnTo>
                  <a:lnTo>
                    <a:pt x="383" y="365"/>
                  </a:lnTo>
                  <a:lnTo>
                    <a:pt x="377" y="378"/>
                  </a:lnTo>
                  <a:lnTo>
                    <a:pt x="374" y="393"/>
                  </a:lnTo>
                  <a:lnTo>
                    <a:pt x="371" y="415"/>
                  </a:lnTo>
                  <a:lnTo>
                    <a:pt x="368" y="437"/>
                  </a:lnTo>
                  <a:lnTo>
                    <a:pt x="368" y="446"/>
                  </a:lnTo>
                  <a:lnTo>
                    <a:pt x="365" y="459"/>
                  </a:lnTo>
                  <a:lnTo>
                    <a:pt x="365" y="484"/>
                  </a:lnTo>
                  <a:lnTo>
                    <a:pt x="368" y="512"/>
                  </a:lnTo>
                  <a:lnTo>
                    <a:pt x="368" y="534"/>
                  </a:lnTo>
                  <a:lnTo>
                    <a:pt x="368" y="555"/>
                  </a:lnTo>
                  <a:lnTo>
                    <a:pt x="362" y="587"/>
                  </a:lnTo>
                  <a:lnTo>
                    <a:pt x="353" y="618"/>
                  </a:lnTo>
                  <a:lnTo>
                    <a:pt x="345" y="640"/>
                  </a:lnTo>
                  <a:lnTo>
                    <a:pt x="336" y="658"/>
                  </a:lnTo>
                  <a:lnTo>
                    <a:pt x="324" y="677"/>
                  </a:lnTo>
                  <a:lnTo>
                    <a:pt x="315" y="693"/>
                  </a:lnTo>
                  <a:lnTo>
                    <a:pt x="310" y="702"/>
                  </a:lnTo>
                  <a:lnTo>
                    <a:pt x="307" y="699"/>
                  </a:lnTo>
                  <a:lnTo>
                    <a:pt x="312" y="683"/>
                  </a:lnTo>
                  <a:lnTo>
                    <a:pt x="324" y="661"/>
                  </a:lnTo>
                  <a:lnTo>
                    <a:pt x="333" y="646"/>
                  </a:lnTo>
                  <a:lnTo>
                    <a:pt x="339" y="627"/>
                  </a:lnTo>
                  <a:lnTo>
                    <a:pt x="345" y="605"/>
                  </a:lnTo>
                  <a:lnTo>
                    <a:pt x="350" y="583"/>
                  </a:lnTo>
                  <a:lnTo>
                    <a:pt x="356" y="568"/>
                  </a:lnTo>
                  <a:lnTo>
                    <a:pt x="359" y="555"/>
                  </a:lnTo>
                  <a:lnTo>
                    <a:pt x="356" y="534"/>
                  </a:lnTo>
                  <a:lnTo>
                    <a:pt x="353" y="512"/>
                  </a:lnTo>
                  <a:lnTo>
                    <a:pt x="350" y="493"/>
                  </a:lnTo>
                  <a:lnTo>
                    <a:pt x="350" y="474"/>
                  </a:lnTo>
                  <a:lnTo>
                    <a:pt x="350" y="449"/>
                  </a:lnTo>
                  <a:lnTo>
                    <a:pt x="353" y="421"/>
                  </a:lnTo>
                  <a:lnTo>
                    <a:pt x="356" y="396"/>
                  </a:lnTo>
                  <a:lnTo>
                    <a:pt x="362" y="381"/>
                  </a:lnTo>
                  <a:lnTo>
                    <a:pt x="362" y="375"/>
                  </a:lnTo>
                  <a:lnTo>
                    <a:pt x="345" y="384"/>
                  </a:lnTo>
                  <a:lnTo>
                    <a:pt x="327" y="396"/>
                  </a:lnTo>
                  <a:lnTo>
                    <a:pt x="307" y="409"/>
                  </a:lnTo>
                  <a:lnTo>
                    <a:pt x="289" y="421"/>
                  </a:lnTo>
                  <a:lnTo>
                    <a:pt x="272" y="437"/>
                  </a:lnTo>
                  <a:lnTo>
                    <a:pt x="260" y="449"/>
                  </a:lnTo>
                  <a:lnTo>
                    <a:pt x="251" y="462"/>
                  </a:lnTo>
                  <a:lnTo>
                    <a:pt x="245" y="471"/>
                  </a:lnTo>
                  <a:lnTo>
                    <a:pt x="234" y="484"/>
                  </a:lnTo>
                  <a:lnTo>
                    <a:pt x="225" y="490"/>
                  </a:lnTo>
                  <a:lnTo>
                    <a:pt x="222" y="502"/>
                  </a:lnTo>
                  <a:lnTo>
                    <a:pt x="225" y="530"/>
                  </a:lnTo>
                  <a:lnTo>
                    <a:pt x="231" y="559"/>
                  </a:lnTo>
                  <a:lnTo>
                    <a:pt x="228" y="574"/>
                  </a:lnTo>
                  <a:lnTo>
                    <a:pt x="225" y="590"/>
                  </a:lnTo>
                  <a:lnTo>
                    <a:pt x="225" y="612"/>
                  </a:lnTo>
                  <a:lnTo>
                    <a:pt x="231" y="636"/>
                  </a:lnTo>
                  <a:lnTo>
                    <a:pt x="236" y="646"/>
                  </a:lnTo>
                  <a:lnTo>
                    <a:pt x="236" y="649"/>
                  </a:lnTo>
                  <a:lnTo>
                    <a:pt x="228" y="646"/>
                  </a:lnTo>
                  <a:lnTo>
                    <a:pt x="219" y="640"/>
                  </a:lnTo>
                  <a:lnTo>
                    <a:pt x="219" y="636"/>
                  </a:lnTo>
                  <a:lnTo>
                    <a:pt x="219" y="627"/>
                  </a:lnTo>
                  <a:lnTo>
                    <a:pt x="219" y="608"/>
                  </a:lnTo>
                  <a:lnTo>
                    <a:pt x="216" y="590"/>
                  </a:lnTo>
                  <a:lnTo>
                    <a:pt x="216" y="571"/>
                  </a:lnTo>
                  <a:lnTo>
                    <a:pt x="213" y="555"/>
                  </a:lnTo>
                  <a:lnTo>
                    <a:pt x="213" y="537"/>
                  </a:lnTo>
                  <a:lnTo>
                    <a:pt x="213" y="518"/>
                  </a:lnTo>
                  <a:lnTo>
                    <a:pt x="213" y="505"/>
                  </a:lnTo>
                  <a:lnTo>
                    <a:pt x="216" y="493"/>
                  </a:lnTo>
                  <a:lnTo>
                    <a:pt x="228" y="474"/>
                  </a:lnTo>
                  <a:lnTo>
                    <a:pt x="242" y="456"/>
                  </a:lnTo>
                  <a:lnTo>
                    <a:pt x="254" y="443"/>
                  </a:lnTo>
                  <a:lnTo>
                    <a:pt x="263" y="431"/>
                  </a:lnTo>
                  <a:lnTo>
                    <a:pt x="277" y="421"/>
                  </a:lnTo>
                  <a:lnTo>
                    <a:pt x="289" y="415"/>
                  </a:lnTo>
                  <a:lnTo>
                    <a:pt x="295" y="406"/>
                  </a:lnTo>
                  <a:lnTo>
                    <a:pt x="304" y="399"/>
                  </a:lnTo>
                  <a:lnTo>
                    <a:pt x="318" y="384"/>
                  </a:lnTo>
                  <a:lnTo>
                    <a:pt x="333" y="371"/>
                  </a:lnTo>
                  <a:lnTo>
                    <a:pt x="339" y="365"/>
                  </a:lnTo>
                  <a:lnTo>
                    <a:pt x="345" y="359"/>
                  </a:lnTo>
                  <a:lnTo>
                    <a:pt x="356" y="350"/>
                  </a:lnTo>
                  <a:lnTo>
                    <a:pt x="368" y="340"/>
                  </a:lnTo>
                  <a:lnTo>
                    <a:pt x="380" y="331"/>
                  </a:lnTo>
                  <a:lnTo>
                    <a:pt x="385" y="325"/>
                  </a:lnTo>
                  <a:lnTo>
                    <a:pt x="380" y="318"/>
                  </a:lnTo>
                  <a:lnTo>
                    <a:pt x="371" y="312"/>
                  </a:lnTo>
                  <a:lnTo>
                    <a:pt x="362" y="309"/>
                  </a:lnTo>
                  <a:lnTo>
                    <a:pt x="356" y="309"/>
                  </a:lnTo>
                  <a:lnTo>
                    <a:pt x="345" y="315"/>
                  </a:lnTo>
                  <a:lnTo>
                    <a:pt x="336" y="322"/>
                  </a:lnTo>
                  <a:lnTo>
                    <a:pt x="333" y="325"/>
                  </a:lnTo>
                  <a:lnTo>
                    <a:pt x="324" y="331"/>
                  </a:lnTo>
                  <a:lnTo>
                    <a:pt x="312" y="337"/>
                  </a:lnTo>
                  <a:lnTo>
                    <a:pt x="298" y="346"/>
                  </a:lnTo>
                  <a:lnTo>
                    <a:pt x="289" y="353"/>
                  </a:lnTo>
                  <a:lnTo>
                    <a:pt x="280" y="359"/>
                  </a:lnTo>
                  <a:lnTo>
                    <a:pt x="272" y="368"/>
                  </a:lnTo>
                  <a:lnTo>
                    <a:pt x="257" y="371"/>
                  </a:lnTo>
                  <a:lnTo>
                    <a:pt x="242" y="371"/>
                  </a:lnTo>
                  <a:lnTo>
                    <a:pt x="225" y="375"/>
                  </a:lnTo>
                  <a:lnTo>
                    <a:pt x="210" y="384"/>
                  </a:lnTo>
                  <a:lnTo>
                    <a:pt x="201" y="396"/>
                  </a:lnTo>
                  <a:lnTo>
                    <a:pt x="193" y="399"/>
                  </a:lnTo>
                  <a:lnTo>
                    <a:pt x="181" y="399"/>
                  </a:lnTo>
                  <a:lnTo>
                    <a:pt x="163" y="406"/>
                  </a:lnTo>
                  <a:lnTo>
                    <a:pt x="149" y="415"/>
                  </a:lnTo>
                  <a:lnTo>
                    <a:pt x="137" y="424"/>
                  </a:lnTo>
                  <a:lnTo>
                    <a:pt x="128" y="428"/>
                  </a:lnTo>
                  <a:lnTo>
                    <a:pt x="117" y="431"/>
                  </a:lnTo>
                  <a:lnTo>
                    <a:pt x="111" y="424"/>
                  </a:lnTo>
                  <a:lnTo>
                    <a:pt x="114" y="418"/>
                  </a:lnTo>
                  <a:lnTo>
                    <a:pt x="122" y="412"/>
                  </a:lnTo>
                  <a:lnTo>
                    <a:pt x="125" y="409"/>
                  </a:lnTo>
                  <a:lnTo>
                    <a:pt x="131" y="406"/>
                  </a:lnTo>
                  <a:lnTo>
                    <a:pt x="140" y="403"/>
                  </a:lnTo>
                  <a:lnTo>
                    <a:pt x="155" y="396"/>
                  </a:lnTo>
                  <a:lnTo>
                    <a:pt x="166" y="390"/>
                  </a:lnTo>
                  <a:lnTo>
                    <a:pt x="178" y="381"/>
                  </a:lnTo>
                  <a:lnTo>
                    <a:pt x="187" y="375"/>
                  </a:lnTo>
                  <a:lnTo>
                    <a:pt x="201" y="368"/>
                  </a:lnTo>
                  <a:lnTo>
                    <a:pt x="216" y="362"/>
                  </a:lnTo>
                  <a:lnTo>
                    <a:pt x="228" y="362"/>
                  </a:lnTo>
                  <a:lnTo>
                    <a:pt x="236" y="359"/>
                  </a:lnTo>
                  <a:lnTo>
                    <a:pt x="242" y="350"/>
                  </a:lnTo>
                  <a:lnTo>
                    <a:pt x="248" y="340"/>
                  </a:lnTo>
                  <a:lnTo>
                    <a:pt x="254" y="334"/>
                  </a:lnTo>
                  <a:lnTo>
                    <a:pt x="251" y="328"/>
                  </a:lnTo>
                  <a:lnTo>
                    <a:pt x="236" y="318"/>
                  </a:lnTo>
                  <a:lnTo>
                    <a:pt x="216" y="309"/>
                  </a:lnTo>
                  <a:lnTo>
                    <a:pt x="204" y="303"/>
                  </a:lnTo>
                  <a:lnTo>
                    <a:pt x="190" y="303"/>
                  </a:lnTo>
                  <a:lnTo>
                    <a:pt x="172" y="300"/>
                  </a:lnTo>
                  <a:lnTo>
                    <a:pt x="152" y="303"/>
                  </a:lnTo>
                  <a:lnTo>
                    <a:pt x="134" y="309"/>
                  </a:lnTo>
                  <a:lnTo>
                    <a:pt x="122" y="315"/>
                  </a:lnTo>
                  <a:lnTo>
                    <a:pt x="120" y="318"/>
                  </a:lnTo>
                  <a:lnTo>
                    <a:pt x="128" y="303"/>
                  </a:lnTo>
                  <a:lnTo>
                    <a:pt x="134" y="297"/>
                  </a:lnTo>
                  <a:lnTo>
                    <a:pt x="140" y="293"/>
                  </a:lnTo>
                  <a:lnTo>
                    <a:pt x="155" y="290"/>
                  </a:lnTo>
                  <a:lnTo>
                    <a:pt x="169" y="287"/>
                  </a:lnTo>
                  <a:lnTo>
                    <a:pt x="181" y="284"/>
                  </a:lnTo>
                  <a:lnTo>
                    <a:pt x="196" y="287"/>
                  </a:lnTo>
                  <a:lnTo>
                    <a:pt x="213" y="290"/>
                  </a:lnTo>
                  <a:lnTo>
                    <a:pt x="231" y="297"/>
                  </a:lnTo>
                  <a:lnTo>
                    <a:pt x="239" y="300"/>
                  </a:lnTo>
                  <a:lnTo>
                    <a:pt x="245" y="306"/>
                  </a:lnTo>
                  <a:lnTo>
                    <a:pt x="257" y="318"/>
                  </a:lnTo>
                  <a:lnTo>
                    <a:pt x="269" y="331"/>
                  </a:lnTo>
                  <a:lnTo>
                    <a:pt x="272" y="340"/>
                  </a:lnTo>
                  <a:lnTo>
                    <a:pt x="274" y="343"/>
                  </a:lnTo>
                  <a:lnTo>
                    <a:pt x="292" y="334"/>
                  </a:lnTo>
                  <a:lnTo>
                    <a:pt x="307" y="322"/>
                  </a:lnTo>
                  <a:lnTo>
                    <a:pt x="312" y="309"/>
                  </a:lnTo>
                  <a:lnTo>
                    <a:pt x="321" y="303"/>
                  </a:lnTo>
                  <a:lnTo>
                    <a:pt x="342" y="293"/>
                  </a:lnTo>
                  <a:lnTo>
                    <a:pt x="362" y="287"/>
                  </a:lnTo>
                  <a:lnTo>
                    <a:pt x="374" y="284"/>
                  </a:lnTo>
                  <a:lnTo>
                    <a:pt x="383" y="281"/>
                  </a:lnTo>
                  <a:lnTo>
                    <a:pt x="397" y="275"/>
                  </a:lnTo>
                  <a:lnTo>
                    <a:pt x="415" y="272"/>
                  </a:lnTo>
                  <a:lnTo>
                    <a:pt x="423" y="272"/>
                  </a:lnTo>
                  <a:lnTo>
                    <a:pt x="435" y="268"/>
                  </a:lnTo>
                  <a:lnTo>
                    <a:pt x="450" y="250"/>
                  </a:lnTo>
                  <a:lnTo>
                    <a:pt x="464" y="234"/>
                  </a:lnTo>
                  <a:lnTo>
                    <a:pt x="470" y="231"/>
                  </a:lnTo>
                  <a:lnTo>
                    <a:pt x="473" y="225"/>
                  </a:lnTo>
                  <a:lnTo>
                    <a:pt x="482" y="200"/>
                  </a:lnTo>
                  <a:lnTo>
                    <a:pt x="491" y="172"/>
                  </a:lnTo>
                  <a:lnTo>
                    <a:pt x="497" y="156"/>
                  </a:lnTo>
                  <a:lnTo>
                    <a:pt x="499" y="147"/>
                  </a:lnTo>
                  <a:lnTo>
                    <a:pt x="505" y="125"/>
                  </a:lnTo>
                  <a:lnTo>
                    <a:pt x="514" y="97"/>
                  </a:lnTo>
                  <a:lnTo>
                    <a:pt x="517" y="81"/>
                  </a:lnTo>
                  <a:lnTo>
                    <a:pt x="511" y="72"/>
                  </a:lnTo>
                  <a:lnTo>
                    <a:pt x="497" y="75"/>
                  </a:lnTo>
                  <a:lnTo>
                    <a:pt x="482" y="85"/>
                  </a:lnTo>
                  <a:lnTo>
                    <a:pt x="476" y="91"/>
                  </a:lnTo>
                  <a:lnTo>
                    <a:pt x="467" y="100"/>
                  </a:lnTo>
                  <a:lnTo>
                    <a:pt x="453" y="113"/>
                  </a:lnTo>
                  <a:lnTo>
                    <a:pt x="429" y="122"/>
                  </a:lnTo>
                  <a:lnTo>
                    <a:pt x="412" y="131"/>
                  </a:lnTo>
                  <a:lnTo>
                    <a:pt x="397" y="141"/>
                  </a:lnTo>
                  <a:lnTo>
                    <a:pt x="383" y="150"/>
                  </a:lnTo>
                  <a:lnTo>
                    <a:pt x="374" y="156"/>
                  </a:lnTo>
                  <a:lnTo>
                    <a:pt x="368" y="162"/>
                  </a:lnTo>
                  <a:lnTo>
                    <a:pt x="356" y="166"/>
                  </a:lnTo>
                  <a:lnTo>
                    <a:pt x="339" y="172"/>
                  </a:lnTo>
                  <a:lnTo>
                    <a:pt x="318" y="181"/>
                  </a:lnTo>
                  <a:lnTo>
                    <a:pt x="304" y="187"/>
                  </a:lnTo>
                  <a:lnTo>
                    <a:pt x="289" y="194"/>
                  </a:lnTo>
                  <a:lnTo>
                    <a:pt x="274" y="200"/>
                  </a:lnTo>
                  <a:lnTo>
                    <a:pt x="260" y="203"/>
                  </a:lnTo>
                  <a:lnTo>
                    <a:pt x="248" y="206"/>
                  </a:lnTo>
                  <a:lnTo>
                    <a:pt x="236" y="209"/>
                  </a:lnTo>
                  <a:lnTo>
                    <a:pt x="222" y="212"/>
                  </a:lnTo>
                  <a:lnTo>
                    <a:pt x="207" y="215"/>
                  </a:lnTo>
                  <a:lnTo>
                    <a:pt x="196" y="219"/>
                  </a:lnTo>
                  <a:lnTo>
                    <a:pt x="184" y="225"/>
                  </a:lnTo>
                  <a:lnTo>
                    <a:pt x="166" y="228"/>
                  </a:lnTo>
                  <a:lnTo>
                    <a:pt x="146" y="234"/>
                  </a:lnTo>
                  <a:lnTo>
                    <a:pt x="125" y="244"/>
                  </a:lnTo>
                  <a:lnTo>
                    <a:pt x="108" y="256"/>
                  </a:lnTo>
                  <a:lnTo>
                    <a:pt x="93" y="268"/>
                  </a:lnTo>
                  <a:lnTo>
                    <a:pt x="82" y="278"/>
                  </a:lnTo>
                  <a:lnTo>
                    <a:pt x="67" y="281"/>
                  </a:lnTo>
                  <a:lnTo>
                    <a:pt x="55" y="281"/>
                  </a:lnTo>
                  <a:lnTo>
                    <a:pt x="38" y="287"/>
                  </a:lnTo>
                  <a:lnTo>
                    <a:pt x="23" y="297"/>
                  </a:lnTo>
                  <a:lnTo>
                    <a:pt x="11" y="309"/>
                  </a:lnTo>
                  <a:lnTo>
                    <a:pt x="3" y="312"/>
                  </a:lnTo>
                  <a:lnTo>
                    <a:pt x="0" y="306"/>
                  </a:lnTo>
                  <a:lnTo>
                    <a:pt x="3" y="297"/>
                  </a:lnTo>
                  <a:lnTo>
                    <a:pt x="11" y="290"/>
                  </a:lnTo>
                  <a:lnTo>
                    <a:pt x="17" y="284"/>
                  </a:lnTo>
                  <a:lnTo>
                    <a:pt x="23" y="281"/>
                  </a:lnTo>
                  <a:lnTo>
                    <a:pt x="41" y="278"/>
                  </a:lnTo>
                  <a:lnTo>
                    <a:pt x="52" y="275"/>
                  </a:lnTo>
                  <a:lnTo>
                    <a:pt x="58" y="272"/>
                  </a:lnTo>
                  <a:lnTo>
                    <a:pt x="61" y="272"/>
                  </a:lnTo>
                  <a:lnTo>
                    <a:pt x="64" y="268"/>
                  </a:lnTo>
                  <a:lnTo>
                    <a:pt x="70" y="265"/>
                  </a:lnTo>
                  <a:lnTo>
                    <a:pt x="84" y="256"/>
                  </a:lnTo>
                  <a:lnTo>
                    <a:pt x="102" y="247"/>
                  </a:lnTo>
                  <a:lnTo>
                    <a:pt x="120" y="237"/>
                  </a:lnTo>
                  <a:lnTo>
                    <a:pt x="128" y="231"/>
                  </a:lnTo>
                  <a:lnTo>
                    <a:pt x="137" y="228"/>
                  </a:lnTo>
                  <a:lnTo>
                    <a:pt x="155" y="219"/>
                  </a:lnTo>
                  <a:lnTo>
                    <a:pt x="175" y="209"/>
                  </a:lnTo>
                  <a:lnTo>
                    <a:pt x="187" y="206"/>
                  </a:lnTo>
                  <a:lnTo>
                    <a:pt x="198" y="200"/>
                  </a:lnTo>
                  <a:lnTo>
                    <a:pt x="219" y="194"/>
                  </a:lnTo>
                  <a:lnTo>
                    <a:pt x="239" y="187"/>
                  </a:lnTo>
                  <a:lnTo>
                    <a:pt x="254" y="181"/>
                  </a:lnTo>
                  <a:lnTo>
                    <a:pt x="263" y="178"/>
                  </a:lnTo>
                  <a:lnTo>
                    <a:pt x="266" y="178"/>
                  </a:lnTo>
                  <a:lnTo>
                    <a:pt x="257" y="169"/>
                  </a:lnTo>
                  <a:lnTo>
                    <a:pt x="251" y="162"/>
                  </a:lnTo>
                  <a:lnTo>
                    <a:pt x="245" y="162"/>
                  </a:lnTo>
                  <a:lnTo>
                    <a:pt x="228" y="159"/>
                  </a:lnTo>
                  <a:lnTo>
                    <a:pt x="207" y="156"/>
                  </a:lnTo>
                  <a:lnTo>
                    <a:pt x="196" y="153"/>
                  </a:lnTo>
                  <a:lnTo>
                    <a:pt x="184" y="150"/>
                  </a:lnTo>
                  <a:lnTo>
                    <a:pt x="169" y="156"/>
                  </a:lnTo>
                  <a:lnTo>
                    <a:pt x="152" y="162"/>
                  </a:lnTo>
                  <a:lnTo>
                    <a:pt x="140" y="169"/>
                  </a:lnTo>
                  <a:lnTo>
                    <a:pt x="128" y="172"/>
                  </a:lnTo>
                  <a:lnTo>
                    <a:pt x="114" y="175"/>
                  </a:lnTo>
                  <a:lnTo>
                    <a:pt x="125" y="169"/>
                  </a:lnTo>
                  <a:lnTo>
                    <a:pt x="131" y="162"/>
                  </a:lnTo>
                  <a:lnTo>
                    <a:pt x="140" y="159"/>
                  </a:lnTo>
                  <a:lnTo>
                    <a:pt x="158" y="153"/>
                  </a:lnTo>
                  <a:lnTo>
                    <a:pt x="181" y="147"/>
                  </a:lnTo>
                  <a:lnTo>
                    <a:pt x="196" y="144"/>
                  </a:lnTo>
                  <a:lnTo>
                    <a:pt x="201" y="141"/>
                  </a:lnTo>
                  <a:lnTo>
                    <a:pt x="204" y="141"/>
                  </a:lnTo>
                  <a:lnTo>
                    <a:pt x="184" y="125"/>
                  </a:lnTo>
                  <a:lnTo>
                    <a:pt x="169" y="113"/>
                  </a:lnTo>
                  <a:lnTo>
                    <a:pt x="160" y="100"/>
                  </a:lnTo>
                  <a:lnTo>
                    <a:pt x="158" y="97"/>
                  </a:lnTo>
                  <a:lnTo>
                    <a:pt x="169" y="100"/>
                  </a:lnTo>
                  <a:lnTo>
                    <a:pt x="181" y="103"/>
                  </a:lnTo>
                  <a:lnTo>
                    <a:pt x="190" y="109"/>
                  </a:lnTo>
                  <a:lnTo>
                    <a:pt x="193" y="113"/>
                  </a:lnTo>
                  <a:lnTo>
                    <a:pt x="193" y="116"/>
                  </a:lnTo>
                  <a:lnTo>
                    <a:pt x="196" y="119"/>
                  </a:lnTo>
                  <a:lnTo>
                    <a:pt x="204" y="125"/>
                  </a:lnTo>
                  <a:lnTo>
                    <a:pt x="219" y="131"/>
                  </a:lnTo>
                  <a:lnTo>
                    <a:pt x="236" y="138"/>
                  </a:lnTo>
                  <a:lnTo>
                    <a:pt x="248" y="144"/>
                  </a:lnTo>
                  <a:lnTo>
                    <a:pt x="263" y="150"/>
                  </a:lnTo>
                  <a:lnTo>
                    <a:pt x="283" y="153"/>
                  </a:lnTo>
                  <a:lnTo>
                    <a:pt x="301" y="153"/>
                  </a:lnTo>
                  <a:lnTo>
                    <a:pt x="312" y="153"/>
                  </a:lnTo>
                  <a:lnTo>
                    <a:pt x="321" y="147"/>
                  </a:lnTo>
                  <a:lnTo>
                    <a:pt x="339" y="141"/>
                  </a:lnTo>
                  <a:lnTo>
                    <a:pt x="350" y="138"/>
                  </a:lnTo>
                  <a:lnTo>
                    <a:pt x="365" y="131"/>
                  </a:lnTo>
                  <a:lnTo>
                    <a:pt x="377" y="125"/>
                  </a:lnTo>
                  <a:lnTo>
                    <a:pt x="388" y="119"/>
                  </a:lnTo>
                  <a:lnTo>
                    <a:pt x="400" y="113"/>
                  </a:lnTo>
                  <a:lnTo>
                    <a:pt x="412" y="106"/>
                  </a:lnTo>
                  <a:lnTo>
                    <a:pt x="423" y="97"/>
                  </a:lnTo>
                  <a:lnTo>
                    <a:pt x="432" y="91"/>
                  </a:lnTo>
                  <a:lnTo>
                    <a:pt x="444" y="85"/>
                  </a:lnTo>
                  <a:lnTo>
                    <a:pt x="461" y="75"/>
                  </a:lnTo>
                  <a:lnTo>
                    <a:pt x="479" y="69"/>
                  </a:lnTo>
                  <a:lnTo>
                    <a:pt x="497" y="63"/>
                  </a:lnTo>
                  <a:lnTo>
                    <a:pt x="508" y="56"/>
                  </a:lnTo>
                  <a:lnTo>
                    <a:pt x="517" y="47"/>
                  </a:lnTo>
                  <a:lnTo>
                    <a:pt x="517" y="44"/>
                  </a:lnTo>
                  <a:lnTo>
                    <a:pt x="505" y="38"/>
                  </a:lnTo>
                  <a:lnTo>
                    <a:pt x="488" y="31"/>
                  </a:lnTo>
                  <a:lnTo>
                    <a:pt x="467" y="31"/>
                  </a:lnTo>
                  <a:lnTo>
                    <a:pt x="444" y="28"/>
                  </a:lnTo>
                  <a:lnTo>
                    <a:pt x="421" y="28"/>
                  </a:lnTo>
                  <a:lnTo>
                    <a:pt x="394" y="22"/>
                  </a:lnTo>
                  <a:lnTo>
                    <a:pt x="377" y="19"/>
                  </a:lnTo>
                  <a:lnTo>
                    <a:pt x="359" y="13"/>
                  </a:lnTo>
                  <a:lnTo>
                    <a:pt x="345" y="7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7" y="7"/>
                  </a:lnTo>
                  <a:lnTo>
                    <a:pt x="333" y="7"/>
                  </a:lnTo>
                  <a:lnTo>
                    <a:pt x="353" y="7"/>
                  </a:lnTo>
                  <a:lnTo>
                    <a:pt x="383" y="7"/>
                  </a:lnTo>
                  <a:lnTo>
                    <a:pt x="421" y="7"/>
                  </a:lnTo>
                  <a:lnTo>
                    <a:pt x="464" y="7"/>
                  </a:lnTo>
                  <a:lnTo>
                    <a:pt x="517" y="7"/>
                  </a:lnTo>
                  <a:lnTo>
                    <a:pt x="573" y="3"/>
                  </a:lnTo>
                  <a:lnTo>
                    <a:pt x="628" y="3"/>
                  </a:lnTo>
                  <a:lnTo>
                    <a:pt x="689" y="3"/>
                  </a:lnTo>
                  <a:lnTo>
                    <a:pt x="748" y="3"/>
                  </a:lnTo>
                  <a:lnTo>
                    <a:pt x="803" y="3"/>
                  </a:lnTo>
                  <a:lnTo>
                    <a:pt x="856" y="0"/>
                  </a:lnTo>
                  <a:lnTo>
                    <a:pt x="906" y="0"/>
                  </a:lnTo>
                  <a:lnTo>
                    <a:pt x="947" y="0"/>
                  </a:lnTo>
                  <a:lnTo>
                    <a:pt x="982" y="0"/>
                  </a:lnTo>
                  <a:lnTo>
                    <a:pt x="1005" y="0"/>
                  </a:lnTo>
                  <a:lnTo>
                    <a:pt x="1020" y="0"/>
                  </a:lnTo>
                  <a:lnTo>
                    <a:pt x="1002" y="7"/>
                  </a:lnTo>
                  <a:lnTo>
                    <a:pt x="990" y="10"/>
                  </a:lnTo>
                  <a:lnTo>
                    <a:pt x="985" y="16"/>
                  </a:lnTo>
                  <a:lnTo>
                    <a:pt x="985" y="28"/>
                  </a:lnTo>
                  <a:lnTo>
                    <a:pt x="1005" y="50"/>
                  </a:lnTo>
                  <a:lnTo>
                    <a:pt x="1025" y="60"/>
                  </a:lnTo>
                  <a:lnTo>
                    <a:pt x="1046" y="66"/>
                  </a:lnTo>
                  <a:lnTo>
                    <a:pt x="1066" y="75"/>
                  </a:lnTo>
                  <a:lnTo>
                    <a:pt x="1078" y="81"/>
                  </a:lnTo>
                  <a:lnTo>
                    <a:pt x="1087" y="88"/>
                  </a:lnTo>
                  <a:lnTo>
                    <a:pt x="1099" y="94"/>
                  </a:lnTo>
                  <a:lnTo>
                    <a:pt x="1110" y="97"/>
                  </a:lnTo>
                  <a:lnTo>
                    <a:pt x="1125" y="103"/>
                  </a:lnTo>
                  <a:lnTo>
                    <a:pt x="1136" y="106"/>
                  </a:lnTo>
                  <a:lnTo>
                    <a:pt x="1151" y="109"/>
                  </a:lnTo>
                  <a:lnTo>
                    <a:pt x="1163" y="113"/>
                  </a:lnTo>
                  <a:lnTo>
                    <a:pt x="1183" y="116"/>
                  </a:lnTo>
                  <a:lnTo>
                    <a:pt x="1192" y="119"/>
                  </a:lnTo>
                  <a:lnTo>
                    <a:pt x="1204" y="122"/>
                  </a:lnTo>
                  <a:lnTo>
                    <a:pt x="1221" y="119"/>
                  </a:lnTo>
                  <a:lnTo>
                    <a:pt x="1242" y="113"/>
                  </a:lnTo>
                  <a:lnTo>
                    <a:pt x="1253" y="103"/>
                  </a:lnTo>
                  <a:lnTo>
                    <a:pt x="1265" y="94"/>
                  </a:lnTo>
                  <a:lnTo>
                    <a:pt x="1280" y="88"/>
                  </a:lnTo>
                  <a:lnTo>
                    <a:pt x="1294" y="81"/>
                  </a:lnTo>
                  <a:lnTo>
                    <a:pt x="1303" y="72"/>
                  </a:lnTo>
                  <a:lnTo>
                    <a:pt x="1306" y="69"/>
                  </a:lnTo>
                  <a:lnTo>
                    <a:pt x="1306" y="66"/>
                  </a:lnTo>
                  <a:lnTo>
                    <a:pt x="1309" y="63"/>
                  </a:lnTo>
                  <a:lnTo>
                    <a:pt x="1315" y="56"/>
                  </a:lnTo>
                  <a:lnTo>
                    <a:pt x="1326" y="50"/>
                  </a:lnTo>
                  <a:lnTo>
                    <a:pt x="1338" y="47"/>
                  </a:lnTo>
                  <a:lnTo>
                    <a:pt x="1335" y="53"/>
                  </a:lnTo>
                  <a:lnTo>
                    <a:pt x="1326" y="63"/>
                  </a:lnTo>
                  <a:lnTo>
                    <a:pt x="1315" y="81"/>
                  </a:lnTo>
                  <a:lnTo>
                    <a:pt x="1297" y="97"/>
                  </a:lnTo>
                  <a:lnTo>
                    <a:pt x="1300" y="97"/>
                  </a:lnTo>
                  <a:lnTo>
                    <a:pt x="1309" y="97"/>
                  </a:lnTo>
                  <a:lnTo>
                    <a:pt x="1321" y="100"/>
                  </a:lnTo>
                  <a:lnTo>
                    <a:pt x="1344" y="103"/>
                  </a:lnTo>
                  <a:lnTo>
                    <a:pt x="1364" y="106"/>
                  </a:lnTo>
                  <a:lnTo>
                    <a:pt x="1373" y="109"/>
                  </a:lnTo>
                  <a:lnTo>
                    <a:pt x="1379" y="116"/>
                  </a:lnTo>
                  <a:lnTo>
                    <a:pt x="1391" y="119"/>
                  </a:lnTo>
                  <a:lnTo>
                    <a:pt x="1376" y="116"/>
                  </a:lnTo>
                  <a:lnTo>
                    <a:pt x="1364" y="116"/>
                  </a:lnTo>
                  <a:lnTo>
                    <a:pt x="1353" y="113"/>
                  </a:lnTo>
                  <a:lnTo>
                    <a:pt x="1335" y="109"/>
                  </a:lnTo>
                  <a:lnTo>
                    <a:pt x="1318" y="106"/>
                  </a:lnTo>
                  <a:lnTo>
                    <a:pt x="1309" y="106"/>
                  </a:lnTo>
                  <a:lnTo>
                    <a:pt x="1297" y="109"/>
                  </a:lnTo>
                  <a:lnTo>
                    <a:pt x="1277" y="116"/>
                  </a:lnTo>
                  <a:lnTo>
                    <a:pt x="1259" y="122"/>
                  </a:lnTo>
                  <a:lnTo>
                    <a:pt x="1253" y="125"/>
                  </a:lnTo>
                  <a:lnTo>
                    <a:pt x="1248" y="131"/>
                  </a:lnTo>
                  <a:lnTo>
                    <a:pt x="1239" y="141"/>
                  </a:lnTo>
                  <a:lnTo>
                    <a:pt x="1242" y="141"/>
                  </a:lnTo>
                  <a:lnTo>
                    <a:pt x="1250" y="144"/>
                  </a:lnTo>
                  <a:lnTo>
                    <a:pt x="1265" y="147"/>
                  </a:lnTo>
                  <a:lnTo>
                    <a:pt x="1288" y="150"/>
                  </a:lnTo>
                  <a:lnTo>
                    <a:pt x="1309" y="153"/>
                  </a:lnTo>
                  <a:lnTo>
                    <a:pt x="1321" y="159"/>
                  </a:lnTo>
                  <a:lnTo>
                    <a:pt x="1335" y="162"/>
                  </a:lnTo>
                  <a:lnTo>
                    <a:pt x="1356" y="169"/>
                  </a:lnTo>
                  <a:lnTo>
                    <a:pt x="1376" y="175"/>
                  </a:lnTo>
                  <a:lnTo>
                    <a:pt x="1385" y="178"/>
                  </a:lnTo>
                  <a:lnTo>
                    <a:pt x="1394" y="181"/>
                  </a:lnTo>
                  <a:lnTo>
                    <a:pt x="1411" y="191"/>
                  </a:lnTo>
                  <a:lnTo>
                    <a:pt x="1432" y="200"/>
                  </a:lnTo>
                  <a:lnTo>
                    <a:pt x="1443" y="203"/>
                  </a:lnTo>
                  <a:lnTo>
                    <a:pt x="1449" y="209"/>
                  </a:lnTo>
                  <a:lnTo>
                    <a:pt x="1452" y="209"/>
                  </a:lnTo>
                  <a:lnTo>
                    <a:pt x="1455" y="209"/>
                  </a:lnTo>
                  <a:lnTo>
                    <a:pt x="1461" y="212"/>
                  </a:lnTo>
                  <a:lnTo>
                    <a:pt x="1475" y="212"/>
                  </a:lnTo>
                  <a:lnTo>
                    <a:pt x="1493" y="215"/>
                  </a:lnTo>
                  <a:lnTo>
                    <a:pt x="1499" y="219"/>
                  </a:lnTo>
                  <a:lnTo>
                    <a:pt x="1505" y="222"/>
                  </a:lnTo>
                  <a:lnTo>
                    <a:pt x="1513" y="228"/>
                  </a:lnTo>
                  <a:lnTo>
                    <a:pt x="1516" y="237"/>
                  </a:lnTo>
                  <a:lnTo>
                    <a:pt x="1516" y="244"/>
                  </a:lnTo>
                  <a:lnTo>
                    <a:pt x="1508" y="237"/>
                  </a:lnTo>
                  <a:lnTo>
                    <a:pt x="1493" y="228"/>
                  </a:lnTo>
                  <a:lnTo>
                    <a:pt x="1478" y="222"/>
                  </a:lnTo>
                  <a:lnTo>
                    <a:pt x="1461" y="219"/>
                  </a:lnTo>
                  <a:lnTo>
                    <a:pt x="1449" y="219"/>
                  </a:lnTo>
                  <a:lnTo>
                    <a:pt x="1435" y="215"/>
                  </a:lnTo>
                  <a:lnTo>
                    <a:pt x="1420" y="209"/>
                  </a:lnTo>
                  <a:lnTo>
                    <a:pt x="1402" y="197"/>
                  </a:lnTo>
                  <a:lnTo>
                    <a:pt x="1385" y="187"/>
                  </a:lnTo>
                  <a:lnTo>
                    <a:pt x="1364" y="181"/>
                  </a:lnTo>
                  <a:lnTo>
                    <a:pt x="1344" y="178"/>
                  </a:lnTo>
                  <a:lnTo>
                    <a:pt x="1326" y="175"/>
                  </a:lnTo>
                  <a:lnTo>
                    <a:pt x="1315" y="175"/>
                  </a:lnTo>
                  <a:lnTo>
                    <a:pt x="1300" y="172"/>
                  </a:lnTo>
                  <a:lnTo>
                    <a:pt x="1286" y="169"/>
                  </a:lnTo>
                  <a:lnTo>
                    <a:pt x="1271" y="166"/>
                  </a:lnTo>
                  <a:lnTo>
                    <a:pt x="1259" y="166"/>
                  </a:lnTo>
                  <a:lnTo>
                    <a:pt x="1248" y="166"/>
                  </a:lnTo>
                  <a:lnTo>
                    <a:pt x="1233" y="162"/>
                  </a:lnTo>
                  <a:lnTo>
                    <a:pt x="1218" y="156"/>
                  </a:lnTo>
                  <a:lnTo>
                    <a:pt x="1204" y="153"/>
                  </a:lnTo>
                  <a:lnTo>
                    <a:pt x="1189" y="147"/>
                  </a:lnTo>
                  <a:lnTo>
                    <a:pt x="1166" y="144"/>
                  </a:lnTo>
                  <a:lnTo>
                    <a:pt x="1148" y="141"/>
                  </a:lnTo>
                  <a:lnTo>
                    <a:pt x="1136" y="138"/>
                  </a:lnTo>
                  <a:lnTo>
                    <a:pt x="1128" y="134"/>
                  </a:lnTo>
                  <a:lnTo>
                    <a:pt x="1119" y="128"/>
                  </a:lnTo>
                  <a:lnTo>
                    <a:pt x="1104" y="122"/>
                  </a:lnTo>
                  <a:lnTo>
                    <a:pt x="1090" y="116"/>
                  </a:lnTo>
                  <a:lnTo>
                    <a:pt x="1072" y="106"/>
                  </a:lnTo>
                  <a:lnTo>
                    <a:pt x="1049" y="97"/>
                  </a:lnTo>
                  <a:lnTo>
                    <a:pt x="1031" y="88"/>
                  </a:lnTo>
                  <a:lnTo>
                    <a:pt x="1023" y="81"/>
                  </a:lnTo>
                  <a:lnTo>
                    <a:pt x="1014" y="75"/>
                  </a:lnTo>
                  <a:lnTo>
                    <a:pt x="999" y="69"/>
                  </a:lnTo>
                  <a:lnTo>
                    <a:pt x="985" y="66"/>
                  </a:lnTo>
                  <a:lnTo>
                    <a:pt x="982" y="75"/>
                  </a:lnTo>
                  <a:lnTo>
                    <a:pt x="987" y="91"/>
                  </a:lnTo>
                  <a:lnTo>
                    <a:pt x="996" y="116"/>
                  </a:lnTo>
                  <a:lnTo>
                    <a:pt x="1005" y="138"/>
                  </a:lnTo>
                  <a:lnTo>
                    <a:pt x="1008" y="147"/>
                  </a:lnTo>
                  <a:lnTo>
                    <a:pt x="1017" y="162"/>
                  </a:lnTo>
                  <a:lnTo>
                    <a:pt x="1028" y="191"/>
                  </a:lnTo>
                  <a:lnTo>
                    <a:pt x="1040" y="215"/>
                  </a:lnTo>
                  <a:lnTo>
                    <a:pt x="1043" y="219"/>
                  </a:lnTo>
                  <a:lnTo>
                    <a:pt x="1049" y="222"/>
                  </a:lnTo>
                  <a:lnTo>
                    <a:pt x="1066" y="234"/>
                  </a:lnTo>
                  <a:lnTo>
                    <a:pt x="1084" y="250"/>
                  </a:lnTo>
                  <a:lnTo>
                    <a:pt x="1093" y="253"/>
                  </a:lnTo>
                  <a:lnTo>
                    <a:pt x="1101" y="253"/>
                  </a:lnTo>
                  <a:lnTo>
                    <a:pt x="1119" y="253"/>
                  </a:lnTo>
                  <a:lnTo>
                    <a:pt x="1134" y="259"/>
                  </a:lnTo>
                  <a:lnTo>
                    <a:pt x="1142" y="259"/>
                  </a:lnTo>
                  <a:lnTo>
                    <a:pt x="1154" y="262"/>
                  </a:lnTo>
                  <a:lnTo>
                    <a:pt x="1177" y="265"/>
                  </a:lnTo>
                  <a:lnTo>
                    <a:pt x="1198" y="272"/>
                  </a:lnTo>
                  <a:lnTo>
                    <a:pt x="1207" y="278"/>
                  </a:lnTo>
                  <a:lnTo>
                    <a:pt x="1212" y="287"/>
                  </a:lnTo>
                  <a:lnTo>
                    <a:pt x="1230" y="300"/>
                  </a:lnTo>
                  <a:lnTo>
                    <a:pt x="1248" y="306"/>
                  </a:lnTo>
                  <a:lnTo>
                    <a:pt x="1253" y="303"/>
                  </a:lnTo>
                  <a:lnTo>
                    <a:pt x="1256" y="290"/>
                  </a:lnTo>
                  <a:lnTo>
                    <a:pt x="1265" y="278"/>
                  </a:lnTo>
                  <a:lnTo>
                    <a:pt x="1277" y="265"/>
                  </a:lnTo>
                  <a:lnTo>
                    <a:pt x="1280" y="259"/>
                  </a:lnTo>
                  <a:lnTo>
                    <a:pt x="1288" y="253"/>
                  </a:lnTo>
                  <a:lnTo>
                    <a:pt x="1303" y="247"/>
                  </a:lnTo>
                  <a:lnTo>
                    <a:pt x="1324" y="240"/>
                  </a:lnTo>
                  <a:lnTo>
                    <a:pt x="1335" y="237"/>
                  </a:lnTo>
                  <a:lnTo>
                    <a:pt x="1347" y="234"/>
                  </a:lnTo>
                  <a:lnTo>
                    <a:pt x="1362" y="237"/>
                  </a:lnTo>
                  <a:lnTo>
                    <a:pt x="1376" y="240"/>
                  </a:lnTo>
                  <a:lnTo>
                    <a:pt x="1385" y="244"/>
                  </a:lnTo>
                  <a:lnTo>
                    <a:pt x="1391" y="250"/>
                  </a:lnTo>
                  <a:lnTo>
                    <a:pt x="1399" y="262"/>
                  </a:lnTo>
                  <a:lnTo>
                    <a:pt x="1397" y="259"/>
                  </a:lnTo>
                  <a:lnTo>
                    <a:pt x="1385" y="256"/>
                  </a:lnTo>
                  <a:lnTo>
                    <a:pt x="1367" y="253"/>
                  </a:lnTo>
                  <a:lnTo>
                    <a:pt x="1347" y="253"/>
                  </a:lnTo>
                  <a:lnTo>
                    <a:pt x="1329" y="256"/>
                  </a:lnTo>
                  <a:lnTo>
                    <a:pt x="1315" y="259"/>
                  </a:lnTo>
                  <a:lnTo>
                    <a:pt x="1303" y="265"/>
                  </a:lnTo>
                  <a:lnTo>
                    <a:pt x="1286" y="275"/>
                  </a:lnTo>
                  <a:lnTo>
                    <a:pt x="1271" y="287"/>
                  </a:lnTo>
                  <a:lnTo>
                    <a:pt x="1271" y="293"/>
                  </a:lnTo>
                  <a:lnTo>
                    <a:pt x="1274" y="300"/>
                  </a:lnTo>
                  <a:lnTo>
                    <a:pt x="1280" y="309"/>
                  </a:lnTo>
                  <a:lnTo>
                    <a:pt x="1288" y="315"/>
                  </a:lnTo>
                  <a:lnTo>
                    <a:pt x="1297" y="318"/>
                  </a:lnTo>
                  <a:lnTo>
                    <a:pt x="1309" y="318"/>
                  </a:lnTo>
                  <a:lnTo>
                    <a:pt x="1324" y="322"/>
                  </a:lnTo>
                  <a:lnTo>
                    <a:pt x="1338" y="328"/>
                  </a:lnTo>
                  <a:lnTo>
                    <a:pt x="1350" y="331"/>
                  </a:lnTo>
                  <a:lnTo>
                    <a:pt x="1362" y="337"/>
                  </a:lnTo>
                  <a:lnTo>
                    <a:pt x="1376" y="343"/>
                  </a:lnTo>
                  <a:lnTo>
                    <a:pt x="1391" y="346"/>
                  </a:lnTo>
                  <a:lnTo>
                    <a:pt x="1399" y="350"/>
                  </a:lnTo>
                  <a:lnTo>
                    <a:pt x="1402" y="353"/>
                  </a:lnTo>
                  <a:lnTo>
                    <a:pt x="1405" y="353"/>
                  </a:lnTo>
                  <a:lnTo>
                    <a:pt x="1408" y="356"/>
                  </a:lnTo>
                  <a:lnTo>
                    <a:pt x="1417" y="362"/>
                  </a:lnTo>
                  <a:lnTo>
                    <a:pt x="1420" y="368"/>
                  </a:lnTo>
                  <a:lnTo>
                    <a:pt x="1414" y="371"/>
                  </a:lnTo>
                  <a:lnTo>
                    <a:pt x="1405" y="375"/>
                  </a:lnTo>
                  <a:lnTo>
                    <a:pt x="1394" y="371"/>
                  </a:lnTo>
                  <a:lnTo>
                    <a:pt x="1382" y="365"/>
                  </a:lnTo>
                  <a:lnTo>
                    <a:pt x="1364" y="356"/>
                  </a:lnTo>
                  <a:lnTo>
                    <a:pt x="1347" y="350"/>
                  </a:lnTo>
                  <a:lnTo>
                    <a:pt x="1338" y="350"/>
                  </a:lnTo>
                  <a:lnTo>
                    <a:pt x="1329" y="350"/>
                  </a:lnTo>
                  <a:lnTo>
                    <a:pt x="1318" y="340"/>
                  </a:lnTo>
                  <a:lnTo>
                    <a:pt x="1303" y="331"/>
                  </a:lnTo>
                  <a:lnTo>
                    <a:pt x="1286" y="331"/>
                  </a:lnTo>
                  <a:lnTo>
                    <a:pt x="1271" y="334"/>
                  </a:lnTo>
                  <a:lnTo>
                    <a:pt x="1256" y="331"/>
                  </a:lnTo>
                  <a:lnTo>
                    <a:pt x="1245" y="325"/>
                  </a:lnTo>
                  <a:lnTo>
                    <a:pt x="1236" y="318"/>
                  </a:lnTo>
                  <a:lnTo>
                    <a:pt x="1224" y="312"/>
                  </a:lnTo>
                  <a:lnTo>
                    <a:pt x="1210" y="306"/>
                  </a:lnTo>
                  <a:lnTo>
                    <a:pt x="1198" y="300"/>
                  </a:lnTo>
                  <a:lnTo>
                    <a:pt x="1189" y="297"/>
                  </a:lnTo>
                  <a:lnTo>
                    <a:pt x="1183" y="293"/>
                  </a:lnTo>
                  <a:lnTo>
                    <a:pt x="1174" y="287"/>
                  </a:lnTo>
                  <a:lnTo>
                    <a:pt x="1163" y="284"/>
                  </a:lnTo>
                  <a:lnTo>
                    <a:pt x="1157" y="284"/>
                  </a:lnTo>
                  <a:lnTo>
                    <a:pt x="1151" y="287"/>
                  </a:lnTo>
                  <a:lnTo>
                    <a:pt x="1142" y="293"/>
                  </a:lnTo>
                  <a:lnTo>
                    <a:pt x="1136" y="300"/>
                  </a:lnTo>
                  <a:lnTo>
                    <a:pt x="1142" y="306"/>
                  </a:lnTo>
                  <a:lnTo>
                    <a:pt x="1154" y="315"/>
                  </a:lnTo>
                  <a:lnTo>
                    <a:pt x="1169" y="325"/>
                  </a:lnTo>
                  <a:lnTo>
                    <a:pt x="1180" y="331"/>
                  </a:lnTo>
                  <a:lnTo>
                    <a:pt x="1186" y="334"/>
                  </a:lnTo>
                  <a:lnTo>
                    <a:pt x="1195" y="340"/>
                  </a:lnTo>
                  <a:lnTo>
                    <a:pt x="1210" y="353"/>
                  </a:lnTo>
                  <a:lnTo>
                    <a:pt x="1227" y="365"/>
                  </a:lnTo>
                  <a:lnTo>
                    <a:pt x="1233" y="375"/>
                  </a:lnTo>
                  <a:lnTo>
                    <a:pt x="1239" y="381"/>
                  </a:lnTo>
                  <a:lnTo>
                    <a:pt x="1253" y="387"/>
                  </a:lnTo>
                  <a:lnTo>
                    <a:pt x="1268" y="393"/>
                  </a:lnTo>
                  <a:lnTo>
                    <a:pt x="1280" y="403"/>
                  </a:lnTo>
                  <a:lnTo>
                    <a:pt x="1291" y="412"/>
                  </a:lnTo>
                  <a:lnTo>
                    <a:pt x="1309" y="431"/>
                  </a:lnTo>
                  <a:lnTo>
                    <a:pt x="1324" y="449"/>
                  </a:lnTo>
                  <a:lnTo>
                    <a:pt x="1329" y="462"/>
                  </a:lnTo>
                  <a:lnTo>
                    <a:pt x="1329" y="474"/>
                  </a:lnTo>
                  <a:lnTo>
                    <a:pt x="1329" y="493"/>
                  </a:lnTo>
                  <a:lnTo>
                    <a:pt x="1332" y="512"/>
                  </a:lnTo>
                  <a:lnTo>
                    <a:pt x="1332" y="527"/>
                  </a:lnTo>
                  <a:lnTo>
                    <a:pt x="1332" y="543"/>
                  </a:lnTo>
                  <a:lnTo>
                    <a:pt x="1332" y="565"/>
                  </a:lnTo>
                  <a:lnTo>
                    <a:pt x="1332" y="583"/>
                  </a:lnTo>
                  <a:lnTo>
                    <a:pt x="1335" y="593"/>
                  </a:lnTo>
                  <a:lnTo>
                    <a:pt x="1335" y="596"/>
                  </a:lnTo>
                  <a:lnTo>
                    <a:pt x="1326" y="602"/>
                  </a:lnTo>
                  <a:lnTo>
                    <a:pt x="1318" y="605"/>
                  </a:lnTo>
                  <a:lnTo>
                    <a:pt x="1321" y="602"/>
                  </a:lnTo>
                  <a:lnTo>
                    <a:pt x="1324" y="590"/>
                  </a:lnTo>
                  <a:lnTo>
                    <a:pt x="1326" y="568"/>
                  </a:lnTo>
                  <a:lnTo>
                    <a:pt x="1324" y="546"/>
                  </a:lnTo>
                  <a:lnTo>
                    <a:pt x="1318" y="530"/>
                  </a:lnTo>
                  <a:lnTo>
                    <a:pt x="1315" y="515"/>
                  </a:lnTo>
                  <a:lnTo>
                    <a:pt x="1318" y="487"/>
                  </a:lnTo>
                  <a:lnTo>
                    <a:pt x="1318" y="459"/>
                  </a:lnTo>
                  <a:lnTo>
                    <a:pt x="1312" y="446"/>
                  </a:lnTo>
                  <a:lnTo>
                    <a:pt x="1303" y="440"/>
                  </a:lnTo>
                  <a:lnTo>
                    <a:pt x="1291" y="428"/>
                  </a:lnTo>
                  <a:lnTo>
                    <a:pt x="1283" y="418"/>
                  </a:lnTo>
                  <a:lnTo>
                    <a:pt x="1274" y="409"/>
                  </a:lnTo>
                  <a:lnTo>
                    <a:pt x="1259" y="399"/>
                  </a:lnTo>
                  <a:lnTo>
                    <a:pt x="1242" y="387"/>
                  </a:lnTo>
                  <a:lnTo>
                    <a:pt x="1224" y="378"/>
                  </a:lnTo>
                  <a:lnTo>
                    <a:pt x="1204" y="365"/>
                  </a:lnTo>
                  <a:lnTo>
                    <a:pt x="1183" y="356"/>
                  </a:lnTo>
                  <a:lnTo>
                    <a:pt x="1163" y="346"/>
                  </a:lnTo>
                  <a:lnTo>
                    <a:pt x="1166" y="353"/>
                  </a:lnTo>
                  <a:lnTo>
                    <a:pt x="1172" y="368"/>
                  </a:lnTo>
                  <a:lnTo>
                    <a:pt x="1177" y="393"/>
                  </a:lnTo>
                  <a:lnTo>
                    <a:pt x="1186" y="421"/>
                  </a:lnTo>
                  <a:lnTo>
                    <a:pt x="1189" y="443"/>
                  </a:lnTo>
                  <a:lnTo>
                    <a:pt x="1189" y="462"/>
                  </a:lnTo>
                  <a:lnTo>
                    <a:pt x="1189" y="484"/>
                  </a:lnTo>
                  <a:lnTo>
                    <a:pt x="1186" y="505"/>
                  </a:lnTo>
                  <a:lnTo>
                    <a:pt x="1189" y="527"/>
                  </a:lnTo>
                  <a:lnTo>
                    <a:pt x="1192" y="540"/>
                  </a:lnTo>
                  <a:lnTo>
                    <a:pt x="1198" y="555"/>
                  </a:lnTo>
                  <a:lnTo>
                    <a:pt x="1207" y="574"/>
                  </a:lnTo>
                  <a:lnTo>
                    <a:pt x="1215" y="596"/>
                  </a:lnTo>
                  <a:lnTo>
                    <a:pt x="1224" y="615"/>
                  </a:lnTo>
                  <a:lnTo>
                    <a:pt x="1236" y="630"/>
                  </a:lnTo>
                  <a:lnTo>
                    <a:pt x="1248" y="649"/>
                  </a:lnTo>
                  <a:lnTo>
                    <a:pt x="1253" y="665"/>
                  </a:lnTo>
                  <a:lnTo>
                    <a:pt x="1253" y="668"/>
                  </a:lnTo>
                  <a:lnTo>
                    <a:pt x="1245" y="661"/>
                  </a:lnTo>
                  <a:lnTo>
                    <a:pt x="1233" y="646"/>
                  </a:lnTo>
                  <a:lnTo>
                    <a:pt x="1221" y="627"/>
                  </a:lnTo>
                  <a:lnTo>
                    <a:pt x="1212" y="612"/>
                  </a:lnTo>
                  <a:lnTo>
                    <a:pt x="1201" y="590"/>
                  </a:lnTo>
                  <a:lnTo>
                    <a:pt x="1189" y="559"/>
                  </a:lnTo>
                  <a:lnTo>
                    <a:pt x="1177" y="530"/>
                  </a:lnTo>
                  <a:lnTo>
                    <a:pt x="1174" y="509"/>
                  </a:lnTo>
                  <a:lnTo>
                    <a:pt x="1174" y="487"/>
                  </a:lnTo>
                  <a:lnTo>
                    <a:pt x="1174" y="459"/>
                  </a:lnTo>
                  <a:lnTo>
                    <a:pt x="1172" y="434"/>
                  </a:lnTo>
                  <a:lnTo>
                    <a:pt x="1169" y="421"/>
                  </a:lnTo>
                  <a:lnTo>
                    <a:pt x="1166" y="409"/>
                  </a:lnTo>
                  <a:lnTo>
                    <a:pt x="1160" y="390"/>
                  </a:lnTo>
                  <a:lnTo>
                    <a:pt x="1157" y="368"/>
                  </a:lnTo>
                  <a:lnTo>
                    <a:pt x="1151" y="353"/>
                  </a:lnTo>
                  <a:lnTo>
                    <a:pt x="1142" y="340"/>
                  </a:lnTo>
                  <a:lnTo>
                    <a:pt x="1125" y="325"/>
                  </a:lnTo>
                  <a:lnTo>
                    <a:pt x="1107" y="303"/>
                  </a:lnTo>
                  <a:lnTo>
                    <a:pt x="1096" y="284"/>
                  </a:lnTo>
                  <a:lnTo>
                    <a:pt x="1084" y="275"/>
                  </a:lnTo>
                  <a:lnTo>
                    <a:pt x="1063" y="278"/>
                  </a:lnTo>
                  <a:lnTo>
                    <a:pt x="1052" y="293"/>
                  </a:lnTo>
                  <a:lnTo>
                    <a:pt x="1061" y="315"/>
                  </a:lnTo>
                  <a:lnTo>
                    <a:pt x="1072" y="343"/>
                  </a:lnTo>
                  <a:lnTo>
                    <a:pt x="1084" y="375"/>
                  </a:lnTo>
                  <a:lnTo>
                    <a:pt x="1090" y="403"/>
                  </a:lnTo>
                  <a:lnTo>
                    <a:pt x="1096" y="428"/>
                  </a:lnTo>
                  <a:lnTo>
                    <a:pt x="1099" y="452"/>
                  </a:lnTo>
                  <a:lnTo>
                    <a:pt x="1107" y="487"/>
                  </a:lnTo>
                  <a:lnTo>
                    <a:pt x="1119" y="518"/>
                  </a:lnTo>
                  <a:lnTo>
                    <a:pt x="1134" y="543"/>
                  </a:lnTo>
                  <a:lnTo>
                    <a:pt x="1145" y="565"/>
                  </a:lnTo>
                  <a:lnTo>
                    <a:pt x="1157" y="599"/>
                  </a:lnTo>
                  <a:lnTo>
                    <a:pt x="1169" y="630"/>
                  </a:lnTo>
                  <a:lnTo>
                    <a:pt x="1177" y="646"/>
                  </a:lnTo>
                  <a:lnTo>
                    <a:pt x="1186" y="658"/>
                  </a:lnTo>
                  <a:lnTo>
                    <a:pt x="1198" y="674"/>
                  </a:lnTo>
                  <a:lnTo>
                    <a:pt x="1207" y="689"/>
                  </a:lnTo>
                  <a:lnTo>
                    <a:pt x="1215" y="699"/>
                  </a:lnTo>
                  <a:lnTo>
                    <a:pt x="1221" y="702"/>
                  </a:lnTo>
                  <a:lnTo>
                    <a:pt x="1230" y="714"/>
                  </a:lnTo>
                  <a:lnTo>
                    <a:pt x="1233" y="724"/>
                  </a:lnTo>
                  <a:lnTo>
                    <a:pt x="1230" y="721"/>
                  </a:lnTo>
                  <a:lnTo>
                    <a:pt x="1218" y="711"/>
                  </a:lnTo>
                  <a:lnTo>
                    <a:pt x="1204" y="699"/>
                  </a:lnTo>
                  <a:lnTo>
                    <a:pt x="1189" y="686"/>
                  </a:lnTo>
                  <a:lnTo>
                    <a:pt x="1177" y="671"/>
                  </a:lnTo>
                  <a:lnTo>
                    <a:pt x="1166" y="652"/>
                  </a:lnTo>
                  <a:lnTo>
                    <a:pt x="1154" y="627"/>
                  </a:lnTo>
                  <a:lnTo>
                    <a:pt x="1142" y="602"/>
                  </a:lnTo>
                  <a:lnTo>
                    <a:pt x="1139" y="587"/>
                  </a:lnTo>
                  <a:lnTo>
                    <a:pt x="1134" y="574"/>
                  </a:lnTo>
                  <a:lnTo>
                    <a:pt x="1122" y="549"/>
                  </a:lnTo>
                  <a:lnTo>
                    <a:pt x="1110" y="524"/>
                  </a:lnTo>
                  <a:lnTo>
                    <a:pt x="1101" y="505"/>
                  </a:lnTo>
                  <a:lnTo>
                    <a:pt x="1093" y="487"/>
                  </a:lnTo>
                  <a:lnTo>
                    <a:pt x="1081" y="459"/>
                  </a:lnTo>
                  <a:lnTo>
                    <a:pt x="1072" y="434"/>
                  </a:lnTo>
                  <a:lnTo>
                    <a:pt x="1072" y="418"/>
                  </a:lnTo>
                  <a:lnTo>
                    <a:pt x="1075" y="406"/>
                  </a:lnTo>
                  <a:lnTo>
                    <a:pt x="1072" y="384"/>
                  </a:lnTo>
                  <a:lnTo>
                    <a:pt x="1066" y="362"/>
                  </a:lnTo>
                  <a:lnTo>
                    <a:pt x="1061" y="346"/>
                  </a:lnTo>
                  <a:lnTo>
                    <a:pt x="1055" y="334"/>
                  </a:lnTo>
                  <a:lnTo>
                    <a:pt x="1046" y="312"/>
                  </a:lnTo>
                  <a:lnTo>
                    <a:pt x="1034" y="293"/>
                  </a:lnTo>
                  <a:lnTo>
                    <a:pt x="1028" y="281"/>
                  </a:lnTo>
                  <a:lnTo>
                    <a:pt x="1023" y="275"/>
                  </a:lnTo>
                  <a:lnTo>
                    <a:pt x="1008" y="268"/>
                  </a:lnTo>
                  <a:lnTo>
                    <a:pt x="996" y="268"/>
                  </a:lnTo>
                  <a:lnTo>
                    <a:pt x="993" y="275"/>
                  </a:lnTo>
                  <a:lnTo>
                    <a:pt x="999" y="290"/>
                  </a:lnTo>
                  <a:lnTo>
                    <a:pt x="1005" y="306"/>
                  </a:lnTo>
                  <a:lnTo>
                    <a:pt x="1008" y="325"/>
                  </a:lnTo>
                  <a:lnTo>
                    <a:pt x="1011" y="343"/>
                  </a:lnTo>
                  <a:lnTo>
                    <a:pt x="1014" y="368"/>
                  </a:lnTo>
                  <a:lnTo>
                    <a:pt x="1017" y="390"/>
                  </a:lnTo>
                  <a:lnTo>
                    <a:pt x="1023" y="412"/>
                  </a:lnTo>
                  <a:lnTo>
                    <a:pt x="1028" y="431"/>
                  </a:lnTo>
                  <a:lnTo>
                    <a:pt x="1034" y="449"/>
                  </a:lnTo>
                  <a:lnTo>
                    <a:pt x="1037" y="471"/>
                  </a:lnTo>
                  <a:lnTo>
                    <a:pt x="1040" y="493"/>
                  </a:lnTo>
                  <a:lnTo>
                    <a:pt x="1046" y="515"/>
                  </a:lnTo>
                  <a:lnTo>
                    <a:pt x="1052" y="540"/>
                  </a:lnTo>
                  <a:lnTo>
                    <a:pt x="1061" y="571"/>
                  </a:lnTo>
                  <a:lnTo>
                    <a:pt x="1066" y="596"/>
                  </a:lnTo>
                  <a:lnTo>
                    <a:pt x="1066" y="605"/>
                  </a:lnTo>
                  <a:lnTo>
                    <a:pt x="1066" y="608"/>
                  </a:lnTo>
                  <a:lnTo>
                    <a:pt x="1072" y="621"/>
                  </a:lnTo>
                  <a:lnTo>
                    <a:pt x="1081" y="636"/>
                  </a:lnTo>
                  <a:lnTo>
                    <a:pt x="1087" y="649"/>
                  </a:lnTo>
                  <a:lnTo>
                    <a:pt x="1093" y="661"/>
                  </a:lnTo>
                  <a:lnTo>
                    <a:pt x="1101" y="677"/>
                  </a:lnTo>
                  <a:lnTo>
                    <a:pt x="1110" y="693"/>
                  </a:lnTo>
                  <a:lnTo>
                    <a:pt x="1116" y="702"/>
                  </a:lnTo>
                  <a:lnTo>
                    <a:pt x="1119" y="711"/>
                  </a:lnTo>
                  <a:lnTo>
                    <a:pt x="1128" y="730"/>
                  </a:lnTo>
                  <a:lnTo>
                    <a:pt x="1134" y="749"/>
                  </a:lnTo>
                  <a:lnTo>
                    <a:pt x="1134" y="755"/>
                  </a:lnTo>
                  <a:lnTo>
                    <a:pt x="1131" y="755"/>
                  </a:lnTo>
                  <a:lnTo>
                    <a:pt x="1122" y="755"/>
                  </a:lnTo>
                  <a:lnTo>
                    <a:pt x="1116" y="755"/>
                  </a:lnTo>
                  <a:lnTo>
                    <a:pt x="1119" y="746"/>
                  </a:lnTo>
                  <a:lnTo>
                    <a:pt x="1116" y="730"/>
                  </a:lnTo>
                  <a:lnTo>
                    <a:pt x="1110" y="714"/>
                  </a:lnTo>
                  <a:lnTo>
                    <a:pt x="1107" y="705"/>
                  </a:lnTo>
                  <a:lnTo>
                    <a:pt x="1099" y="696"/>
                  </a:lnTo>
                  <a:lnTo>
                    <a:pt x="1087" y="680"/>
                  </a:lnTo>
                  <a:lnTo>
                    <a:pt x="1075" y="665"/>
                  </a:lnTo>
                  <a:lnTo>
                    <a:pt x="1069" y="652"/>
                  </a:lnTo>
                  <a:lnTo>
                    <a:pt x="1066" y="643"/>
                  </a:lnTo>
                  <a:lnTo>
                    <a:pt x="1058" y="627"/>
                  </a:lnTo>
                  <a:lnTo>
                    <a:pt x="1049" y="618"/>
                  </a:lnTo>
                  <a:lnTo>
                    <a:pt x="1046" y="621"/>
                  </a:lnTo>
                  <a:lnTo>
                    <a:pt x="1043" y="630"/>
                  </a:lnTo>
                  <a:lnTo>
                    <a:pt x="1043" y="633"/>
                  </a:lnTo>
                  <a:lnTo>
                    <a:pt x="1040" y="640"/>
                  </a:lnTo>
                  <a:lnTo>
                    <a:pt x="1037" y="655"/>
                  </a:lnTo>
                  <a:lnTo>
                    <a:pt x="1028" y="677"/>
                  </a:lnTo>
                  <a:lnTo>
                    <a:pt x="1020" y="705"/>
                  </a:lnTo>
                  <a:lnTo>
                    <a:pt x="1014" y="724"/>
                  </a:lnTo>
                  <a:lnTo>
                    <a:pt x="1011" y="736"/>
                  </a:lnTo>
                  <a:lnTo>
                    <a:pt x="1011" y="746"/>
                  </a:lnTo>
                  <a:lnTo>
                    <a:pt x="1005" y="758"/>
                  </a:lnTo>
                  <a:lnTo>
                    <a:pt x="1002" y="771"/>
                  </a:lnTo>
                  <a:lnTo>
                    <a:pt x="1002" y="774"/>
                  </a:lnTo>
                  <a:lnTo>
                    <a:pt x="1002" y="767"/>
                  </a:lnTo>
                  <a:lnTo>
                    <a:pt x="996" y="761"/>
                  </a:lnTo>
                  <a:lnTo>
                    <a:pt x="999" y="749"/>
                  </a:lnTo>
                  <a:lnTo>
                    <a:pt x="999" y="736"/>
                  </a:lnTo>
                  <a:lnTo>
                    <a:pt x="999" y="724"/>
                  </a:lnTo>
                  <a:lnTo>
                    <a:pt x="1008" y="705"/>
                  </a:lnTo>
                  <a:lnTo>
                    <a:pt x="1017" y="686"/>
                  </a:lnTo>
                  <a:lnTo>
                    <a:pt x="1023" y="668"/>
                  </a:lnTo>
                  <a:lnTo>
                    <a:pt x="1025" y="643"/>
                  </a:lnTo>
                  <a:lnTo>
                    <a:pt x="1031" y="608"/>
                  </a:lnTo>
                  <a:lnTo>
                    <a:pt x="1034" y="580"/>
                  </a:lnTo>
                  <a:lnTo>
                    <a:pt x="1034" y="565"/>
                  </a:lnTo>
                  <a:lnTo>
                    <a:pt x="1031" y="552"/>
                  </a:lnTo>
                  <a:lnTo>
                    <a:pt x="1028" y="524"/>
                  </a:lnTo>
                  <a:lnTo>
                    <a:pt x="1025" y="490"/>
                  </a:lnTo>
                  <a:lnTo>
                    <a:pt x="1020" y="459"/>
                  </a:lnTo>
                  <a:lnTo>
                    <a:pt x="1011" y="434"/>
                  </a:lnTo>
                  <a:lnTo>
                    <a:pt x="1005" y="403"/>
                  </a:lnTo>
                  <a:lnTo>
                    <a:pt x="999" y="378"/>
                  </a:lnTo>
                  <a:lnTo>
                    <a:pt x="993" y="362"/>
                  </a:lnTo>
                  <a:lnTo>
                    <a:pt x="985" y="343"/>
                  </a:lnTo>
                  <a:lnTo>
                    <a:pt x="979" y="315"/>
                  </a:lnTo>
                  <a:lnTo>
                    <a:pt x="970" y="337"/>
                  </a:lnTo>
                  <a:lnTo>
                    <a:pt x="964" y="359"/>
                  </a:lnTo>
                  <a:lnTo>
                    <a:pt x="961" y="384"/>
                  </a:lnTo>
                  <a:lnTo>
                    <a:pt x="958" y="406"/>
                  </a:lnTo>
                  <a:lnTo>
                    <a:pt x="955" y="431"/>
                  </a:lnTo>
                  <a:lnTo>
                    <a:pt x="949" y="459"/>
                  </a:lnTo>
                  <a:lnTo>
                    <a:pt x="947" y="484"/>
                  </a:lnTo>
                  <a:lnTo>
                    <a:pt x="949" y="505"/>
                  </a:lnTo>
                  <a:lnTo>
                    <a:pt x="955" y="521"/>
                  </a:lnTo>
                  <a:lnTo>
                    <a:pt x="958" y="537"/>
                  </a:lnTo>
                  <a:lnTo>
                    <a:pt x="964" y="559"/>
                  </a:lnTo>
                  <a:lnTo>
                    <a:pt x="967" y="583"/>
                  </a:lnTo>
                  <a:lnTo>
                    <a:pt x="970" y="605"/>
                  </a:lnTo>
                  <a:lnTo>
                    <a:pt x="973" y="621"/>
                  </a:lnTo>
                  <a:lnTo>
                    <a:pt x="979" y="640"/>
                  </a:lnTo>
                  <a:lnTo>
                    <a:pt x="985" y="665"/>
                  </a:lnTo>
                  <a:lnTo>
                    <a:pt x="987" y="683"/>
                  </a:lnTo>
                  <a:lnTo>
                    <a:pt x="990" y="683"/>
                  </a:lnTo>
                  <a:lnTo>
                    <a:pt x="985" y="677"/>
                  </a:lnTo>
                  <a:lnTo>
                    <a:pt x="976" y="677"/>
                  </a:lnTo>
                  <a:lnTo>
                    <a:pt x="973" y="655"/>
                  </a:lnTo>
                  <a:lnTo>
                    <a:pt x="967" y="640"/>
                  </a:lnTo>
                  <a:lnTo>
                    <a:pt x="964" y="621"/>
                  </a:lnTo>
                  <a:lnTo>
                    <a:pt x="958" y="590"/>
                  </a:lnTo>
                  <a:lnTo>
                    <a:pt x="952" y="559"/>
                  </a:lnTo>
                  <a:lnTo>
                    <a:pt x="947" y="537"/>
                  </a:lnTo>
                  <a:lnTo>
                    <a:pt x="944" y="518"/>
                  </a:lnTo>
                  <a:lnTo>
                    <a:pt x="941" y="496"/>
                  </a:lnTo>
                  <a:lnTo>
                    <a:pt x="938" y="471"/>
                  </a:lnTo>
                  <a:lnTo>
                    <a:pt x="938" y="456"/>
                  </a:lnTo>
                  <a:lnTo>
                    <a:pt x="938" y="437"/>
                  </a:lnTo>
                  <a:lnTo>
                    <a:pt x="938" y="409"/>
                  </a:lnTo>
                  <a:lnTo>
                    <a:pt x="941" y="378"/>
                  </a:lnTo>
                  <a:lnTo>
                    <a:pt x="944" y="356"/>
                  </a:lnTo>
                  <a:lnTo>
                    <a:pt x="947" y="337"/>
                  </a:lnTo>
                  <a:lnTo>
                    <a:pt x="947" y="315"/>
                  </a:lnTo>
                  <a:lnTo>
                    <a:pt x="941" y="278"/>
                  </a:lnTo>
                  <a:lnTo>
                    <a:pt x="935" y="259"/>
                  </a:lnTo>
                  <a:lnTo>
                    <a:pt x="929" y="240"/>
                  </a:lnTo>
                  <a:lnTo>
                    <a:pt x="914" y="209"/>
                  </a:lnTo>
                  <a:lnTo>
                    <a:pt x="909" y="228"/>
                  </a:lnTo>
                  <a:lnTo>
                    <a:pt x="900" y="240"/>
                  </a:lnTo>
                  <a:lnTo>
                    <a:pt x="894" y="253"/>
                  </a:lnTo>
                  <a:lnTo>
                    <a:pt x="891" y="268"/>
                  </a:lnTo>
                  <a:lnTo>
                    <a:pt x="888" y="287"/>
                  </a:lnTo>
                  <a:lnTo>
                    <a:pt x="888" y="309"/>
                  </a:lnTo>
                  <a:lnTo>
                    <a:pt x="885" y="331"/>
                  </a:lnTo>
                  <a:lnTo>
                    <a:pt x="882" y="359"/>
                  </a:lnTo>
                  <a:lnTo>
                    <a:pt x="876" y="387"/>
                  </a:lnTo>
                  <a:lnTo>
                    <a:pt x="871" y="409"/>
                  </a:lnTo>
                  <a:lnTo>
                    <a:pt x="865" y="431"/>
                  </a:lnTo>
                  <a:lnTo>
                    <a:pt x="859" y="456"/>
                  </a:lnTo>
                  <a:lnTo>
                    <a:pt x="856" y="477"/>
                  </a:lnTo>
                  <a:lnTo>
                    <a:pt x="859" y="496"/>
                  </a:lnTo>
                  <a:lnTo>
                    <a:pt x="865" y="518"/>
                  </a:lnTo>
                  <a:lnTo>
                    <a:pt x="868" y="549"/>
                  </a:lnTo>
                  <a:lnTo>
                    <a:pt x="871" y="580"/>
                  </a:lnTo>
                  <a:lnTo>
                    <a:pt x="876" y="590"/>
                  </a:lnTo>
                  <a:lnTo>
                    <a:pt x="873" y="590"/>
                  </a:lnTo>
                  <a:lnTo>
                    <a:pt x="865" y="577"/>
                  </a:lnTo>
                  <a:lnTo>
                    <a:pt x="853" y="568"/>
                  </a:lnTo>
                  <a:lnTo>
                    <a:pt x="850" y="559"/>
                  </a:lnTo>
                  <a:lnTo>
                    <a:pt x="853" y="546"/>
                  </a:lnTo>
                  <a:lnTo>
                    <a:pt x="853" y="521"/>
                  </a:lnTo>
                  <a:lnTo>
                    <a:pt x="847" y="493"/>
                  </a:lnTo>
                  <a:lnTo>
                    <a:pt x="841" y="471"/>
                  </a:lnTo>
                  <a:lnTo>
                    <a:pt x="838" y="459"/>
                  </a:lnTo>
                  <a:lnTo>
                    <a:pt x="836" y="456"/>
                  </a:lnTo>
                  <a:lnTo>
                    <a:pt x="833" y="459"/>
                  </a:lnTo>
                  <a:lnTo>
                    <a:pt x="827" y="468"/>
                  </a:lnTo>
                  <a:lnTo>
                    <a:pt x="815" y="481"/>
                  </a:lnTo>
                  <a:lnTo>
                    <a:pt x="800" y="493"/>
                  </a:lnTo>
                  <a:lnTo>
                    <a:pt x="786" y="505"/>
                  </a:lnTo>
                  <a:lnTo>
                    <a:pt x="768" y="521"/>
                  </a:lnTo>
                  <a:lnTo>
                    <a:pt x="757" y="534"/>
                  </a:lnTo>
                  <a:lnTo>
                    <a:pt x="745" y="552"/>
                  </a:lnTo>
                  <a:lnTo>
                    <a:pt x="739" y="568"/>
                  </a:lnTo>
                  <a:lnTo>
                    <a:pt x="730" y="577"/>
                  </a:lnTo>
                  <a:lnTo>
                    <a:pt x="722" y="583"/>
                  </a:lnTo>
                  <a:lnTo>
                    <a:pt x="713" y="590"/>
                  </a:lnTo>
                  <a:lnTo>
                    <a:pt x="707" y="593"/>
                  </a:lnTo>
                  <a:lnTo>
                    <a:pt x="707" y="590"/>
                  </a:lnTo>
                  <a:lnTo>
                    <a:pt x="713" y="580"/>
                  </a:lnTo>
                  <a:lnTo>
                    <a:pt x="724" y="559"/>
                  </a:lnTo>
                  <a:lnTo>
                    <a:pt x="736" y="540"/>
                  </a:lnTo>
                  <a:lnTo>
                    <a:pt x="748" y="527"/>
                  </a:lnTo>
                  <a:lnTo>
                    <a:pt x="765" y="509"/>
                  </a:lnTo>
                  <a:lnTo>
                    <a:pt x="789" y="481"/>
                  </a:lnTo>
                  <a:lnTo>
                    <a:pt x="812" y="456"/>
                  </a:lnTo>
                  <a:lnTo>
                    <a:pt x="827" y="446"/>
                  </a:lnTo>
                  <a:lnTo>
                    <a:pt x="838" y="437"/>
                  </a:lnTo>
                  <a:lnTo>
                    <a:pt x="850" y="415"/>
                  </a:lnTo>
                  <a:lnTo>
                    <a:pt x="862" y="384"/>
                  </a:lnTo>
                  <a:lnTo>
                    <a:pt x="868" y="353"/>
                  </a:lnTo>
                  <a:lnTo>
                    <a:pt x="873" y="322"/>
                  </a:lnTo>
                  <a:lnTo>
                    <a:pt x="876" y="293"/>
                  </a:lnTo>
                  <a:lnTo>
                    <a:pt x="876" y="281"/>
                  </a:lnTo>
                  <a:lnTo>
                    <a:pt x="879" y="259"/>
                  </a:lnTo>
                  <a:lnTo>
                    <a:pt x="879" y="231"/>
                  </a:lnTo>
                  <a:lnTo>
                    <a:pt x="882" y="187"/>
                  </a:lnTo>
                  <a:lnTo>
                    <a:pt x="876" y="150"/>
                  </a:lnTo>
                  <a:lnTo>
                    <a:pt x="862" y="138"/>
                  </a:lnTo>
                  <a:lnTo>
                    <a:pt x="841" y="128"/>
                  </a:lnTo>
                  <a:lnTo>
                    <a:pt x="830" y="103"/>
                  </a:lnTo>
                  <a:lnTo>
                    <a:pt x="821" y="91"/>
                  </a:lnTo>
                  <a:lnTo>
                    <a:pt x="821" y="72"/>
                  </a:lnTo>
                  <a:lnTo>
                    <a:pt x="821" y="60"/>
                  </a:lnTo>
                  <a:lnTo>
                    <a:pt x="806" y="53"/>
                  </a:lnTo>
                  <a:lnTo>
                    <a:pt x="786" y="53"/>
                  </a:lnTo>
                  <a:lnTo>
                    <a:pt x="774" y="60"/>
                  </a:lnTo>
                  <a:lnTo>
                    <a:pt x="768" y="69"/>
                  </a:lnTo>
                  <a:lnTo>
                    <a:pt x="768" y="85"/>
                  </a:lnTo>
                  <a:lnTo>
                    <a:pt x="768" y="103"/>
                  </a:lnTo>
                  <a:lnTo>
                    <a:pt x="765" y="116"/>
                  </a:lnTo>
                  <a:lnTo>
                    <a:pt x="765" y="134"/>
                  </a:lnTo>
                  <a:lnTo>
                    <a:pt x="768" y="162"/>
                  </a:lnTo>
                  <a:lnTo>
                    <a:pt x="780" y="191"/>
                  </a:lnTo>
                  <a:lnTo>
                    <a:pt x="789" y="209"/>
                  </a:lnTo>
                  <a:lnTo>
                    <a:pt x="795" y="228"/>
                  </a:lnTo>
                  <a:lnTo>
                    <a:pt x="795" y="247"/>
                  </a:lnTo>
                  <a:lnTo>
                    <a:pt x="786" y="262"/>
                  </a:lnTo>
                  <a:lnTo>
                    <a:pt x="774" y="272"/>
                  </a:lnTo>
                  <a:lnTo>
                    <a:pt x="760" y="287"/>
                  </a:lnTo>
                  <a:lnTo>
                    <a:pt x="757" y="312"/>
                  </a:lnTo>
                  <a:lnTo>
                    <a:pt x="762" y="284"/>
                  </a:lnTo>
                  <a:lnTo>
                    <a:pt x="765" y="268"/>
                  </a:lnTo>
                  <a:lnTo>
                    <a:pt x="768" y="256"/>
                  </a:lnTo>
                  <a:lnTo>
                    <a:pt x="768" y="237"/>
                  </a:lnTo>
                  <a:lnTo>
                    <a:pt x="768" y="215"/>
                  </a:lnTo>
                  <a:lnTo>
                    <a:pt x="765" y="203"/>
                  </a:lnTo>
                  <a:lnTo>
                    <a:pt x="760" y="191"/>
                  </a:lnTo>
                  <a:lnTo>
                    <a:pt x="754" y="169"/>
                  </a:lnTo>
                  <a:lnTo>
                    <a:pt x="748" y="147"/>
                  </a:lnTo>
                  <a:lnTo>
                    <a:pt x="748" y="125"/>
                  </a:lnTo>
                  <a:lnTo>
                    <a:pt x="751" y="109"/>
                  </a:lnTo>
                  <a:lnTo>
                    <a:pt x="754" y="91"/>
                  </a:lnTo>
                  <a:lnTo>
                    <a:pt x="757" y="75"/>
                  </a:lnTo>
                  <a:lnTo>
                    <a:pt x="754" y="69"/>
                  </a:lnTo>
                  <a:lnTo>
                    <a:pt x="748" y="66"/>
                  </a:lnTo>
                  <a:lnTo>
                    <a:pt x="727" y="63"/>
                  </a:lnTo>
                  <a:lnTo>
                    <a:pt x="713" y="63"/>
                  </a:lnTo>
                  <a:lnTo>
                    <a:pt x="713" y="69"/>
                  </a:lnTo>
                  <a:lnTo>
                    <a:pt x="716" y="78"/>
                  </a:lnTo>
                  <a:lnTo>
                    <a:pt x="713" y="85"/>
                  </a:lnTo>
                  <a:lnTo>
                    <a:pt x="701" y="85"/>
                  </a:lnTo>
                  <a:lnTo>
                    <a:pt x="692" y="85"/>
                  </a:lnTo>
                  <a:lnTo>
                    <a:pt x="681" y="85"/>
                  </a:lnTo>
                  <a:lnTo>
                    <a:pt x="67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6592680" y="712800"/>
              <a:ext cx="1377360" cy="261936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2619360"/>
                <a:gd name="textAreaBottom" fmla="*/ 2619720 h 2619360"/>
              </a:gdLst>
              <a:ahLst/>
              <a:rect l="textAreaLeft" t="textAreaTop" r="textAreaRight" b="textAreaBottom"/>
              <a:pathLst>
                <a:path w="1339" h="1650">
                  <a:moveTo>
                    <a:pt x="275" y="1650"/>
                  </a:moveTo>
                  <a:lnTo>
                    <a:pt x="260" y="1650"/>
                  </a:lnTo>
                  <a:lnTo>
                    <a:pt x="272" y="1646"/>
                  </a:lnTo>
                  <a:lnTo>
                    <a:pt x="292" y="1640"/>
                  </a:lnTo>
                  <a:lnTo>
                    <a:pt x="322" y="1634"/>
                  </a:lnTo>
                  <a:lnTo>
                    <a:pt x="354" y="1628"/>
                  </a:lnTo>
                  <a:lnTo>
                    <a:pt x="386" y="1618"/>
                  </a:lnTo>
                  <a:lnTo>
                    <a:pt x="415" y="1612"/>
                  </a:lnTo>
                  <a:lnTo>
                    <a:pt x="441" y="1606"/>
                  </a:lnTo>
                  <a:lnTo>
                    <a:pt x="465" y="1603"/>
                  </a:lnTo>
                  <a:lnTo>
                    <a:pt x="485" y="1597"/>
                  </a:lnTo>
                  <a:lnTo>
                    <a:pt x="503" y="1590"/>
                  </a:lnTo>
                  <a:lnTo>
                    <a:pt x="520" y="1581"/>
                  </a:lnTo>
                  <a:lnTo>
                    <a:pt x="538" y="1572"/>
                  </a:lnTo>
                  <a:lnTo>
                    <a:pt x="555" y="1556"/>
                  </a:lnTo>
                  <a:lnTo>
                    <a:pt x="573" y="1534"/>
                  </a:lnTo>
                  <a:lnTo>
                    <a:pt x="605" y="1500"/>
                  </a:lnTo>
                  <a:lnTo>
                    <a:pt x="623" y="1472"/>
                  </a:lnTo>
                  <a:lnTo>
                    <a:pt x="628" y="1438"/>
                  </a:lnTo>
                  <a:lnTo>
                    <a:pt x="626" y="1375"/>
                  </a:lnTo>
                  <a:lnTo>
                    <a:pt x="623" y="1307"/>
                  </a:lnTo>
                  <a:lnTo>
                    <a:pt x="620" y="1263"/>
                  </a:lnTo>
                  <a:lnTo>
                    <a:pt x="614" y="1229"/>
                  </a:lnTo>
                  <a:lnTo>
                    <a:pt x="599" y="1179"/>
                  </a:lnTo>
                  <a:lnTo>
                    <a:pt x="585" y="1132"/>
                  </a:lnTo>
                  <a:lnTo>
                    <a:pt x="579" y="1094"/>
                  </a:lnTo>
                  <a:lnTo>
                    <a:pt x="564" y="1057"/>
                  </a:lnTo>
                  <a:lnTo>
                    <a:pt x="532" y="1001"/>
                  </a:lnTo>
                  <a:lnTo>
                    <a:pt x="512" y="970"/>
                  </a:lnTo>
                  <a:lnTo>
                    <a:pt x="497" y="945"/>
                  </a:lnTo>
                  <a:lnTo>
                    <a:pt x="482" y="926"/>
                  </a:lnTo>
                  <a:lnTo>
                    <a:pt x="471" y="907"/>
                  </a:lnTo>
                  <a:lnTo>
                    <a:pt x="462" y="895"/>
                  </a:lnTo>
                  <a:lnTo>
                    <a:pt x="456" y="882"/>
                  </a:lnTo>
                  <a:lnTo>
                    <a:pt x="450" y="873"/>
                  </a:lnTo>
                  <a:lnTo>
                    <a:pt x="444" y="864"/>
                  </a:lnTo>
                  <a:lnTo>
                    <a:pt x="433" y="848"/>
                  </a:lnTo>
                  <a:lnTo>
                    <a:pt x="418" y="829"/>
                  </a:lnTo>
                  <a:lnTo>
                    <a:pt x="406" y="811"/>
                  </a:lnTo>
                  <a:lnTo>
                    <a:pt x="395" y="792"/>
                  </a:lnTo>
                  <a:lnTo>
                    <a:pt x="380" y="776"/>
                  </a:lnTo>
                  <a:lnTo>
                    <a:pt x="363" y="758"/>
                  </a:lnTo>
                  <a:lnTo>
                    <a:pt x="345" y="739"/>
                  </a:lnTo>
                  <a:lnTo>
                    <a:pt x="325" y="723"/>
                  </a:lnTo>
                  <a:lnTo>
                    <a:pt x="304" y="711"/>
                  </a:lnTo>
                  <a:lnTo>
                    <a:pt x="289" y="705"/>
                  </a:lnTo>
                  <a:lnTo>
                    <a:pt x="281" y="702"/>
                  </a:lnTo>
                  <a:lnTo>
                    <a:pt x="269" y="702"/>
                  </a:lnTo>
                  <a:lnTo>
                    <a:pt x="257" y="705"/>
                  </a:lnTo>
                  <a:lnTo>
                    <a:pt x="243" y="705"/>
                  </a:lnTo>
                  <a:lnTo>
                    <a:pt x="219" y="702"/>
                  </a:lnTo>
                  <a:lnTo>
                    <a:pt x="190" y="692"/>
                  </a:lnTo>
                  <a:lnTo>
                    <a:pt x="161" y="680"/>
                  </a:lnTo>
                  <a:lnTo>
                    <a:pt x="138" y="670"/>
                  </a:lnTo>
                  <a:lnTo>
                    <a:pt x="120" y="664"/>
                  </a:lnTo>
                  <a:lnTo>
                    <a:pt x="105" y="661"/>
                  </a:lnTo>
                  <a:lnTo>
                    <a:pt x="91" y="655"/>
                  </a:lnTo>
                  <a:lnTo>
                    <a:pt x="79" y="652"/>
                  </a:lnTo>
                  <a:lnTo>
                    <a:pt x="67" y="645"/>
                  </a:lnTo>
                  <a:lnTo>
                    <a:pt x="50" y="636"/>
                  </a:lnTo>
                  <a:lnTo>
                    <a:pt x="21" y="620"/>
                  </a:lnTo>
                  <a:lnTo>
                    <a:pt x="3" y="611"/>
                  </a:lnTo>
                  <a:lnTo>
                    <a:pt x="0" y="605"/>
                  </a:lnTo>
                  <a:lnTo>
                    <a:pt x="12" y="605"/>
                  </a:lnTo>
                  <a:lnTo>
                    <a:pt x="29" y="605"/>
                  </a:lnTo>
                  <a:lnTo>
                    <a:pt x="44" y="608"/>
                  </a:lnTo>
                  <a:lnTo>
                    <a:pt x="62" y="614"/>
                  </a:lnTo>
                  <a:lnTo>
                    <a:pt x="82" y="630"/>
                  </a:lnTo>
                  <a:lnTo>
                    <a:pt x="97" y="639"/>
                  </a:lnTo>
                  <a:lnTo>
                    <a:pt x="108" y="645"/>
                  </a:lnTo>
                  <a:lnTo>
                    <a:pt x="123" y="649"/>
                  </a:lnTo>
                  <a:lnTo>
                    <a:pt x="138" y="652"/>
                  </a:lnTo>
                  <a:lnTo>
                    <a:pt x="152" y="655"/>
                  </a:lnTo>
                  <a:lnTo>
                    <a:pt x="170" y="658"/>
                  </a:lnTo>
                  <a:lnTo>
                    <a:pt x="184" y="661"/>
                  </a:lnTo>
                  <a:lnTo>
                    <a:pt x="199" y="664"/>
                  </a:lnTo>
                  <a:lnTo>
                    <a:pt x="228" y="670"/>
                  </a:lnTo>
                  <a:lnTo>
                    <a:pt x="252" y="677"/>
                  </a:lnTo>
                  <a:lnTo>
                    <a:pt x="269" y="680"/>
                  </a:lnTo>
                  <a:lnTo>
                    <a:pt x="275" y="683"/>
                  </a:lnTo>
                  <a:lnTo>
                    <a:pt x="275" y="677"/>
                  </a:lnTo>
                  <a:lnTo>
                    <a:pt x="272" y="655"/>
                  </a:lnTo>
                  <a:lnTo>
                    <a:pt x="263" y="624"/>
                  </a:lnTo>
                  <a:lnTo>
                    <a:pt x="249" y="580"/>
                  </a:lnTo>
                  <a:lnTo>
                    <a:pt x="234" y="546"/>
                  </a:lnTo>
                  <a:lnTo>
                    <a:pt x="222" y="530"/>
                  </a:lnTo>
                  <a:lnTo>
                    <a:pt x="219" y="518"/>
                  </a:lnTo>
                  <a:lnTo>
                    <a:pt x="225" y="496"/>
                  </a:lnTo>
                  <a:lnTo>
                    <a:pt x="231" y="474"/>
                  </a:lnTo>
                  <a:lnTo>
                    <a:pt x="231" y="471"/>
                  </a:lnTo>
                  <a:lnTo>
                    <a:pt x="234" y="490"/>
                  </a:lnTo>
                  <a:lnTo>
                    <a:pt x="249" y="530"/>
                  </a:lnTo>
                  <a:lnTo>
                    <a:pt x="266" y="574"/>
                  </a:lnTo>
                  <a:lnTo>
                    <a:pt x="275" y="608"/>
                  </a:lnTo>
                  <a:lnTo>
                    <a:pt x="287" y="636"/>
                  </a:lnTo>
                  <a:lnTo>
                    <a:pt x="307" y="664"/>
                  </a:lnTo>
                  <a:lnTo>
                    <a:pt x="322" y="680"/>
                  </a:lnTo>
                  <a:lnTo>
                    <a:pt x="333" y="692"/>
                  </a:lnTo>
                  <a:lnTo>
                    <a:pt x="345" y="702"/>
                  </a:lnTo>
                  <a:lnTo>
                    <a:pt x="357" y="714"/>
                  </a:lnTo>
                  <a:lnTo>
                    <a:pt x="368" y="723"/>
                  </a:lnTo>
                  <a:lnTo>
                    <a:pt x="380" y="736"/>
                  </a:lnTo>
                  <a:lnTo>
                    <a:pt x="392" y="751"/>
                  </a:lnTo>
                  <a:lnTo>
                    <a:pt x="406" y="770"/>
                  </a:lnTo>
                  <a:lnTo>
                    <a:pt x="433" y="804"/>
                  </a:lnTo>
                  <a:lnTo>
                    <a:pt x="450" y="836"/>
                  </a:lnTo>
                  <a:lnTo>
                    <a:pt x="465" y="861"/>
                  </a:lnTo>
                  <a:lnTo>
                    <a:pt x="482" y="886"/>
                  </a:lnTo>
                  <a:lnTo>
                    <a:pt x="500" y="907"/>
                  </a:lnTo>
                  <a:lnTo>
                    <a:pt x="517" y="917"/>
                  </a:lnTo>
                  <a:lnTo>
                    <a:pt x="535" y="929"/>
                  </a:lnTo>
                  <a:lnTo>
                    <a:pt x="558" y="948"/>
                  </a:lnTo>
                  <a:lnTo>
                    <a:pt x="552" y="895"/>
                  </a:lnTo>
                  <a:lnTo>
                    <a:pt x="550" y="864"/>
                  </a:lnTo>
                  <a:lnTo>
                    <a:pt x="541" y="833"/>
                  </a:lnTo>
                  <a:lnTo>
                    <a:pt x="523" y="780"/>
                  </a:lnTo>
                  <a:lnTo>
                    <a:pt x="509" y="748"/>
                  </a:lnTo>
                  <a:lnTo>
                    <a:pt x="491" y="723"/>
                  </a:lnTo>
                  <a:lnTo>
                    <a:pt x="471" y="698"/>
                  </a:lnTo>
                  <a:lnTo>
                    <a:pt x="444" y="661"/>
                  </a:lnTo>
                  <a:lnTo>
                    <a:pt x="427" y="624"/>
                  </a:lnTo>
                  <a:lnTo>
                    <a:pt x="412" y="599"/>
                  </a:lnTo>
                  <a:lnTo>
                    <a:pt x="401" y="577"/>
                  </a:lnTo>
                  <a:lnTo>
                    <a:pt x="386" y="546"/>
                  </a:lnTo>
                  <a:lnTo>
                    <a:pt x="371" y="511"/>
                  </a:lnTo>
                  <a:lnTo>
                    <a:pt x="365" y="483"/>
                  </a:lnTo>
                  <a:lnTo>
                    <a:pt x="357" y="452"/>
                  </a:lnTo>
                  <a:lnTo>
                    <a:pt x="342" y="402"/>
                  </a:lnTo>
                  <a:lnTo>
                    <a:pt x="327" y="355"/>
                  </a:lnTo>
                  <a:lnTo>
                    <a:pt x="319" y="327"/>
                  </a:lnTo>
                  <a:lnTo>
                    <a:pt x="313" y="306"/>
                  </a:lnTo>
                  <a:lnTo>
                    <a:pt x="304" y="274"/>
                  </a:lnTo>
                  <a:lnTo>
                    <a:pt x="316" y="265"/>
                  </a:lnTo>
                  <a:lnTo>
                    <a:pt x="316" y="253"/>
                  </a:lnTo>
                  <a:lnTo>
                    <a:pt x="325" y="281"/>
                  </a:lnTo>
                  <a:lnTo>
                    <a:pt x="336" y="318"/>
                  </a:lnTo>
                  <a:lnTo>
                    <a:pt x="342" y="346"/>
                  </a:lnTo>
                  <a:lnTo>
                    <a:pt x="345" y="371"/>
                  </a:lnTo>
                  <a:lnTo>
                    <a:pt x="357" y="405"/>
                  </a:lnTo>
                  <a:lnTo>
                    <a:pt x="371" y="440"/>
                  </a:lnTo>
                  <a:lnTo>
                    <a:pt x="380" y="471"/>
                  </a:lnTo>
                  <a:lnTo>
                    <a:pt x="386" y="496"/>
                  </a:lnTo>
                  <a:lnTo>
                    <a:pt x="392" y="521"/>
                  </a:lnTo>
                  <a:lnTo>
                    <a:pt x="403" y="552"/>
                  </a:lnTo>
                  <a:lnTo>
                    <a:pt x="427" y="583"/>
                  </a:lnTo>
                  <a:lnTo>
                    <a:pt x="453" y="617"/>
                  </a:lnTo>
                  <a:lnTo>
                    <a:pt x="474" y="645"/>
                  </a:lnTo>
                  <a:lnTo>
                    <a:pt x="482" y="661"/>
                  </a:lnTo>
                  <a:lnTo>
                    <a:pt x="494" y="674"/>
                  </a:lnTo>
                  <a:lnTo>
                    <a:pt x="503" y="689"/>
                  </a:lnTo>
                  <a:lnTo>
                    <a:pt x="515" y="705"/>
                  </a:lnTo>
                  <a:lnTo>
                    <a:pt x="526" y="717"/>
                  </a:lnTo>
                  <a:lnTo>
                    <a:pt x="538" y="730"/>
                  </a:lnTo>
                  <a:lnTo>
                    <a:pt x="552" y="742"/>
                  </a:lnTo>
                  <a:lnTo>
                    <a:pt x="567" y="755"/>
                  </a:lnTo>
                  <a:lnTo>
                    <a:pt x="555" y="708"/>
                  </a:lnTo>
                  <a:lnTo>
                    <a:pt x="552" y="680"/>
                  </a:lnTo>
                  <a:lnTo>
                    <a:pt x="550" y="655"/>
                  </a:lnTo>
                  <a:lnTo>
                    <a:pt x="541" y="614"/>
                  </a:lnTo>
                  <a:lnTo>
                    <a:pt x="526" y="567"/>
                  </a:lnTo>
                  <a:lnTo>
                    <a:pt x="517" y="527"/>
                  </a:lnTo>
                  <a:lnTo>
                    <a:pt x="503" y="483"/>
                  </a:lnTo>
                  <a:lnTo>
                    <a:pt x="482" y="433"/>
                  </a:lnTo>
                  <a:lnTo>
                    <a:pt x="468" y="396"/>
                  </a:lnTo>
                  <a:lnTo>
                    <a:pt x="459" y="374"/>
                  </a:lnTo>
                  <a:lnTo>
                    <a:pt x="450" y="355"/>
                  </a:lnTo>
                  <a:lnTo>
                    <a:pt x="424" y="318"/>
                  </a:lnTo>
                  <a:lnTo>
                    <a:pt x="406" y="293"/>
                  </a:lnTo>
                  <a:lnTo>
                    <a:pt x="392" y="274"/>
                  </a:lnTo>
                  <a:lnTo>
                    <a:pt x="380" y="259"/>
                  </a:lnTo>
                  <a:lnTo>
                    <a:pt x="371" y="246"/>
                  </a:lnTo>
                  <a:lnTo>
                    <a:pt x="360" y="237"/>
                  </a:lnTo>
                  <a:lnTo>
                    <a:pt x="351" y="228"/>
                  </a:lnTo>
                  <a:lnTo>
                    <a:pt x="339" y="221"/>
                  </a:lnTo>
                  <a:lnTo>
                    <a:pt x="325" y="212"/>
                  </a:lnTo>
                  <a:lnTo>
                    <a:pt x="301" y="193"/>
                  </a:lnTo>
                  <a:lnTo>
                    <a:pt x="292" y="175"/>
                  </a:lnTo>
                  <a:lnTo>
                    <a:pt x="284" y="159"/>
                  </a:lnTo>
                  <a:lnTo>
                    <a:pt x="269" y="143"/>
                  </a:lnTo>
                  <a:lnTo>
                    <a:pt x="275" y="128"/>
                  </a:lnTo>
                  <a:lnTo>
                    <a:pt x="269" y="122"/>
                  </a:lnTo>
                  <a:lnTo>
                    <a:pt x="269" y="125"/>
                  </a:lnTo>
                  <a:lnTo>
                    <a:pt x="284" y="140"/>
                  </a:lnTo>
                  <a:lnTo>
                    <a:pt x="301" y="156"/>
                  </a:lnTo>
                  <a:lnTo>
                    <a:pt x="310" y="165"/>
                  </a:lnTo>
                  <a:lnTo>
                    <a:pt x="319" y="181"/>
                  </a:lnTo>
                  <a:lnTo>
                    <a:pt x="342" y="203"/>
                  </a:lnTo>
                  <a:lnTo>
                    <a:pt x="371" y="228"/>
                  </a:lnTo>
                  <a:lnTo>
                    <a:pt x="398" y="253"/>
                  </a:lnTo>
                  <a:lnTo>
                    <a:pt x="418" y="268"/>
                  </a:lnTo>
                  <a:lnTo>
                    <a:pt x="424" y="274"/>
                  </a:lnTo>
                  <a:lnTo>
                    <a:pt x="427" y="281"/>
                  </a:lnTo>
                  <a:lnTo>
                    <a:pt x="439" y="290"/>
                  </a:lnTo>
                  <a:lnTo>
                    <a:pt x="447" y="293"/>
                  </a:lnTo>
                  <a:lnTo>
                    <a:pt x="450" y="274"/>
                  </a:lnTo>
                  <a:lnTo>
                    <a:pt x="450" y="246"/>
                  </a:lnTo>
                  <a:lnTo>
                    <a:pt x="447" y="228"/>
                  </a:lnTo>
                  <a:lnTo>
                    <a:pt x="447" y="206"/>
                  </a:lnTo>
                  <a:lnTo>
                    <a:pt x="450" y="175"/>
                  </a:lnTo>
                  <a:lnTo>
                    <a:pt x="453" y="143"/>
                  </a:lnTo>
                  <a:lnTo>
                    <a:pt x="456" y="128"/>
                  </a:lnTo>
                  <a:lnTo>
                    <a:pt x="453" y="112"/>
                  </a:lnTo>
                  <a:lnTo>
                    <a:pt x="450" y="87"/>
                  </a:lnTo>
                  <a:lnTo>
                    <a:pt x="441" y="62"/>
                  </a:lnTo>
                  <a:lnTo>
                    <a:pt x="433" y="53"/>
                  </a:lnTo>
                  <a:lnTo>
                    <a:pt x="430" y="53"/>
                  </a:lnTo>
                  <a:lnTo>
                    <a:pt x="441" y="50"/>
                  </a:lnTo>
                  <a:lnTo>
                    <a:pt x="453" y="44"/>
                  </a:lnTo>
                  <a:lnTo>
                    <a:pt x="459" y="40"/>
                  </a:lnTo>
                  <a:lnTo>
                    <a:pt x="462" y="50"/>
                  </a:lnTo>
                  <a:lnTo>
                    <a:pt x="465" y="78"/>
                  </a:lnTo>
                  <a:lnTo>
                    <a:pt x="471" y="109"/>
                  </a:lnTo>
                  <a:lnTo>
                    <a:pt x="471" y="128"/>
                  </a:lnTo>
                  <a:lnTo>
                    <a:pt x="471" y="143"/>
                  </a:lnTo>
                  <a:lnTo>
                    <a:pt x="471" y="171"/>
                  </a:lnTo>
                  <a:lnTo>
                    <a:pt x="471" y="200"/>
                  </a:lnTo>
                  <a:lnTo>
                    <a:pt x="474" y="218"/>
                  </a:lnTo>
                  <a:lnTo>
                    <a:pt x="474" y="240"/>
                  </a:lnTo>
                  <a:lnTo>
                    <a:pt x="474" y="268"/>
                  </a:lnTo>
                  <a:lnTo>
                    <a:pt x="474" y="290"/>
                  </a:lnTo>
                  <a:lnTo>
                    <a:pt x="477" y="296"/>
                  </a:lnTo>
                  <a:lnTo>
                    <a:pt x="482" y="309"/>
                  </a:lnTo>
                  <a:lnTo>
                    <a:pt x="491" y="343"/>
                  </a:lnTo>
                  <a:lnTo>
                    <a:pt x="503" y="390"/>
                  </a:lnTo>
                  <a:lnTo>
                    <a:pt x="512" y="430"/>
                  </a:lnTo>
                  <a:lnTo>
                    <a:pt x="520" y="465"/>
                  </a:lnTo>
                  <a:lnTo>
                    <a:pt x="532" y="496"/>
                  </a:lnTo>
                  <a:lnTo>
                    <a:pt x="544" y="527"/>
                  </a:lnTo>
                  <a:lnTo>
                    <a:pt x="550" y="558"/>
                  </a:lnTo>
                  <a:lnTo>
                    <a:pt x="555" y="589"/>
                  </a:lnTo>
                  <a:lnTo>
                    <a:pt x="567" y="620"/>
                  </a:lnTo>
                  <a:lnTo>
                    <a:pt x="579" y="652"/>
                  </a:lnTo>
                  <a:lnTo>
                    <a:pt x="590" y="686"/>
                  </a:lnTo>
                  <a:lnTo>
                    <a:pt x="599" y="717"/>
                  </a:lnTo>
                  <a:lnTo>
                    <a:pt x="608" y="745"/>
                  </a:lnTo>
                  <a:lnTo>
                    <a:pt x="614" y="770"/>
                  </a:lnTo>
                  <a:lnTo>
                    <a:pt x="620" y="792"/>
                  </a:lnTo>
                  <a:lnTo>
                    <a:pt x="626" y="801"/>
                  </a:lnTo>
                  <a:lnTo>
                    <a:pt x="640" y="789"/>
                  </a:lnTo>
                  <a:lnTo>
                    <a:pt x="655" y="770"/>
                  </a:lnTo>
                  <a:lnTo>
                    <a:pt x="658" y="755"/>
                  </a:lnTo>
                  <a:lnTo>
                    <a:pt x="658" y="733"/>
                  </a:lnTo>
                  <a:lnTo>
                    <a:pt x="658" y="698"/>
                  </a:lnTo>
                  <a:lnTo>
                    <a:pt x="658" y="664"/>
                  </a:lnTo>
                  <a:lnTo>
                    <a:pt x="655" y="639"/>
                  </a:lnTo>
                  <a:lnTo>
                    <a:pt x="649" y="617"/>
                  </a:lnTo>
                  <a:lnTo>
                    <a:pt x="640" y="583"/>
                  </a:lnTo>
                  <a:lnTo>
                    <a:pt x="628" y="552"/>
                  </a:lnTo>
                  <a:lnTo>
                    <a:pt x="617" y="536"/>
                  </a:lnTo>
                  <a:lnTo>
                    <a:pt x="608" y="518"/>
                  </a:lnTo>
                  <a:lnTo>
                    <a:pt x="599" y="477"/>
                  </a:lnTo>
                  <a:lnTo>
                    <a:pt x="593" y="427"/>
                  </a:lnTo>
                  <a:lnTo>
                    <a:pt x="590" y="396"/>
                  </a:lnTo>
                  <a:lnTo>
                    <a:pt x="590" y="365"/>
                  </a:lnTo>
                  <a:lnTo>
                    <a:pt x="590" y="321"/>
                  </a:lnTo>
                  <a:lnTo>
                    <a:pt x="588" y="281"/>
                  </a:lnTo>
                  <a:lnTo>
                    <a:pt x="582" y="256"/>
                  </a:lnTo>
                  <a:lnTo>
                    <a:pt x="576" y="234"/>
                  </a:lnTo>
                  <a:lnTo>
                    <a:pt x="573" y="193"/>
                  </a:lnTo>
                  <a:lnTo>
                    <a:pt x="573" y="146"/>
                  </a:lnTo>
                  <a:lnTo>
                    <a:pt x="576" y="115"/>
                  </a:lnTo>
                  <a:lnTo>
                    <a:pt x="582" y="87"/>
                  </a:lnTo>
                  <a:lnTo>
                    <a:pt x="590" y="56"/>
                  </a:lnTo>
                  <a:lnTo>
                    <a:pt x="602" y="25"/>
                  </a:lnTo>
                  <a:lnTo>
                    <a:pt x="611" y="3"/>
                  </a:lnTo>
                  <a:lnTo>
                    <a:pt x="614" y="0"/>
                  </a:lnTo>
                  <a:lnTo>
                    <a:pt x="617" y="16"/>
                  </a:lnTo>
                  <a:lnTo>
                    <a:pt x="614" y="34"/>
                  </a:lnTo>
                  <a:lnTo>
                    <a:pt x="608" y="47"/>
                  </a:lnTo>
                  <a:lnTo>
                    <a:pt x="602" y="62"/>
                  </a:lnTo>
                  <a:lnTo>
                    <a:pt x="599" y="93"/>
                  </a:lnTo>
                  <a:lnTo>
                    <a:pt x="596" y="125"/>
                  </a:lnTo>
                  <a:lnTo>
                    <a:pt x="593" y="150"/>
                  </a:lnTo>
                  <a:lnTo>
                    <a:pt x="590" y="178"/>
                  </a:lnTo>
                  <a:lnTo>
                    <a:pt x="599" y="228"/>
                  </a:lnTo>
                  <a:lnTo>
                    <a:pt x="608" y="284"/>
                  </a:lnTo>
                  <a:lnTo>
                    <a:pt x="608" y="324"/>
                  </a:lnTo>
                  <a:lnTo>
                    <a:pt x="608" y="365"/>
                  </a:lnTo>
                  <a:lnTo>
                    <a:pt x="617" y="415"/>
                  </a:lnTo>
                  <a:lnTo>
                    <a:pt x="628" y="468"/>
                  </a:lnTo>
                  <a:lnTo>
                    <a:pt x="640" y="505"/>
                  </a:lnTo>
                  <a:lnTo>
                    <a:pt x="655" y="543"/>
                  </a:lnTo>
                  <a:lnTo>
                    <a:pt x="666" y="583"/>
                  </a:lnTo>
                  <a:lnTo>
                    <a:pt x="672" y="633"/>
                  </a:lnTo>
                  <a:lnTo>
                    <a:pt x="675" y="683"/>
                  </a:lnTo>
                  <a:lnTo>
                    <a:pt x="681" y="720"/>
                  </a:lnTo>
                  <a:lnTo>
                    <a:pt x="707" y="730"/>
                  </a:lnTo>
                  <a:lnTo>
                    <a:pt x="734" y="717"/>
                  </a:lnTo>
                  <a:lnTo>
                    <a:pt x="745" y="695"/>
                  </a:lnTo>
                  <a:lnTo>
                    <a:pt x="748" y="664"/>
                  </a:lnTo>
                  <a:lnTo>
                    <a:pt x="757" y="620"/>
                  </a:lnTo>
                  <a:lnTo>
                    <a:pt x="766" y="583"/>
                  </a:lnTo>
                  <a:lnTo>
                    <a:pt x="769" y="558"/>
                  </a:lnTo>
                  <a:lnTo>
                    <a:pt x="766" y="536"/>
                  </a:lnTo>
                  <a:lnTo>
                    <a:pt x="757" y="505"/>
                  </a:lnTo>
                  <a:lnTo>
                    <a:pt x="748" y="474"/>
                  </a:lnTo>
                  <a:lnTo>
                    <a:pt x="742" y="458"/>
                  </a:lnTo>
                  <a:lnTo>
                    <a:pt x="737" y="437"/>
                  </a:lnTo>
                  <a:lnTo>
                    <a:pt x="725" y="402"/>
                  </a:lnTo>
                  <a:lnTo>
                    <a:pt x="707" y="365"/>
                  </a:lnTo>
                  <a:lnTo>
                    <a:pt x="690" y="334"/>
                  </a:lnTo>
                  <a:lnTo>
                    <a:pt x="678" y="302"/>
                  </a:lnTo>
                  <a:lnTo>
                    <a:pt x="669" y="256"/>
                  </a:lnTo>
                  <a:lnTo>
                    <a:pt x="664" y="203"/>
                  </a:lnTo>
                  <a:lnTo>
                    <a:pt x="664" y="165"/>
                  </a:lnTo>
                  <a:lnTo>
                    <a:pt x="664" y="134"/>
                  </a:lnTo>
                  <a:lnTo>
                    <a:pt x="669" y="103"/>
                  </a:lnTo>
                  <a:lnTo>
                    <a:pt x="675" y="75"/>
                  </a:lnTo>
                  <a:lnTo>
                    <a:pt x="678" y="56"/>
                  </a:lnTo>
                  <a:lnTo>
                    <a:pt x="681" y="59"/>
                  </a:lnTo>
                  <a:lnTo>
                    <a:pt x="681" y="87"/>
                  </a:lnTo>
                  <a:lnTo>
                    <a:pt x="681" y="122"/>
                  </a:lnTo>
                  <a:lnTo>
                    <a:pt x="678" y="153"/>
                  </a:lnTo>
                  <a:lnTo>
                    <a:pt x="678" y="184"/>
                  </a:lnTo>
                  <a:lnTo>
                    <a:pt x="681" y="218"/>
                  </a:lnTo>
                  <a:lnTo>
                    <a:pt x="684" y="253"/>
                  </a:lnTo>
                  <a:lnTo>
                    <a:pt x="687" y="277"/>
                  </a:lnTo>
                  <a:lnTo>
                    <a:pt x="693" y="299"/>
                  </a:lnTo>
                  <a:lnTo>
                    <a:pt x="707" y="327"/>
                  </a:lnTo>
                  <a:lnTo>
                    <a:pt x="725" y="355"/>
                  </a:lnTo>
                  <a:lnTo>
                    <a:pt x="740" y="380"/>
                  </a:lnTo>
                  <a:lnTo>
                    <a:pt x="754" y="408"/>
                  </a:lnTo>
                  <a:lnTo>
                    <a:pt x="766" y="443"/>
                  </a:lnTo>
                  <a:lnTo>
                    <a:pt x="775" y="483"/>
                  </a:lnTo>
                  <a:lnTo>
                    <a:pt x="783" y="521"/>
                  </a:lnTo>
                  <a:lnTo>
                    <a:pt x="786" y="549"/>
                  </a:lnTo>
                  <a:lnTo>
                    <a:pt x="789" y="558"/>
                  </a:lnTo>
                  <a:lnTo>
                    <a:pt x="807" y="530"/>
                  </a:lnTo>
                  <a:lnTo>
                    <a:pt x="827" y="499"/>
                  </a:lnTo>
                  <a:lnTo>
                    <a:pt x="845" y="471"/>
                  </a:lnTo>
                  <a:lnTo>
                    <a:pt x="862" y="443"/>
                  </a:lnTo>
                  <a:lnTo>
                    <a:pt x="880" y="408"/>
                  </a:lnTo>
                  <a:lnTo>
                    <a:pt x="891" y="383"/>
                  </a:lnTo>
                  <a:lnTo>
                    <a:pt x="897" y="362"/>
                  </a:lnTo>
                  <a:lnTo>
                    <a:pt x="900" y="343"/>
                  </a:lnTo>
                  <a:lnTo>
                    <a:pt x="909" y="318"/>
                  </a:lnTo>
                  <a:lnTo>
                    <a:pt x="915" y="302"/>
                  </a:lnTo>
                  <a:lnTo>
                    <a:pt x="912" y="281"/>
                  </a:lnTo>
                  <a:lnTo>
                    <a:pt x="891" y="246"/>
                  </a:lnTo>
                  <a:lnTo>
                    <a:pt x="871" y="209"/>
                  </a:lnTo>
                  <a:lnTo>
                    <a:pt x="862" y="184"/>
                  </a:lnTo>
                  <a:lnTo>
                    <a:pt x="859" y="162"/>
                  </a:lnTo>
                  <a:lnTo>
                    <a:pt x="848" y="131"/>
                  </a:lnTo>
                  <a:lnTo>
                    <a:pt x="827" y="103"/>
                  </a:lnTo>
                  <a:lnTo>
                    <a:pt x="813" y="90"/>
                  </a:lnTo>
                  <a:lnTo>
                    <a:pt x="810" y="87"/>
                  </a:lnTo>
                  <a:lnTo>
                    <a:pt x="821" y="87"/>
                  </a:lnTo>
                  <a:lnTo>
                    <a:pt x="836" y="87"/>
                  </a:lnTo>
                  <a:lnTo>
                    <a:pt x="842" y="93"/>
                  </a:lnTo>
                  <a:lnTo>
                    <a:pt x="842" y="106"/>
                  </a:lnTo>
                  <a:lnTo>
                    <a:pt x="853" y="131"/>
                  </a:lnTo>
                  <a:lnTo>
                    <a:pt x="871" y="159"/>
                  </a:lnTo>
                  <a:lnTo>
                    <a:pt x="883" y="178"/>
                  </a:lnTo>
                  <a:lnTo>
                    <a:pt x="894" y="200"/>
                  </a:lnTo>
                  <a:lnTo>
                    <a:pt x="906" y="228"/>
                  </a:lnTo>
                  <a:lnTo>
                    <a:pt x="918" y="256"/>
                  </a:lnTo>
                  <a:lnTo>
                    <a:pt x="927" y="271"/>
                  </a:lnTo>
                  <a:lnTo>
                    <a:pt x="927" y="293"/>
                  </a:lnTo>
                  <a:lnTo>
                    <a:pt x="921" y="327"/>
                  </a:lnTo>
                  <a:lnTo>
                    <a:pt x="912" y="365"/>
                  </a:lnTo>
                  <a:lnTo>
                    <a:pt x="906" y="390"/>
                  </a:lnTo>
                  <a:lnTo>
                    <a:pt x="894" y="408"/>
                  </a:lnTo>
                  <a:lnTo>
                    <a:pt x="880" y="433"/>
                  </a:lnTo>
                  <a:lnTo>
                    <a:pt x="868" y="452"/>
                  </a:lnTo>
                  <a:lnTo>
                    <a:pt x="862" y="465"/>
                  </a:lnTo>
                  <a:lnTo>
                    <a:pt x="859" y="483"/>
                  </a:lnTo>
                  <a:lnTo>
                    <a:pt x="848" y="514"/>
                  </a:lnTo>
                  <a:lnTo>
                    <a:pt x="833" y="543"/>
                  </a:lnTo>
                  <a:lnTo>
                    <a:pt x="827" y="555"/>
                  </a:lnTo>
                  <a:lnTo>
                    <a:pt x="821" y="564"/>
                  </a:lnTo>
                  <a:lnTo>
                    <a:pt x="813" y="583"/>
                  </a:lnTo>
                  <a:lnTo>
                    <a:pt x="798" y="608"/>
                  </a:lnTo>
                  <a:lnTo>
                    <a:pt x="789" y="627"/>
                  </a:lnTo>
                  <a:lnTo>
                    <a:pt x="786" y="642"/>
                  </a:lnTo>
                  <a:lnTo>
                    <a:pt x="795" y="645"/>
                  </a:lnTo>
                  <a:lnTo>
                    <a:pt x="813" y="645"/>
                  </a:lnTo>
                  <a:lnTo>
                    <a:pt x="824" y="645"/>
                  </a:lnTo>
                  <a:lnTo>
                    <a:pt x="836" y="642"/>
                  </a:lnTo>
                  <a:lnTo>
                    <a:pt x="848" y="630"/>
                  </a:lnTo>
                  <a:lnTo>
                    <a:pt x="856" y="614"/>
                  </a:lnTo>
                  <a:lnTo>
                    <a:pt x="859" y="605"/>
                  </a:lnTo>
                  <a:lnTo>
                    <a:pt x="865" y="596"/>
                  </a:lnTo>
                  <a:lnTo>
                    <a:pt x="880" y="577"/>
                  </a:lnTo>
                  <a:lnTo>
                    <a:pt x="894" y="552"/>
                  </a:lnTo>
                  <a:lnTo>
                    <a:pt x="906" y="536"/>
                  </a:lnTo>
                  <a:lnTo>
                    <a:pt x="912" y="521"/>
                  </a:lnTo>
                  <a:lnTo>
                    <a:pt x="921" y="505"/>
                  </a:lnTo>
                  <a:lnTo>
                    <a:pt x="938" y="490"/>
                  </a:lnTo>
                  <a:lnTo>
                    <a:pt x="962" y="480"/>
                  </a:lnTo>
                  <a:lnTo>
                    <a:pt x="985" y="468"/>
                  </a:lnTo>
                  <a:lnTo>
                    <a:pt x="997" y="443"/>
                  </a:lnTo>
                  <a:lnTo>
                    <a:pt x="1005" y="421"/>
                  </a:lnTo>
                  <a:lnTo>
                    <a:pt x="1014" y="412"/>
                  </a:lnTo>
                  <a:lnTo>
                    <a:pt x="1029" y="402"/>
                  </a:lnTo>
                  <a:lnTo>
                    <a:pt x="1049" y="380"/>
                  </a:lnTo>
                  <a:lnTo>
                    <a:pt x="1067" y="355"/>
                  </a:lnTo>
                  <a:lnTo>
                    <a:pt x="1078" y="340"/>
                  </a:lnTo>
                  <a:lnTo>
                    <a:pt x="1090" y="327"/>
                  </a:lnTo>
                  <a:lnTo>
                    <a:pt x="1105" y="318"/>
                  </a:lnTo>
                  <a:lnTo>
                    <a:pt x="1116" y="318"/>
                  </a:lnTo>
                  <a:lnTo>
                    <a:pt x="1114" y="330"/>
                  </a:lnTo>
                  <a:lnTo>
                    <a:pt x="1108" y="346"/>
                  </a:lnTo>
                  <a:lnTo>
                    <a:pt x="1105" y="352"/>
                  </a:lnTo>
                  <a:lnTo>
                    <a:pt x="1102" y="355"/>
                  </a:lnTo>
                  <a:lnTo>
                    <a:pt x="1099" y="362"/>
                  </a:lnTo>
                  <a:lnTo>
                    <a:pt x="1087" y="371"/>
                  </a:lnTo>
                  <a:lnTo>
                    <a:pt x="1073" y="390"/>
                  </a:lnTo>
                  <a:lnTo>
                    <a:pt x="1058" y="408"/>
                  </a:lnTo>
                  <a:lnTo>
                    <a:pt x="1046" y="424"/>
                  </a:lnTo>
                  <a:lnTo>
                    <a:pt x="1035" y="440"/>
                  </a:lnTo>
                  <a:lnTo>
                    <a:pt x="1020" y="458"/>
                  </a:lnTo>
                  <a:lnTo>
                    <a:pt x="1003" y="474"/>
                  </a:lnTo>
                  <a:lnTo>
                    <a:pt x="988" y="486"/>
                  </a:lnTo>
                  <a:lnTo>
                    <a:pt x="976" y="499"/>
                  </a:lnTo>
                  <a:lnTo>
                    <a:pt x="970" y="514"/>
                  </a:lnTo>
                  <a:lnTo>
                    <a:pt x="967" y="530"/>
                  </a:lnTo>
                  <a:lnTo>
                    <a:pt x="967" y="543"/>
                  </a:lnTo>
                  <a:lnTo>
                    <a:pt x="973" y="549"/>
                  </a:lnTo>
                  <a:lnTo>
                    <a:pt x="1000" y="552"/>
                  </a:lnTo>
                  <a:lnTo>
                    <a:pt x="1017" y="552"/>
                  </a:lnTo>
                  <a:lnTo>
                    <a:pt x="1032" y="552"/>
                  </a:lnTo>
                  <a:lnTo>
                    <a:pt x="1043" y="552"/>
                  </a:lnTo>
                  <a:lnTo>
                    <a:pt x="1052" y="549"/>
                  </a:lnTo>
                  <a:lnTo>
                    <a:pt x="1064" y="549"/>
                  </a:lnTo>
                  <a:lnTo>
                    <a:pt x="1076" y="546"/>
                  </a:lnTo>
                  <a:lnTo>
                    <a:pt x="1087" y="543"/>
                  </a:lnTo>
                  <a:lnTo>
                    <a:pt x="1102" y="536"/>
                  </a:lnTo>
                  <a:lnTo>
                    <a:pt x="1128" y="518"/>
                  </a:lnTo>
                  <a:lnTo>
                    <a:pt x="1149" y="499"/>
                  </a:lnTo>
                  <a:lnTo>
                    <a:pt x="1160" y="483"/>
                  </a:lnTo>
                  <a:lnTo>
                    <a:pt x="1163" y="477"/>
                  </a:lnTo>
                  <a:lnTo>
                    <a:pt x="1160" y="502"/>
                  </a:lnTo>
                  <a:lnTo>
                    <a:pt x="1157" y="514"/>
                  </a:lnTo>
                  <a:lnTo>
                    <a:pt x="1149" y="524"/>
                  </a:lnTo>
                  <a:lnTo>
                    <a:pt x="1131" y="539"/>
                  </a:lnTo>
                  <a:lnTo>
                    <a:pt x="1111" y="555"/>
                  </a:lnTo>
                  <a:lnTo>
                    <a:pt x="1093" y="564"/>
                  </a:lnTo>
                  <a:lnTo>
                    <a:pt x="1076" y="571"/>
                  </a:lnTo>
                  <a:lnTo>
                    <a:pt x="1046" y="577"/>
                  </a:lnTo>
                  <a:lnTo>
                    <a:pt x="1020" y="580"/>
                  </a:lnTo>
                  <a:lnTo>
                    <a:pt x="1005" y="577"/>
                  </a:lnTo>
                  <a:lnTo>
                    <a:pt x="994" y="574"/>
                  </a:lnTo>
                  <a:lnTo>
                    <a:pt x="970" y="567"/>
                  </a:lnTo>
                  <a:lnTo>
                    <a:pt x="950" y="555"/>
                  </a:lnTo>
                  <a:lnTo>
                    <a:pt x="938" y="543"/>
                  </a:lnTo>
                  <a:lnTo>
                    <a:pt x="929" y="543"/>
                  </a:lnTo>
                  <a:lnTo>
                    <a:pt x="912" y="567"/>
                  </a:lnTo>
                  <a:lnTo>
                    <a:pt x="897" y="599"/>
                  </a:lnTo>
                  <a:lnTo>
                    <a:pt x="894" y="614"/>
                  </a:lnTo>
                  <a:lnTo>
                    <a:pt x="886" y="630"/>
                  </a:lnTo>
                  <a:lnTo>
                    <a:pt x="862" y="655"/>
                  </a:lnTo>
                  <a:lnTo>
                    <a:pt x="836" y="677"/>
                  </a:lnTo>
                  <a:lnTo>
                    <a:pt x="824" y="689"/>
                  </a:lnTo>
                  <a:lnTo>
                    <a:pt x="813" y="698"/>
                  </a:lnTo>
                  <a:lnTo>
                    <a:pt x="795" y="717"/>
                  </a:lnTo>
                  <a:lnTo>
                    <a:pt x="778" y="733"/>
                  </a:lnTo>
                  <a:lnTo>
                    <a:pt x="763" y="739"/>
                  </a:lnTo>
                  <a:lnTo>
                    <a:pt x="751" y="751"/>
                  </a:lnTo>
                  <a:lnTo>
                    <a:pt x="740" y="789"/>
                  </a:lnTo>
                  <a:lnTo>
                    <a:pt x="731" y="820"/>
                  </a:lnTo>
                  <a:lnTo>
                    <a:pt x="725" y="826"/>
                  </a:lnTo>
                  <a:lnTo>
                    <a:pt x="722" y="836"/>
                  </a:lnTo>
                  <a:lnTo>
                    <a:pt x="725" y="876"/>
                  </a:lnTo>
                  <a:lnTo>
                    <a:pt x="728" y="926"/>
                  </a:lnTo>
                  <a:lnTo>
                    <a:pt x="731" y="948"/>
                  </a:lnTo>
                  <a:lnTo>
                    <a:pt x="731" y="967"/>
                  </a:lnTo>
                  <a:lnTo>
                    <a:pt x="734" y="1001"/>
                  </a:lnTo>
                  <a:lnTo>
                    <a:pt x="737" y="1041"/>
                  </a:lnTo>
                  <a:lnTo>
                    <a:pt x="742" y="1070"/>
                  </a:lnTo>
                  <a:lnTo>
                    <a:pt x="754" y="1079"/>
                  </a:lnTo>
                  <a:lnTo>
                    <a:pt x="772" y="1063"/>
                  </a:lnTo>
                  <a:lnTo>
                    <a:pt x="786" y="1041"/>
                  </a:lnTo>
                  <a:lnTo>
                    <a:pt x="792" y="1029"/>
                  </a:lnTo>
                  <a:lnTo>
                    <a:pt x="798" y="1010"/>
                  </a:lnTo>
                  <a:lnTo>
                    <a:pt x="813" y="985"/>
                  </a:lnTo>
                  <a:lnTo>
                    <a:pt x="836" y="954"/>
                  </a:lnTo>
                  <a:lnTo>
                    <a:pt x="856" y="929"/>
                  </a:lnTo>
                  <a:lnTo>
                    <a:pt x="874" y="907"/>
                  </a:lnTo>
                  <a:lnTo>
                    <a:pt x="889" y="886"/>
                  </a:lnTo>
                  <a:lnTo>
                    <a:pt x="897" y="870"/>
                  </a:lnTo>
                  <a:lnTo>
                    <a:pt x="906" y="857"/>
                  </a:lnTo>
                  <a:lnTo>
                    <a:pt x="915" y="845"/>
                  </a:lnTo>
                  <a:lnTo>
                    <a:pt x="938" y="823"/>
                  </a:lnTo>
                  <a:lnTo>
                    <a:pt x="965" y="801"/>
                  </a:lnTo>
                  <a:lnTo>
                    <a:pt x="982" y="780"/>
                  </a:lnTo>
                  <a:lnTo>
                    <a:pt x="997" y="764"/>
                  </a:lnTo>
                  <a:lnTo>
                    <a:pt x="1014" y="745"/>
                  </a:lnTo>
                  <a:lnTo>
                    <a:pt x="1032" y="730"/>
                  </a:lnTo>
                  <a:lnTo>
                    <a:pt x="1046" y="720"/>
                  </a:lnTo>
                  <a:lnTo>
                    <a:pt x="1061" y="711"/>
                  </a:lnTo>
                  <a:lnTo>
                    <a:pt x="1078" y="695"/>
                  </a:lnTo>
                  <a:lnTo>
                    <a:pt x="1096" y="677"/>
                  </a:lnTo>
                  <a:lnTo>
                    <a:pt x="1111" y="664"/>
                  </a:lnTo>
                  <a:lnTo>
                    <a:pt x="1128" y="652"/>
                  </a:lnTo>
                  <a:lnTo>
                    <a:pt x="1152" y="633"/>
                  </a:lnTo>
                  <a:lnTo>
                    <a:pt x="1175" y="611"/>
                  </a:lnTo>
                  <a:lnTo>
                    <a:pt x="1195" y="586"/>
                  </a:lnTo>
                  <a:lnTo>
                    <a:pt x="1216" y="558"/>
                  </a:lnTo>
                  <a:lnTo>
                    <a:pt x="1230" y="530"/>
                  </a:lnTo>
                  <a:lnTo>
                    <a:pt x="1242" y="508"/>
                  </a:lnTo>
                  <a:lnTo>
                    <a:pt x="1260" y="496"/>
                  </a:lnTo>
                  <a:lnTo>
                    <a:pt x="1277" y="483"/>
                  </a:lnTo>
                  <a:lnTo>
                    <a:pt x="1298" y="468"/>
                  </a:lnTo>
                  <a:lnTo>
                    <a:pt x="1312" y="446"/>
                  </a:lnTo>
                  <a:lnTo>
                    <a:pt x="1324" y="421"/>
                  </a:lnTo>
                  <a:lnTo>
                    <a:pt x="1333" y="405"/>
                  </a:lnTo>
                  <a:lnTo>
                    <a:pt x="1339" y="415"/>
                  </a:lnTo>
                  <a:lnTo>
                    <a:pt x="1339" y="430"/>
                  </a:lnTo>
                  <a:lnTo>
                    <a:pt x="1333" y="443"/>
                  </a:lnTo>
                  <a:lnTo>
                    <a:pt x="1327" y="455"/>
                  </a:lnTo>
                  <a:lnTo>
                    <a:pt x="1321" y="465"/>
                  </a:lnTo>
                  <a:lnTo>
                    <a:pt x="1298" y="483"/>
                  </a:lnTo>
                  <a:lnTo>
                    <a:pt x="1283" y="496"/>
                  </a:lnTo>
                  <a:lnTo>
                    <a:pt x="1274" y="502"/>
                  </a:lnTo>
                  <a:lnTo>
                    <a:pt x="1271" y="505"/>
                  </a:lnTo>
                  <a:lnTo>
                    <a:pt x="1268" y="508"/>
                  </a:lnTo>
                  <a:lnTo>
                    <a:pt x="1263" y="518"/>
                  </a:lnTo>
                  <a:lnTo>
                    <a:pt x="1251" y="539"/>
                  </a:lnTo>
                  <a:lnTo>
                    <a:pt x="1230" y="567"/>
                  </a:lnTo>
                  <a:lnTo>
                    <a:pt x="1213" y="589"/>
                  </a:lnTo>
                  <a:lnTo>
                    <a:pt x="1204" y="602"/>
                  </a:lnTo>
                  <a:lnTo>
                    <a:pt x="1192" y="614"/>
                  </a:lnTo>
                  <a:lnTo>
                    <a:pt x="1172" y="636"/>
                  </a:lnTo>
                  <a:lnTo>
                    <a:pt x="1149" y="664"/>
                  </a:lnTo>
                  <a:lnTo>
                    <a:pt x="1134" y="680"/>
                  </a:lnTo>
                  <a:lnTo>
                    <a:pt x="1119" y="695"/>
                  </a:lnTo>
                  <a:lnTo>
                    <a:pt x="1096" y="717"/>
                  </a:lnTo>
                  <a:lnTo>
                    <a:pt x="1070" y="742"/>
                  </a:lnTo>
                  <a:lnTo>
                    <a:pt x="1052" y="758"/>
                  </a:lnTo>
                  <a:lnTo>
                    <a:pt x="1041" y="767"/>
                  </a:lnTo>
                  <a:lnTo>
                    <a:pt x="1038" y="770"/>
                  </a:lnTo>
                  <a:lnTo>
                    <a:pt x="1055" y="776"/>
                  </a:lnTo>
                  <a:lnTo>
                    <a:pt x="1067" y="780"/>
                  </a:lnTo>
                  <a:lnTo>
                    <a:pt x="1078" y="780"/>
                  </a:lnTo>
                  <a:lnTo>
                    <a:pt x="1105" y="770"/>
                  </a:lnTo>
                  <a:lnTo>
                    <a:pt x="1134" y="764"/>
                  </a:lnTo>
                  <a:lnTo>
                    <a:pt x="1152" y="761"/>
                  </a:lnTo>
                  <a:lnTo>
                    <a:pt x="1166" y="755"/>
                  </a:lnTo>
                  <a:lnTo>
                    <a:pt x="1187" y="736"/>
                  </a:lnTo>
                  <a:lnTo>
                    <a:pt x="1207" y="714"/>
                  </a:lnTo>
                  <a:lnTo>
                    <a:pt x="1222" y="698"/>
                  </a:lnTo>
                  <a:lnTo>
                    <a:pt x="1233" y="689"/>
                  </a:lnTo>
                  <a:lnTo>
                    <a:pt x="1254" y="674"/>
                  </a:lnTo>
                  <a:lnTo>
                    <a:pt x="1242" y="689"/>
                  </a:lnTo>
                  <a:lnTo>
                    <a:pt x="1236" y="698"/>
                  </a:lnTo>
                  <a:lnTo>
                    <a:pt x="1225" y="714"/>
                  </a:lnTo>
                  <a:lnTo>
                    <a:pt x="1204" y="736"/>
                  </a:lnTo>
                  <a:lnTo>
                    <a:pt x="1178" y="758"/>
                  </a:lnTo>
                  <a:lnTo>
                    <a:pt x="1160" y="770"/>
                  </a:lnTo>
                  <a:lnTo>
                    <a:pt x="1149" y="776"/>
                  </a:lnTo>
                  <a:lnTo>
                    <a:pt x="1146" y="780"/>
                  </a:lnTo>
                  <a:lnTo>
                    <a:pt x="1163" y="783"/>
                  </a:lnTo>
                  <a:lnTo>
                    <a:pt x="1181" y="789"/>
                  </a:lnTo>
                  <a:lnTo>
                    <a:pt x="1198" y="795"/>
                  </a:lnTo>
                  <a:lnTo>
                    <a:pt x="1210" y="801"/>
                  </a:lnTo>
                  <a:lnTo>
                    <a:pt x="1222" y="808"/>
                  </a:lnTo>
                  <a:lnTo>
                    <a:pt x="1230" y="814"/>
                  </a:lnTo>
                  <a:lnTo>
                    <a:pt x="1236" y="817"/>
                  </a:lnTo>
                  <a:lnTo>
                    <a:pt x="1239" y="817"/>
                  </a:lnTo>
                  <a:lnTo>
                    <a:pt x="1219" y="820"/>
                  </a:lnTo>
                  <a:lnTo>
                    <a:pt x="1201" y="820"/>
                  </a:lnTo>
                  <a:lnTo>
                    <a:pt x="1187" y="817"/>
                  </a:lnTo>
                  <a:lnTo>
                    <a:pt x="1181" y="817"/>
                  </a:lnTo>
                  <a:lnTo>
                    <a:pt x="1178" y="814"/>
                  </a:lnTo>
                  <a:lnTo>
                    <a:pt x="1172" y="808"/>
                  </a:lnTo>
                  <a:lnTo>
                    <a:pt x="1157" y="804"/>
                  </a:lnTo>
                  <a:lnTo>
                    <a:pt x="1131" y="808"/>
                  </a:lnTo>
                  <a:lnTo>
                    <a:pt x="1116" y="811"/>
                  </a:lnTo>
                  <a:lnTo>
                    <a:pt x="1105" y="811"/>
                  </a:lnTo>
                  <a:lnTo>
                    <a:pt x="1093" y="811"/>
                  </a:lnTo>
                  <a:lnTo>
                    <a:pt x="1081" y="808"/>
                  </a:lnTo>
                  <a:lnTo>
                    <a:pt x="1073" y="808"/>
                  </a:lnTo>
                  <a:lnTo>
                    <a:pt x="1061" y="808"/>
                  </a:lnTo>
                  <a:lnTo>
                    <a:pt x="1046" y="811"/>
                  </a:lnTo>
                  <a:lnTo>
                    <a:pt x="1029" y="817"/>
                  </a:lnTo>
                  <a:lnTo>
                    <a:pt x="1003" y="826"/>
                  </a:lnTo>
                  <a:lnTo>
                    <a:pt x="988" y="836"/>
                  </a:lnTo>
                  <a:lnTo>
                    <a:pt x="976" y="848"/>
                  </a:lnTo>
                  <a:lnTo>
                    <a:pt x="956" y="870"/>
                  </a:lnTo>
                  <a:lnTo>
                    <a:pt x="941" y="882"/>
                  </a:lnTo>
                  <a:lnTo>
                    <a:pt x="924" y="898"/>
                  </a:lnTo>
                  <a:lnTo>
                    <a:pt x="912" y="914"/>
                  </a:lnTo>
                  <a:lnTo>
                    <a:pt x="897" y="932"/>
                  </a:lnTo>
                  <a:lnTo>
                    <a:pt x="886" y="948"/>
                  </a:lnTo>
                  <a:lnTo>
                    <a:pt x="874" y="967"/>
                  </a:lnTo>
                  <a:lnTo>
                    <a:pt x="862" y="985"/>
                  </a:lnTo>
                  <a:lnTo>
                    <a:pt x="853" y="1001"/>
                  </a:lnTo>
                  <a:lnTo>
                    <a:pt x="833" y="1029"/>
                  </a:lnTo>
                  <a:lnTo>
                    <a:pt x="813" y="1054"/>
                  </a:lnTo>
                  <a:lnTo>
                    <a:pt x="792" y="1085"/>
                  </a:lnTo>
                  <a:lnTo>
                    <a:pt x="780" y="1126"/>
                  </a:lnTo>
                  <a:lnTo>
                    <a:pt x="775" y="1163"/>
                  </a:lnTo>
                  <a:lnTo>
                    <a:pt x="772" y="1182"/>
                  </a:lnTo>
                  <a:lnTo>
                    <a:pt x="769" y="1213"/>
                  </a:lnTo>
                  <a:lnTo>
                    <a:pt x="766" y="1278"/>
                  </a:lnTo>
                  <a:lnTo>
                    <a:pt x="757" y="1353"/>
                  </a:lnTo>
                  <a:lnTo>
                    <a:pt x="751" y="1406"/>
                  </a:lnTo>
                  <a:lnTo>
                    <a:pt x="751" y="1450"/>
                  </a:lnTo>
                  <a:lnTo>
                    <a:pt x="757" y="1497"/>
                  </a:lnTo>
                  <a:lnTo>
                    <a:pt x="769" y="1522"/>
                  </a:lnTo>
                  <a:lnTo>
                    <a:pt x="786" y="1544"/>
                  </a:lnTo>
                  <a:lnTo>
                    <a:pt x="813" y="1565"/>
                  </a:lnTo>
                  <a:lnTo>
                    <a:pt x="842" y="1581"/>
                  </a:lnTo>
                  <a:lnTo>
                    <a:pt x="874" y="1600"/>
                  </a:lnTo>
                  <a:lnTo>
                    <a:pt x="903" y="1615"/>
                  </a:lnTo>
                  <a:lnTo>
                    <a:pt x="935" y="1634"/>
                  </a:lnTo>
                  <a:lnTo>
                    <a:pt x="962" y="1650"/>
                  </a:lnTo>
                  <a:lnTo>
                    <a:pt x="912" y="1646"/>
                  </a:lnTo>
                  <a:lnTo>
                    <a:pt x="862" y="1646"/>
                  </a:lnTo>
                  <a:lnTo>
                    <a:pt x="810" y="1646"/>
                  </a:lnTo>
                  <a:lnTo>
                    <a:pt x="760" y="1646"/>
                  </a:lnTo>
                  <a:lnTo>
                    <a:pt x="713" y="1646"/>
                  </a:lnTo>
                  <a:lnTo>
                    <a:pt x="666" y="1650"/>
                  </a:lnTo>
                  <a:lnTo>
                    <a:pt x="623" y="1650"/>
                  </a:lnTo>
                  <a:lnTo>
                    <a:pt x="582" y="1650"/>
                  </a:lnTo>
                  <a:lnTo>
                    <a:pt x="541" y="1650"/>
                  </a:lnTo>
                  <a:lnTo>
                    <a:pt x="500" y="1650"/>
                  </a:lnTo>
                  <a:lnTo>
                    <a:pt x="462" y="1646"/>
                  </a:lnTo>
                  <a:lnTo>
                    <a:pt x="421" y="1646"/>
                  </a:lnTo>
                  <a:lnTo>
                    <a:pt x="383" y="1646"/>
                  </a:lnTo>
                  <a:lnTo>
                    <a:pt x="345" y="1646"/>
                  </a:lnTo>
                  <a:lnTo>
                    <a:pt x="310" y="1646"/>
                  </a:lnTo>
                  <a:lnTo>
                    <a:pt x="275" y="165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7058880" y="2297160"/>
              <a:ext cx="84240" cy="326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2" h="206">
                  <a:moveTo>
                    <a:pt x="47" y="0"/>
                  </a:moveTo>
                  <a:lnTo>
                    <a:pt x="15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921000" y="2112840"/>
              <a:ext cx="120240" cy="282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10"/>
                  </a:lnTo>
                  <a:lnTo>
                    <a:pt x="73" y="25"/>
                  </a:lnTo>
                  <a:lnTo>
                    <a:pt x="49" y="47"/>
                  </a:lnTo>
                  <a:lnTo>
                    <a:pt x="32" y="69"/>
                  </a:lnTo>
                  <a:lnTo>
                    <a:pt x="14" y="94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6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8" y="82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7928280" y="1643040"/>
              <a:ext cx="195480" cy="158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0" h="100">
                  <a:moveTo>
                    <a:pt x="0" y="81"/>
                  </a:moveTo>
                  <a:lnTo>
                    <a:pt x="14" y="59"/>
                  </a:lnTo>
                  <a:lnTo>
                    <a:pt x="35" y="38"/>
                  </a:lnTo>
                  <a:lnTo>
                    <a:pt x="55" y="22"/>
                  </a:lnTo>
                  <a:lnTo>
                    <a:pt x="81" y="10"/>
                  </a:lnTo>
                  <a:lnTo>
                    <a:pt x="108" y="0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1"/>
                  </a:lnTo>
                  <a:lnTo>
                    <a:pt x="99" y="97"/>
                  </a:lnTo>
                  <a:lnTo>
                    <a:pt x="70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7025760" y="687240"/>
              <a:ext cx="78120" cy="352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76" h="222">
                  <a:moveTo>
                    <a:pt x="12" y="222"/>
                  </a:moveTo>
                  <a:lnTo>
                    <a:pt x="0" y="156"/>
                  </a:lnTo>
                  <a:lnTo>
                    <a:pt x="3" y="94"/>
                  </a:lnTo>
                  <a:lnTo>
                    <a:pt x="20" y="38"/>
                  </a:lnTo>
                  <a:lnTo>
                    <a:pt x="61" y="0"/>
                  </a:lnTo>
                  <a:lnTo>
                    <a:pt x="76" y="85"/>
                  </a:lnTo>
                  <a:lnTo>
                    <a:pt x="73" y="147"/>
                  </a:lnTo>
                  <a:lnTo>
                    <a:pt x="53" y="194"/>
                  </a:lnTo>
                  <a:lnTo>
                    <a:pt x="12" y="222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6921000" y="1500120"/>
              <a:ext cx="84240" cy="320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2" h="202">
                  <a:moveTo>
                    <a:pt x="46" y="0"/>
                  </a:moveTo>
                  <a:lnTo>
                    <a:pt x="14" y="47"/>
                  </a:lnTo>
                  <a:lnTo>
                    <a:pt x="0" y="96"/>
                  </a:lnTo>
                  <a:lnTo>
                    <a:pt x="3" y="153"/>
                  </a:lnTo>
                  <a:lnTo>
                    <a:pt x="38" y="202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7290360" y="209376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1" y="9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5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5"/>
                  </a:lnTo>
                  <a:lnTo>
                    <a:pt x="53" y="147"/>
                  </a:lnTo>
                  <a:lnTo>
                    <a:pt x="73" y="128"/>
                  </a:lnTo>
                  <a:lnTo>
                    <a:pt x="91" y="103"/>
                  </a:lnTo>
                  <a:lnTo>
                    <a:pt x="102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7798680" y="1014120"/>
              <a:ext cx="195480" cy="1638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2" y="10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1" y="59"/>
                  </a:lnTo>
                  <a:lnTo>
                    <a:pt x="143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7236720" y="1266840"/>
              <a:ext cx="192240" cy="1537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7" h="97">
                  <a:moveTo>
                    <a:pt x="187" y="94"/>
                  </a:moveTo>
                  <a:lnTo>
                    <a:pt x="163" y="97"/>
                  </a:lnTo>
                  <a:lnTo>
                    <a:pt x="140" y="97"/>
                  </a:lnTo>
                  <a:lnTo>
                    <a:pt x="111" y="94"/>
                  </a:lnTo>
                  <a:lnTo>
                    <a:pt x="84" y="84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1"/>
                  </a:lnTo>
                  <a:lnTo>
                    <a:pt x="29" y="16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134" y="10"/>
                  </a:lnTo>
                  <a:lnTo>
                    <a:pt x="154" y="28"/>
                  </a:lnTo>
                  <a:lnTo>
                    <a:pt x="172" y="56"/>
                  </a:lnTo>
                  <a:lnTo>
                    <a:pt x="187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7729560" y="123192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69" y="97"/>
                  </a:lnTo>
                  <a:lnTo>
                    <a:pt x="143" y="97"/>
                  </a:lnTo>
                  <a:lnTo>
                    <a:pt x="114" y="94"/>
                  </a:lnTo>
                  <a:lnTo>
                    <a:pt x="87" y="85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2"/>
                  </a:lnTo>
                  <a:lnTo>
                    <a:pt x="29" y="16"/>
                  </a:lnTo>
                  <a:lnTo>
                    <a:pt x="58" y="7"/>
                  </a:lnTo>
                  <a:lnTo>
                    <a:pt x="87" y="0"/>
                  </a:lnTo>
                  <a:lnTo>
                    <a:pt x="114" y="0"/>
                  </a:lnTo>
                  <a:lnTo>
                    <a:pt x="137" y="10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736680" y="1939680"/>
              <a:ext cx="198360" cy="158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3" h="100">
                  <a:moveTo>
                    <a:pt x="0" y="81"/>
                  </a:moveTo>
                  <a:lnTo>
                    <a:pt x="15" y="60"/>
                  </a:lnTo>
                  <a:lnTo>
                    <a:pt x="36" y="38"/>
                  </a:lnTo>
                  <a:lnTo>
                    <a:pt x="59" y="22"/>
                  </a:lnTo>
                  <a:lnTo>
                    <a:pt x="85" y="10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9" y="38"/>
                  </a:lnTo>
                  <a:lnTo>
                    <a:pt x="164" y="60"/>
                  </a:lnTo>
                  <a:lnTo>
                    <a:pt x="147" y="78"/>
                  </a:lnTo>
                  <a:lnTo>
                    <a:pt x="123" y="91"/>
                  </a:lnTo>
                  <a:lnTo>
                    <a:pt x="100" y="97"/>
                  </a:lnTo>
                  <a:lnTo>
                    <a:pt x="71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7822080" y="1944720"/>
              <a:ext cx="198360" cy="1443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3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6" y="10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022880" y="1673280"/>
              <a:ext cx="120240" cy="2872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17" h="181">
                  <a:moveTo>
                    <a:pt x="114" y="0"/>
                  </a:moveTo>
                  <a:lnTo>
                    <a:pt x="94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72"/>
                  </a:lnTo>
                  <a:lnTo>
                    <a:pt x="15" y="97"/>
                  </a:lnTo>
                  <a:lnTo>
                    <a:pt x="6" y="125"/>
                  </a:lnTo>
                  <a:lnTo>
                    <a:pt x="0" y="153"/>
                  </a:lnTo>
                  <a:lnTo>
                    <a:pt x="6" y="181"/>
                  </a:lnTo>
                  <a:lnTo>
                    <a:pt x="32" y="168"/>
                  </a:lnTo>
                  <a:lnTo>
                    <a:pt x="59" y="150"/>
                  </a:lnTo>
                  <a:lnTo>
                    <a:pt x="79" y="131"/>
                  </a:lnTo>
                  <a:lnTo>
                    <a:pt x="97" y="106"/>
                  </a:lnTo>
                  <a:lnTo>
                    <a:pt x="108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169760" y="658800"/>
              <a:ext cx="84240" cy="325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2" h="205">
                  <a:moveTo>
                    <a:pt x="47" y="0"/>
                  </a:moveTo>
                  <a:lnTo>
                    <a:pt x="15" y="46"/>
                  </a:lnTo>
                  <a:lnTo>
                    <a:pt x="0" y="99"/>
                  </a:lnTo>
                  <a:lnTo>
                    <a:pt x="3" y="156"/>
                  </a:lnTo>
                  <a:lnTo>
                    <a:pt x="38" y="205"/>
                  </a:lnTo>
                  <a:lnTo>
                    <a:pt x="70" y="162"/>
                  </a:lnTo>
                  <a:lnTo>
                    <a:pt x="82" y="109"/>
                  </a:lnTo>
                  <a:lnTo>
                    <a:pt x="76" y="5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7417080" y="1563480"/>
              <a:ext cx="117000" cy="2826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0" y="10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4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6"/>
                  </a:lnTo>
                  <a:lnTo>
                    <a:pt x="55" y="147"/>
                  </a:lnTo>
                  <a:lnTo>
                    <a:pt x="76" y="128"/>
                  </a:lnTo>
                  <a:lnTo>
                    <a:pt x="93" y="103"/>
                  </a:lnTo>
                  <a:lnTo>
                    <a:pt x="105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7498080" y="133164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2"/>
                  </a:lnTo>
                  <a:lnTo>
                    <a:pt x="35" y="40"/>
                  </a:lnTo>
                  <a:lnTo>
                    <a:pt x="58" y="25"/>
                  </a:lnTo>
                  <a:lnTo>
                    <a:pt x="85" y="9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2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166880" y="1598400"/>
              <a:ext cx="195480" cy="154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90" h="97">
                  <a:moveTo>
                    <a:pt x="190" y="94"/>
                  </a:moveTo>
                  <a:lnTo>
                    <a:pt x="167" y="97"/>
                  </a:lnTo>
                  <a:lnTo>
                    <a:pt x="141" y="97"/>
                  </a:lnTo>
                  <a:lnTo>
                    <a:pt x="114" y="94"/>
                  </a:lnTo>
                  <a:lnTo>
                    <a:pt x="85" y="84"/>
                  </a:lnTo>
                  <a:lnTo>
                    <a:pt x="59" y="75"/>
                  </a:lnTo>
                  <a:lnTo>
                    <a:pt x="35" y="62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0" y="16"/>
                  </a:lnTo>
                  <a:lnTo>
                    <a:pt x="59" y="6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58" y="28"/>
                  </a:lnTo>
                  <a:lnTo>
                    <a:pt x="176" y="56"/>
                  </a:lnTo>
                  <a:lnTo>
                    <a:pt x="190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48480" y="101916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70" y="97"/>
                  </a:lnTo>
                  <a:lnTo>
                    <a:pt x="144" y="97"/>
                  </a:lnTo>
                  <a:lnTo>
                    <a:pt x="114" y="94"/>
                  </a:lnTo>
                  <a:lnTo>
                    <a:pt x="88" y="84"/>
                  </a:lnTo>
                  <a:lnTo>
                    <a:pt x="59" y="75"/>
                  </a:lnTo>
                  <a:lnTo>
                    <a:pt x="36" y="63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3" y="16"/>
                  </a:lnTo>
                  <a:lnTo>
                    <a:pt x="62" y="7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61" y="28"/>
                  </a:lnTo>
                  <a:lnTo>
                    <a:pt x="179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660800" y="1469880"/>
              <a:ext cx="197280" cy="1634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2" h="103">
                  <a:moveTo>
                    <a:pt x="0" y="84"/>
                  </a:moveTo>
                  <a:lnTo>
                    <a:pt x="14" y="62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2" y="13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2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6667560" y="1400040"/>
              <a:ext cx="123480" cy="263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20" h="166">
                  <a:moveTo>
                    <a:pt x="0" y="0"/>
                  </a:moveTo>
                  <a:lnTo>
                    <a:pt x="0" y="28"/>
                  </a:lnTo>
                  <a:lnTo>
                    <a:pt x="3" y="60"/>
                  </a:lnTo>
                  <a:lnTo>
                    <a:pt x="12" y="85"/>
                  </a:lnTo>
                  <a:lnTo>
                    <a:pt x="24" y="110"/>
                  </a:lnTo>
                  <a:lnTo>
                    <a:pt x="41" y="131"/>
                  </a:lnTo>
                  <a:lnTo>
                    <a:pt x="62" y="150"/>
                  </a:lnTo>
                  <a:lnTo>
                    <a:pt x="88" y="159"/>
                  </a:lnTo>
                  <a:lnTo>
                    <a:pt x="117" y="166"/>
                  </a:lnTo>
                  <a:lnTo>
                    <a:pt x="120" y="138"/>
                  </a:lnTo>
                  <a:lnTo>
                    <a:pt x="117" y="110"/>
                  </a:lnTo>
                  <a:lnTo>
                    <a:pt x="108" y="85"/>
                  </a:lnTo>
                  <a:lnTo>
                    <a:pt x="94" y="60"/>
                  </a:lnTo>
                  <a:lnTo>
                    <a:pt x="76" y="41"/>
                  </a:lnTo>
                  <a:lnTo>
                    <a:pt x="56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6809760" y="1336680"/>
              <a:ext cx="83160" cy="3268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1" h="206">
                  <a:moveTo>
                    <a:pt x="46" y="0"/>
                  </a:moveTo>
                  <a:lnTo>
                    <a:pt x="14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62"/>
                  </a:lnTo>
                  <a:lnTo>
                    <a:pt x="81" y="109"/>
                  </a:lnTo>
                  <a:lnTo>
                    <a:pt x="76" y="5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7801560" y="1549440"/>
              <a:ext cx="120240" cy="282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69"/>
                  </a:lnTo>
                  <a:lnTo>
                    <a:pt x="15" y="93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5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5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6728760" y="214776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3" y="60"/>
                  </a:lnTo>
                  <a:lnTo>
                    <a:pt x="146" y="78"/>
                  </a:lnTo>
                  <a:lnTo>
                    <a:pt x="122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7479720" y="782640"/>
              <a:ext cx="198360" cy="15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93" h="99">
                  <a:moveTo>
                    <a:pt x="0" y="81"/>
                  </a:moveTo>
                  <a:lnTo>
                    <a:pt x="15" y="59"/>
                  </a:lnTo>
                  <a:lnTo>
                    <a:pt x="35" y="37"/>
                  </a:lnTo>
                  <a:lnTo>
                    <a:pt x="59" y="21"/>
                  </a:lnTo>
                  <a:lnTo>
                    <a:pt x="85" y="9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2"/>
                  </a:lnTo>
                  <a:lnTo>
                    <a:pt x="179" y="37"/>
                  </a:lnTo>
                  <a:lnTo>
                    <a:pt x="164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100" y="96"/>
                  </a:lnTo>
                  <a:lnTo>
                    <a:pt x="70" y="99"/>
                  </a:lnTo>
                  <a:lnTo>
                    <a:pt x="38" y="9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6719400" y="1119240"/>
              <a:ext cx="198360" cy="152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3" h="96">
                  <a:moveTo>
                    <a:pt x="193" y="93"/>
                  </a:moveTo>
                  <a:lnTo>
                    <a:pt x="169" y="96"/>
                  </a:lnTo>
                  <a:lnTo>
                    <a:pt x="143" y="96"/>
                  </a:lnTo>
                  <a:lnTo>
                    <a:pt x="114" y="93"/>
                  </a:lnTo>
                  <a:lnTo>
                    <a:pt x="88" y="84"/>
                  </a:lnTo>
                  <a:lnTo>
                    <a:pt x="61" y="74"/>
                  </a:lnTo>
                  <a:lnTo>
                    <a:pt x="38" y="62"/>
                  </a:lnTo>
                  <a:lnTo>
                    <a:pt x="15" y="46"/>
                  </a:lnTo>
                  <a:lnTo>
                    <a:pt x="0" y="31"/>
                  </a:lnTo>
                  <a:lnTo>
                    <a:pt x="32" y="15"/>
                  </a:lnTo>
                  <a:lnTo>
                    <a:pt x="61" y="6"/>
                  </a:lnTo>
                  <a:lnTo>
                    <a:pt x="91" y="0"/>
                  </a:lnTo>
                  <a:lnTo>
                    <a:pt x="117" y="3"/>
                  </a:lnTo>
                  <a:lnTo>
                    <a:pt x="140" y="12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7354080" y="1950840"/>
              <a:ext cx="194040" cy="152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9" h="96">
                  <a:moveTo>
                    <a:pt x="189" y="93"/>
                  </a:moveTo>
                  <a:lnTo>
                    <a:pt x="166" y="96"/>
                  </a:lnTo>
                  <a:lnTo>
                    <a:pt x="140" y="96"/>
                  </a:lnTo>
                  <a:lnTo>
                    <a:pt x="113" y="93"/>
                  </a:lnTo>
                  <a:lnTo>
                    <a:pt x="84" y="84"/>
                  </a:lnTo>
                  <a:lnTo>
                    <a:pt x="58" y="74"/>
                  </a:lnTo>
                  <a:lnTo>
                    <a:pt x="35" y="62"/>
                  </a:lnTo>
                  <a:lnTo>
                    <a:pt x="14" y="46"/>
                  </a:lnTo>
                  <a:lnTo>
                    <a:pt x="0" y="31"/>
                  </a:lnTo>
                  <a:lnTo>
                    <a:pt x="29" y="15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3" y="3"/>
                  </a:lnTo>
                  <a:lnTo>
                    <a:pt x="137" y="12"/>
                  </a:lnTo>
                  <a:lnTo>
                    <a:pt x="157" y="28"/>
                  </a:lnTo>
                  <a:lnTo>
                    <a:pt x="175" y="56"/>
                  </a:lnTo>
                  <a:lnTo>
                    <a:pt x="189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7952040" y="131580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5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5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4" y="60"/>
                  </a:lnTo>
                  <a:lnTo>
                    <a:pt x="146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7618680" y="2054160"/>
              <a:ext cx="122400" cy="257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9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19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6"/>
                  </a:lnTo>
                  <a:lnTo>
                    <a:pt x="76" y="37"/>
                  </a:lnTo>
                  <a:lnTo>
                    <a:pt x="55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7789320" y="2157120"/>
              <a:ext cx="198360" cy="144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4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3" y="7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7347960" y="995400"/>
              <a:ext cx="120240" cy="257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7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38" y="128"/>
                  </a:lnTo>
                  <a:lnTo>
                    <a:pt x="58" y="146"/>
                  </a:lnTo>
                  <a:lnTo>
                    <a:pt x="84" y="156"/>
                  </a:lnTo>
                  <a:lnTo>
                    <a:pt x="114" y="162"/>
                  </a:lnTo>
                  <a:lnTo>
                    <a:pt x="117" y="134"/>
                  </a:lnTo>
                  <a:lnTo>
                    <a:pt x="111" y="106"/>
                  </a:lnTo>
                  <a:lnTo>
                    <a:pt x="102" y="81"/>
                  </a:lnTo>
                  <a:lnTo>
                    <a:pt x="90" y="56"/>
                  </a:lnTo>
                  <a:lnTo>
                    <a:pt x="73" y="37"/>
                  </a:lnTo>
                  <a:lnTo>
                    <a:pt x="52" y="22"/>
                  </a:lnTo>
                  <a:lnTo>
                    <a:pt x="2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556680" y="1663560"/>
              <a:ext cx="198360" cy="1429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93" h="90">
                  <a:moveTo>
                    <a:pt x="193" y="53"/>
                  </a:moveTo>
                  <a:lnTo>
                    <a:pt x="173" y="34"/>
                  </a:lnTo>
                  <a:lnTo>
                    <a:pt x="149" y="18"/>
                  </a:lnTo>
                  <a:lnTo>
                    <a:pt x="126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4" y="21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1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7019640" y="124776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31"/>
                  </a:lnTo>
                  <a:lnTo>
                    <a:pt x="62" y="146"/>
                  </a:lnTo>
                  <a:lnTo>
                    <a:pt x="88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4" y="59"/>
                  </a:lnTo>
                  <a:lnTo>
                    <a:pt x="76" y="40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7446960" y="2297160"/>
              <a:ext cx="195120" cy="142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0" h="90">
                  <a:moveTo>
                    <a:pt x="190" y="53"/>
                  </a:moveTo>
                  <a:lnTo>
                    <a:pt x="170" y="34"/>
                  </a:lnTo>
                  <a:lnTo>
                    <a:pt x="146" y="19"/>
                  </a:lnTo>
                  <a:lnTo>
                    <a:pt x="123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22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2"/>
                  </a:lnTo>
                  <a:lnTo>
                    <a:pt x="190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7338600" y="637920"/>
              <a:ext cx="120240" cy="2620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17" h="165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50"/>
                  </a:lnTo>
                  <a:lnTo>
                    <a:pt x="85" y="159"/>
                  </a:lnTo>
                  <a:lnTo>
                    <a:pt x="114" y="165"/>
                  </a:lnTo>
                  <a:lnTo>
                    <a:pt x="117" y="137"/>
                  </a:lnTo>
                  <a:lnTo>
                    <a:pt x="111" y="109"/>
                  </a:lnTo>
                  <a:lnTo>
                    <a:pt x="105" y="84"/>
                  </a:lnTo>
                  <a:lnTo>
                    <a:pt x="90" y="59"/>
                  </a:lnTo>
                  <a:lnTo>
                    <a:pt x="73" y="41"/>
                  </a:lnTo>
                  <a:lnTo>
                    <a:pt x="53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39640" y="89532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5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3" y="56"/>
                  </a:lnTo>
                  <a:lnTo>
                    <a:pt x="76" y="38"/>
                  </a:lnTo>
                  <a:lnTo>
                    <a:pt x="55" y="22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6598800" y="1226880"/>
              <a:ext cx="198360" cy="139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3" h="88">
                  <a:moveTo>
                    <a:pt x="193" y="50"/>
                  </a:moveTo>
                  <a:lnTo>
                    <a:pt x="172" y="31"/>
                  </a:lnTo>
                  <a:lnTo>
                    <a:pt x="149" y="16"/>
                  </a:lnTo>
                  <a:lnTo>
                    <a:pt x="126" y="6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19"/>
                  </a:lnTo>
                  <a:lnTo>
                    <a:pt x="0" y="41"/>
                  </a:lnTo>
                  <a:lnTo>
                    <a:pt x="20" y="63"/>
                  </a:lnTo>
                  <a:lnTo>
                    <a:pt x="44" y="75"/>
                  </a:lnTo>
                  <a:lnTo>
                    <a:pt x="67" y="84"/>
                  </a:lnTo>
                  <a:lnTo>
                    <a:pt x="91" y="88"/>
                  </a:lnTo>
                  <a:lnTo>
                    <a:pt x="117" y="88"/>
                  </a:lnTo>
                  <a:lnTo>
                    <a:pt x="143" y="81"/>
                  </a:lnTo>
                  <a:lnTo>
                    <a:pt x="167" y="69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7548480" y="165888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7"/>
                  </a:lnTo>
                  <a:lnTo>
                    <a:pt x="62" y="146"/>
                  </a:lnTo>
                  <a:lnTo>
                    <a:pt x="88" y="155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6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1"/>
                  </a:lnTo>
                  <a:lnTo>
                    <a:pt x="3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7107120" y="103500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46"/>
                  </a:lnTo>
                  <a:lnTo>
                    <a:pt x="85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9"/>
                  </a:lnTo>
                  <a:lnTo>
                    <a:pt x="76" y="40"/>
                  </a:lnTo>
                  <a:lnTo>
                    <a:pt x="55" y="25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6575400" y="1850760"/>
              <a:ext cx="195120" cy="1638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1" y="13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4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6514560" y="137628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8"/>
                  </a:lnTo>
                  <a:lnTo>
                    <a:pt x="62" y="146"/>
                  </a:lnTo>
                  <a:lnTo>
                    <a:pt x="88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应符合下表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600200"/>
          <a:ext cx="8001000" cy="3708360"/>
        </p:xfrm>
        <a:graphic>
          <a:graphicData uri="http://schemas.openxmlformats.org/drawingml/2006/table">
            <a:tbl>
              <a:tblPr/>
              <a:tblGrid>
                <a:gridCol w="4903560"/>
                <a:gridCol w="1079640"/>
                <a:gridCol w="1009440"/>
                <a:gridCol w="1008360"/>
              </a:tblGrid>
              <a:tr h="46512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 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高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中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低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总养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N+P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+K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)     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溶性磷占有效磷百分率 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H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O)              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粒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1.00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~4.75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或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35~5.60mm)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氯离子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Cl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宋体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2" descr=""/>
          <p:cNvPicPr/>
          <p:nvPr/>
        </p:nvPicPr>
        <p:blipFill>
          <a:blip r:embed="rId1"/>
          <a:stretch/>
        </p:blipFill>
        <p:spPr>
          <a:xfrm>
            <a:off x="4572000" y="5181480"/>
            <a:ext cx="3886200" cy="13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3"/>
          <p:cNvGraphicFramePr/>
          <p:nvPr/>
        </p:nvGraphicFramePr>
        <p:xfrm>
          <a:off x="0" y="4572000"/>
          <a:ext cx="22273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0"/>
                    <a:ext cx="2227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WordArt 6"/>
          <p:cNvSpPr txBox="1"/>
          <p:nvPr/>
        </p:nvSpPr>
        <p:spPr>
          <a:xfrm>
            <a:off x="2209680" y="243828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9"/>
          <p:cNvSpPr/>
          <p:nvPr/>
        </p:nvSpPr>
        <p:spPr>
          <a:xfrm>
            <a:off x="457200" y="990720"/>
            <a:ext cx="830592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组成产品的单一养分含量不得低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且单一养分测定值与标明值负偏差的绝对值不得大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以钙镁磷肥等枸溶性磷肥为基础磷肥并在包装容器上注明为“枸溶性磷”，可不控制“水溶性磷占有效磷百分率”指标。若为氮、钾二元肥料，也不控制“水溶性磷占有效磷百分率”指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产品氯离子含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并在包装容器上标明“含氯”，可不检验该项目；包装容器未标明“含氯”时，必须检验氯离子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要求说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838080" y="1066680"/>
            <a:ext cx="763596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混肥料的总氮量一般用蒸馏滴定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因为不同的复混肥料其氮素形态不同，特别是混合肥料中的氮，往往有多种形态，有铵态氮、硝态氮、酰胺态氮、氰胺态氮和其它有机态氮等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除铵态氮外，其他形态的氮在蒸馏滴定前，都需要转化为铵态氮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当样品中含硝态氮时，需将硝态氮还原成铵态氮；</a:t>
            </a:r>
            <a:r>
              <a:rPr b="1" lang="zh-CN" sz="2400" spc="-1" strike="noStrike">
                <a:solidFill>
                  <a:srgbClr val="00ce00"/>
                </a:solidFill>
                <a:latin typeface="Times New Roman"/>
              </a:rPr>
              <a:t>当样品中不含硝态氮但含尿素或其他有机态氮，或成分未知但经检验不含硝态氮时，需将样品消化使其他形态的氮转化为铵态氮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当样品既含硝态氮又含其他形态的氮，或含有机氮且硝态氮检定有困难时，需先还原硝态氮再将样品进行消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47360" y="18432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复混肥料中总氮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6248520" y="4876920"/>
          <a:ext cx="2895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876920"/>
                    <a:ext cx="2895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1066680" y="1371600"/>
            <a:ext cx="701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酸性介质中用铬粉将硝态氮还原为铵态氮；在有触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存在下，用浓硫酸消煮，样品中的有机氮、尿素、氰胺态氮等转化为硫酸铵；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加碱蒸馏，一定量过量的标准酸吸收、在甲基红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亚甲基蓝混合指示剂存在下，用标准碱滴定，根据标准酸的用量计算样品的含氮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289880" y="47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2120" y="1143000"/>
            <a:ext cx="77724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供试肥料必须先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较湿的混合肥料可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称取总氮量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35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硝态氮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样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0.5-1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含硝态氮的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磨口圆底烧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不含硝态氮的放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三角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磷酸铵称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容量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硝酸磷肥称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5-1.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圆底烧瓶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称样均准确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69040" y="22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1143000"/>
            <a:ext cx="807696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仅含铵态氮的肥料，直接用蒸馏滴定法测定，不需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仅含硝态氮的肥料，加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5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其间缓缓转动几次，使硝态盐全部溶解。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2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铬粉，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7.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盐酸，在室温下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~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圆底烧瓶于通风橱内预先已调节至通过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~7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沸腾试验的加热装置上。加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800600" y="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2280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试样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11T23:48:07Z</dcterms:modified>
  <cp:revision>14</cp:revision>
  <dc:subject/>
  <dc:title>PowerPoint 演示文稿</dc:title>
</cp:coreProperties>
</file>